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8F23-7D9B-4DA9-8529-3A7C7D73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E82-A1F7-4FB9-93E4-832DFBC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B60-80F6-481E-9D42-CEB4E3FB5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604-E288-468F-9DE6-D5EA5A36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A7D3-D8E7-4916-B13D-AD1CCAF8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AC6-F076-4059-A731-319D0FB8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BAD-6DBD-43F6-B299-55BC50F7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C24-F314-4BCB-80AF-30EDA889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117-7639-41C4-B16C-D1A25B41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AD2-2DAA-4564-B6FF-5E2DFDCD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465-4651-4A6F-8C2E-CDC6AC2C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573E-9BEF-4240-9A1A-B5EB37B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4836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884EC34-8061-4F81-A8A1-7802053E62BC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9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wtloss$Day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*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wt.lm1, data.frame(Days = rg[1] + 1:3*del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del*log(2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Weight ~ I(2^(-Days/t0)), wtlo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 &lt;- 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1 &lt;- nls(Weight ~ b0+b1*2^(-Days/tau), wtloss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rt = init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46115 :   82.51384 101.67121 139.21188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85 :   81.39093 102.66630 141.87092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76 102.68416 141.9104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7D2-5952-4175-A8D2-0BA67C4D3F4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w 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50920" y="2421000"/>
          <a:ext cx="5329440" cy="411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421000"/>
                    <a:ext cx="5329440" cy="41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879480" y="1413000"/>
            <a:ext cx="50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 &lt;- data.frame(Days = 0:7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mp$Weight &lt;- predict(wt.nls1, t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tmp, type="l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46A-501C-495E-9B73-3C32B136BC4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menting it inside a fun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val &lt;- function(y, x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(b0 = ab[1], b1 = ab[2], tau =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ith(wtloss, ival(Weight, Days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b0       b1      tau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de-DE" sz="1800" spc="-1" strike="noStrike">
                <a:solidFill>
                  <a:srgbClr val="000099"/>
                </a:solidFill>
                <a:latin typeface="Courier New"/>
              </a:rPr>
              <a:t>81.3299 102.7232 142.014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C15-7CEC-40B5-86E4-EB73B3974F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rivativ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non-linear least squares fitting algorithm can use first derivatives if they are availabl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 regression function must be an S function that returns the values with the derivatives as an attribute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re is an important tool for doing the differentiation and providing the function in one step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gexp &lt;- deriv(~ b0 + b1*2^(-x/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("b0", "b1", "tau"),function(x, b0, b1, tau) {}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.nls2 &lt;- nls(Weight ~ negexp(Days, b0, b1, tau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tloss, start = with(wtloss, ival(Weight, Days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501 :   81.3299 102.7232 142.01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40 102.6840 141.90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709-509E-4551-8B04-72E08820324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negex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function (x, b0, b1, tau) {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expr3 &lt;- 2^(-x/tau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 &lt;- b0 + b1 *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 &lt;- array(0, c(length(.value), 3L), list(NULL, c("b0", "b1", "tau"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0"] &lt;-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b1"] &lt;- .expr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grad[, "tau"] &lt;- b1 * (.expr3 * (log(2) * (x/tau^2)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attr(.value, "gradient") &lt;- .gra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.valu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D0B8-B4D7-4864-81A3-CD8B2584D30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utting it all together: Self-starte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(S-)function may also include an attribute giving an algorithm for finding initial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is is possible, it makes fitting such non-linear models very convenient, and if the initial value routine is good, very secu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riting such a self-starting regression function requires us to use some obscure conventions.  This is necessary because it has to cohere to the model fitting function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about to write a function that will not be called by us, but by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nls(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tsel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83D-B6D5-4434-BAEF-F4AFEFA421A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ival &lt;- function(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mCall, data, LHS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y ~ b0 + b1*2^(-x/tau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x &lt;- eval(mCall[["x"]]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y &lt;- eval(LHS, da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g &lt;- range(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0.25 * (rg[2] - rg[1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m &lt;- lm(y ~ x + I(x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at &lt;- data.frame(x = rg[1] + 1:3 * de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ta &lt;- predict(fm, da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ta &lt;- diff(et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0 &lt;- as.vector((del * log(2))/log(deta[1]/deta[2]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 &lt;- as.vector(coef(lm(y ~ I(2^( - x/t0))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 &lt;- list(ab[1], ab[2], t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names(pars) &lt;- mCall[c("b0", "b1", "tau")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par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979-9FC2-4F16-ABEB-1C622F498246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Snegexp &lt;- selfStart(model = ~ b0 + b1*2^(-x/tau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 = SSival, parameters = c("b0", "b1", "tau"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emplate = function(x, b0, b1, tau) {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t.nls3 &lt;- nls(Weight ~ SSnegexp(Days, a, b, t), wtlos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501 :   81.3299  102.7232  142.0143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40  102.6840  141.9099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9.2447  :   81.37382 102.68412 141.910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oks pretty good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D3DA-2881-483F-928C-FA940C7881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weight loss data: summa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wt.nls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 Weight ~ SSnegexp(Days, a, b,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er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81.374    2.26899 35.863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102.684    2.08275 49.302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141.910    5.29449 26.80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standard error: 0.894937 on 49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rrelation of Parameter Estimate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      b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b -0.989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 -0.986  0.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C3B-71ED-4B4F-9DDF-36BE096967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Stormer Viscomete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gression is of the fo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gnoring the error, simplifying and re-writing giv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t is easy: regress y = wT on x1 = V and x2 = T with no intercep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2205000"/>
          <a:ext cx="2376360" cy="9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2205000"/>
                    <a:ext cx="237636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059280" y="3573360"/>
          <a:ext cx="326052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573360"/>
                    <a:ext cx="326052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20B-9F9A-4330-8DC2-F37679949C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the weight lo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"/>
          <p:cNvSpPr/>
          <p:nvPr/>
        </p:nvSpPr>
        <p:spPr>
          <a:xfrm>
            <a:off x="676800" y="1413000"/>
            <a:ext cx="415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xyplot(Weight ~ Days, wt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977080" cy="451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C8AA-8F3F-4224-A192-BB7AD77FF8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out the stormer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Sival.storm &lt;- function(mCall, data, LHS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 y ~ b*x1/(x2-the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1 &lt;- eval(mCall[["x1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2 &lt;- eval(mCall[["x2"]]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 &lt;- eval(LHS, data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 &lt;- lsfit(cbind(x1, y), x2*y, int = F)$coe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cf) &lt;- mCall[c("b", "theta")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f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 &lt;- selfStart(model = ~ b*x1/(x2-theta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itial = SSival.storm, parameters = c("b", "theta"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template = function(x1, x2, b, theta) {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torm.nls1 &lt;- nls(Time ~ storm(Viscosity, Wt, beta, tau), stormer, trace=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85.3645 :  28.875541  2.843728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1098 :  29.393464  2.23327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327  2.21822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825.0514 :  29.401257  2.218274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C2E-3029-40AF-9010-93CA3091544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onfidence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rginal intervals are available as estimate 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± 2SE in much the same way as LM/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Joint intervals are sometimes useful.  These need to be constructed individual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Profiling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can also be used to find likelihood ratio intervals and to give some idea of joint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behaviour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of the estimat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nls1$call$trace &lt;- FALSE # turn off the trac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m.pf &lt;- profile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ot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r(mfrow = 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irs(storm.p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3B1-5456-4D70-AB15-5D7C04FBDB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018720" cy="4600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185-9629-4C8C-8428-404D833BA0D6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662472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CB31-F2C1-4FB3-A8EF-216CC45DB00B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haviour of the log-likelihood surface near the MLE appears to be quadratic, implying that the approximate confidence intervals are probably reason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arameter estimates are highly correla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more detailed behaviour we need to look at the bivariate surface direc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533F-99AE-46CE-812B-6F1B4136E9E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772400" cy="569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 &lt;- coef(storm.nls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e &lt;- sqrt(diag(vcov(storm.nls1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el &lt;- seq(-5, 5, length = 10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 &lt;- expand.grid(beta = b[1] + del*se[1], tau = b[2] + del*se[2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gfn &lt;- with(stormer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Viscosity, Stm$beta)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er(Wt, Stm$tau, "-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 &lt;- matrix(stormer$Time, nrow(stormer), nrow(Stm)) - Regfn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colSums(res*res)/100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m$RSS &lt;- with(Stm, log10(1 + RSS - min(RSS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evelplot(RSS ~ beta + tau, Stm, contour = TRUE, pretty = TRUE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l.regions = rev(heat.colors(100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 &lt;- round(quantile(Stm$RSS,0:10/10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ontourplot(RSS ~ beta+tau, Stm, at=con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727-8562-42EC-A0E8-861FE083B3C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E4D-DDFC-43A4-83AA-E76E66406DC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C8E1-97AF-4651-8253-EC7554E84EEB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otstrap interva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possible ways of using bootstrap ideas on non-linear regress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observations themselves: Could lead to cases where the model is non-estim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on the residuals, centred or uncentr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-271440">
              <a:spcBef>
                <a:spcPts val="45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“Bayesian bootstrap”: give each observation a variable weight (as the ordinary bootstrap does) and vary the weights.  It can be shown that an exp(1) weight is appropriate.  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Rubin, D. B. (1981). The Bayesian Bootstrap. </a:t>
            </a:r>
            <a:r>
              <a:rPr b="0" i="1" lang="en-GB" sz="1800" spc="-1" strike="noStrike">
                <a:solidFill>
                  <a:srgbClr val="3333cc"/>
                </a:solidFill>
                <a:latin typeface="Arial Unicode MS"/>
              </a:rPr>
              <a:t>Annals of Statistics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</a:t>
            </a:r>
            <a:r>
              <a:rPr b="1" lang="en-GB" sz="1800" spc="-1" strike="noStrike">
                <a:solidFill>
                  <a:srgbClr val="3333cc"/>
                </a:solidFill>
                <a:latin typeface="Arial Unicode MS"/>
              </a:rPr>
              <a:t>9</a:t>
            </a:r>
            <a:r>
              <a:rPr b="0" lang="en-GB" sz="1800" spc="-1" strike="noStrike">
                <a:solidFill>
                  <a:srgbClr val="3333cc"/>
                </a:solidFill>
                <a:latin typeface="Arial Unicode MS"/>
              </a:rPr>
              <a:t>, 130-1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925-15AD-4F4C-B99F-2899D76C5F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demonstration: the weights are “about right”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 &lt;- v &lt;- numeric(10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(j in 1:100)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factor(sample(1:50, 50, rep = T), levels = 1:50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am &lt;- table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[j] &lt;- mean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[j] &lt;- var(s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v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.01306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v &lt;- rexp(5000, 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an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89904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ar(rv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0.96230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339-2BF2-418E-8467-7A561D49DCD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al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lynomial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– too pessimistic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ubic – no evidence yet of an inflex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dvantag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evidence from dietary the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ear advantages in short-term extrapol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sadvantage: harder to fi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32000" y="3573360"/>
          <a:ext cx="460836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573360"/>
                    <a:ext cx="460836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716F-AF7D-4A08-99F8-4574826E2E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ying it ou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rexp(nrow(stormer), 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mp &lt;- try(update(storm.nls1, weights = w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colMeans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] 29.344850  2.27803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&gt; var(B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1,]  0.3468216 -0.309030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Courier New"/>
              </a:rPr>
              <a:t>[2,] -0.3090304  0.37185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A1B-2568-4B8A-AF86-1966E32AA51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 &lt;- matrix(NA, 1000, 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rs &lt;- scale(resid(storm.nls1), scale = F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yt &lt;- stormer$Time - 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for(i in 1:1000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hisY &lt;- as.vector(yt + sample(rs, rep = 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tmp &lt;- try(update(storm.nls1, ThisY ~ .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f(class(tmp)[1] != "try-error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B1[i,  ] &lt;- coef(tmp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colMeans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] 30.10174  1.9471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&gt; var(B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,1]       [,2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1,]  0.7475719 -0.495094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[2,] -0.4950940  0.388268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2224-DDE2-4B5C-96D7-6330A457CFA9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Final compari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09367 0.932128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0.52142 3.380051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pply(B1, 2, quantile, c(1, 39)/4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,1]      [,2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.5%  28.37939 0.723661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97.5% 31.69766 3.111560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tau &lt;- qt(0.975, nrow(stormer)-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b &lt;- coef(storm.nls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se &lt;- sqrt(diag(vcov(storm.nls1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rbind(b - tau*se, b + tau*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beta      tau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1,] 27.49730 0.83424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[2,] 31.30521 3.6023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0327-5C4B-4D54-A50E-7E1DCD5C9A7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regression offers a way of integrating empirical and “process”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kinds of non-linear regression are to be repeatedly done, some investment in selfStart models pays off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ootstrap confidence intervals for the parameters can be relatively straightforward, if the model is small and the data set manage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"Tests of fit" are not automatically available.  Graphical examination of residuals is important here, as elsew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06E-9934-440B-8301-7FC9D48E778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mpirical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lm1 &lt;- lm(Weight ~ poly(Days, 3)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ith(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ays = seq(min(Days), max(Days), len = 1000), Weight = NA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rbind(Wtloss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 &lt;- Wtloss[order(Wtloss$Days), ]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loss$pWeight &lt;- predict(wt.lm1, Wtlo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brary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Weight ~ Days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ines(x, Wtloss$pWeight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13C-4C83-4924-B19C-550C5D8A94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49780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2E0-F760-4036-B14C-EDBC084ABDC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under extrapol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"/>
          <p:cNvSpPr/>
          <p:nvPr/>
        </p:nvSpPr>
        <p:spPr>
          <a:xfrm>
            <a:off x="523080" y="12477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0:700, predict(wt.lm1, data.frame(Days = 0:70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ype = "l", xlab = "Days", ylab = "Weight", col = "red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with(wtloss, points(Days, Weight, pch = 4, col = "blue"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7158" r="0" b="0"/>
          <a:stretch/>
        </p:blipFill>
        <p:spPr>
          <a:xfrm>
            <a:off x="1692360" y="2205000"/>
            <a:ext cx="5759280" cy="40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0F2-0213-45AF-93EB-3E95DE23DD0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algorithm: guess them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t.nls0 &lt;-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ls(Weight ~ b0 + b1 * 2^( - Days/tau), wtloss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tart = c(b0 = 70, b1 = 122, tau = 150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c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769.5897  :   70 122 15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2.10227 :   81.57397 102.48311 142.585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3 :   81.3761  102.6819  141.9020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9.2447  :   81.3738  102.6841  141.9104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F1E0-56DF-48C3-8AE5-BE147C67EA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trapolation under the non-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"/>
          <p:cNvSpPr/>
          <p:nvPr/>
        </p:nvSpPr>
        <p:spPr>
          <a:xfrm>
            <a:off x="504000" y="1125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nes(0:700, predict(wt.nls0, data.frame(Days = 0:70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= "green4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h = coef(wt.nls0)[1], lty = "dashed", col = "blu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92360" y="2128680"/>
            <a:ext cx="6264360" cy="472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FC90-458E-47D2-96EB-D926ACAC49E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values 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algorithm: calculate approximate valu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2492280"/>
          <a:ext cx="4392720" cy="31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92280"/>
                    <a:ext cx="43927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865-71F0-47AF-8BFA-6D052CD7DBE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2:26:14Z</dcterms:modified>
  <cp:revision>27</cp:revision>
  <dc:subject/>
  <dc:title>S-PLUS, An Introduction to the System</dc:title>
</cp:coreProperties>
</file>