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B13-12B7-4794-9CDB-3B44065B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56D-89AA-441C-8662-74FD057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39B-C014-4618-97D8-4C2FF765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D61-1EB4-41D8-938E-7C2CD53B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C5E-9985-46E0-8577-C331FBA1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B98-603C-4703-A6E4-018A14D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D11-A4BE-464A-B85C-0F75159D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984-0FC7-4A4E-9ED3-820BCCCE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657-0161-452C-AB0C-8720E30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4D3-8BEE-4B14-89B9-4CCCB38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411-B997-4BE7-8F6C-DE31601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251-ABAE-4A21-93E8-0937EFE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60AB63-7BEC-496F-AAAD-D8DDFADDBFCF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0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Effects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trol.lme &lt;- lme(Y ~ SG + VP + V10 + EP, data = petrol, random = ~1 | No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petrol.lm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inear mixed-effects model fit by REM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Residua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:    1.444741 1.87220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1 14.554171 21 -0.421514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398  0.146938  6  1.493136  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5863  0.520528  6  1.048673  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4243  0.039962  6 -3.859697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177  0.005588 21 28.12756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89C-07E5-4C28-9C22-745DB3E69D3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parison with previou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summary.lm(petrol.lm3)$coef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stimate Std. Error 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82077   10.12315 -0.67378  0.506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2725    0.09994  2.27390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11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5373    0.36975  1.49756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458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4954    0.02923 -5.11597  0.0000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465    0.00645 23.99221  0.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5  14.55411 21  -0.42152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0.219398   0.14694  6   1.49314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0.545863   0.52053  6   1.04868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-0.154243   0.03996  6  -3.85971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0.157177   0.00559 21  28.12753  &lt;.000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777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C72-5957-462E-B55E-F601D7AD76C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hrin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at &lt;- with(petrol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xpand.grid(No = levels(No), SG = mean(SG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P = mean(VP), V10=mean(V10), EP = mean(EP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ixM &lt;- predict(petrol.lm2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anM &lt;- predict(petrol.lme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nM &lt;- predict(petrol.lm3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 &lt;- rbind(cbind(1,fixM), cbind(2,ranM), cbind(3,con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lot(X, axes = F, ann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1,fixM, 2,ra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2,ranM, 3,co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C4D-34A8-4366-928D-8A887CC302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77880" y="43488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02640" y="733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xed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1320" y="231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+ 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280" y="357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33E-9C49-4C4C-8E9E-EB780717E54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random slopes as we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viation from parallel regressions was not significant, but still somewhat suspiciou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might consider making both the intercept and the slope have a random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trol.lme2 &lt;- lme(Y ~ SG + VP + V10 + EP, data = petrol,random = ~ 1 + EP | No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mmary(petrol.lme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930-E07E-4849-B269-B767CE4C61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+ EP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      Corr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1.725640232 (Intr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0.003283688 -0.53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esidual    1.854119617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229186 14.632337 21 -0.425714  0.674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109  0.147941  6  1.481050  0.189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8118  0.523123  6  1.047781  0.33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3940  0.040213  6 -3.828130  0.008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248  0.005666 21 27.75348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EF0-4207-46F6-9B29-34A95B1C036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petroleum data of N H Pra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10 samples of crude oi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titioned and tested for yield at different “end points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amples themselves are classified by specific gravity (SG), vapour pressure (VP) and volatility as measured by the ASTM 10% point (V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e the rate of rise in yield with end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we explain differences between samples in terms of external measur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258-2CA5-4DC4-A047-153C95F1FE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petrol data display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yplot(Y ~ EP | No, petrol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lmline(x, y, col = 3, lty = 4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.table = T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pect = "xy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End point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BD4-12A0-4986-8D65-415476B9DF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476280"/>
          <a:ext cx="784872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84872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190-1563-40DB-A14B-E2707D89F67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the slopes be regarded as parallel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1 &lt;- aov(Y ~ No/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2 &lt;- aov(Y ~ No + 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2, petrol.lm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 RSS    Test Df Sum of Sq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No + EP        21 74.131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/EP          12 30.32915 1 vs. 2  9  43.80284 1.925665 0.14390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B4A-5847-44B6-8DAB-0BD2D6F6B1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explain differences in intercept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3 &lt;- aov(Y ~ . - No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3, petrol.lm2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RSS    Test Df Sum of Sq  F Value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SG + VP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10 + EP       27 134.804                    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 + EP        21  74.132 1 vs. 2  6  60.67197 2.86451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3681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doubtful, but how close is i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E3E-BFD0-4E3E-A4B1-BB91B4A0E3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oking at all thre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update(petrol.lm2, .~.-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0 &lt;- predict(tmp, type="terms")[, "No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0 &lt;- coef(tmp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 &lt;- cbind(1, petrol$SG, petrol$VP, petrol$V10) %*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ef(petrol.lm3)[1:4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petrol.lm3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lette(c("red", "blue", "orange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Y ~ EP | No, petrol, 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mline(x, y, col = 3, lty =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0[subscripts][1], b0, col = 4, lty = 4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[subscripts][1], b, col = 5, lty = 5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aspect = "xy", xlab = "End poi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F68-B3B3-4B54-8D4B-C620CD1C8B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53E-2C0D-4ABD-BCBF-031D7E19751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a random ter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external (sample-specific) variables explain much of the differences between the intercepts, but there is still significant variation between samples unexpla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natural way to model this is to assume that, in addition to the systematic variation between intercepts explained by regression on the external variables, there is a random term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this term to be normal with zero mean.  Its variance measures the extent of this additional vari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B5B-A27F-4D04-AB50-8A2744F307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0:35Z</dcterms:modified>
  <cp:revision>13</cp:revision>
  <dc:subject/>
  <dc:title>S-PLUS, An Introduction to the System</dc:title>
</cp:coreProperties>
</file>