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C44-3913-4F97-93A2-DD7C79B9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2DD-8651-44CF-A3EE-6DD0B04B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5FC-3AB9-43CC-82D6-4F8CE923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166-4596-46BF-BC8B-646A97AE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0C6-B464-4900-AA7E-709B3D8C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3E5-61FE-437F-86CD-5D509AA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B0C-A3DD-4464-A6A4-1E4B2CE5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1F2-5ECF-407D-9F25-B2995376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A52-7445-4E9E-8491-70F67003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DA4-392A-4017-9AE3-523A0275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DC4-BD8F-4950-9F12-25AD721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7F6-FAC3-4E02-9B7E-8D7CFD7F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E5F656-E99F-499E-A9DA-57BC9B71B154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on mixed effects modell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115920"/>
          <a:ext cx="799308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9308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87C-2E85-4290-8C07-5018F95A80E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84360" y="115920"/>
          <a:ext cx="7704000" cy="59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5920"/>
                    <a:ext cx="770400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3B1-74EF-48FE-B8E7-AC6C5D51472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Variance compon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GLMM.Alcyonacea, corr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ta: Bentho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IC      BIC    logLik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338.8218 371.0074 -157.41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667752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Plot %in%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Residual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5896012 2.5099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riance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fixed weight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invwt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Alcyonacea ~ Topography + I(Impact * cbind(nsi(Intensity),    bin(Time))) + offset(log(SweptArea)) 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DF0-AAAC-42A8-8FE7-622E5A3F94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produces a result where the components of variance are smaller than the underlying Poisson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useful way of isolating various parts of the model to reveal (perhaps speculatively!) the fixed patter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ood way of handling overdispersion – close connection between GLMMs and Negative Binomi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ill somewhat controversial.  The inference process is still a matter of deb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D90-347B-49F8-855B-90C5E561A4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ird non-linear example: the muscl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92360" y="2193840"/>
          <a:ext cx="561636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93840"/>
                    <a:ext cx="561636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303920" y="1427040"/>
            <a:ext cx="626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log(Length) ~ Conc | Strip, muscle, as.table = 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1C5-BB75-4CA5-91DA-09C7CAF7C49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fit: fixed effects on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ggested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43 parameters with only 61 points.  Special care needs to be taken with fitting th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“plinear” algorithm both to simplify the model specification and to make the fitting process more robu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ed to specify the non-linear parameters on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n re-fit the model in a standard way to simplify predictions from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79640" y="2060640"/>
          <a:ext cx="475308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060640"/>
                    <a:ext cx="4753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0E1-83C2-4DBC-B33D-8145931C95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model.matrix(~Strip - 1, muscle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1 &lt;- nls(log(Length) ~ cbind(X, X*rho^Conc), muscle, start = c(rho = 0.1), algorithm = "plinear"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as.vector(coef(muscle.nls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 &lt;- list(rho = b[1]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lpha = b[2:22], beta = b[23:43]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2 &lt;- nls(log(Length) ~ alpha[Strip] + beta[Strip]*rho^Conc, muscle, start = ini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57C-00A0-484B-A44B-7D6C27AEECA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 and presentation of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expand.grid(Conc = seq(0.25, 4, len=20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p = levels(muscle$Strip), Length = 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rbind(muscl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Muscle[order(Muscle$Strip, Muscle$Conc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fit &lt;- predict(muscle.nls2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fit ~ Conc|Strip, Muscle, type = "l"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192-0C28-4E96-9616-43D14A5D4DC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E3E-E39C-410B-877B-9EC6D03BBF2E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mixed effect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0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.nlme &lt;- nlme(log(Length) ~ alpha + beta*rho^Conc, muscl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xed = rho+alpha+beta ~ 1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dom = alpha + beta ~ 1|Strip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va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RandomFit &lt;- predict(muscle.nlm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RandomFit ~ Conc|Strip, Muscle, type = "l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ines(x, Muscle$fit[subscripts]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119-FD09-42CE-90C8-18C84478F8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Generalized Linear Mix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overy of the benthos after trawling on the Great Barrier Reef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6 Control plots, 6 Impact plo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isited 2 times prior to treatment and 4 times afterwards – longitudinal stu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pection is by Benthic sled.  The total number of animals of each species is counted for each trans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 trawl intensity in the transe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tal ‘swept area’ of the sled video camer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pography (Shallow or Deep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FBE-11FB-4FAF-88E6-377DD3F0E8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268-4F24-40B6-8C06-2572A5C3CCD3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muscle.nlm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on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 log(Length) ~ alpha + beta * rho^Conc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list(alpha ~ 1, beta ~ 1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vel: Stri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     Corr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  0.16991613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   0.88268573 0.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idual 0.07692169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rho + alpha + beta ~ 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lue  Std.Error DF  t-value p-valu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 0.094083 0.01349832 37  6.96996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3.363546 0.04486974 37 74.96247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-2.817441 0.29503865 37 -9.54940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Correlation: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0.371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0.546 0.2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andardized Within-Group Residual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          Q1         Med          Q3         Max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-1.66713635 -0.34229465 -0.08582487  0.35210281  2.843345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Observations: 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Groups: 2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ADA-AFF3-4F1A-99D2-841DD08E100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plinear” algorithm offers an effective way of using the simplicity of linear paramete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effects can be very tricky, but offer a way of “borrowing strength” from one group to another, in order to gain a more holistic representation of the process generating th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6AE-288D-4E1C-9615-981A0F5579F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each species the total count for a control or pre-experiment treatment plot has a distribution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a post-experiment treatment plot the distribution is similar, but the Poisson mean has additional term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extra terms are a spline term in mean trawl intensity and a factor term to allow for recove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781360"/>
          <a:ext cx="784836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78483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89080" y="4307040"/>
          <a:ext cx="669780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4307040"/>
                    <a:ext cx="6697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D09-4A68-42AF-A0E6-DF02073E6E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functions an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Species &lt;- scan("SpeciesNames.csv", what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match(Species, names(Bentho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bin &lt;- function(fac, all = F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binary matrix for a factor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ac &lt;- as.factor(fac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X &lt;- outer(fac, levels(fac), "==") +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if(all) X else X[, -1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i &lt;- function(x, k = 3, Intensity = Benthos$Intensity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natural spline in intensit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knots &lt;- as.vector(quantile(unique(Intensity), 0:k/k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(x, knots = knots[2:k], Boundary.knots = knots[c(1, k + 1)]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uard &lt;- function(x) ifelse(x &lt; -5, NA, 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7ED-C3A9-47AD-BF1B-CE4CE8DF19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tting up the prediction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rs &lt;- c("Cruise", "Plot", "Months", "Treatme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"Time", "Impact", "Topography", "Unity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with(Benthos, tapply(Intensity, Impact, mean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sa &lt;- mean(Benthos$SweptAre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transform(Benthos[, vars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nths = as.numeric(as.character(Months)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ntensity = vals[factor(Impact)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weptArea = rep(msa, nrow(Bentho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newData[order(Benthos$Months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0E2-08A2-4749-ABCC-B7F4E9645B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key spec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nt(Species, quot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] Alcyonacea                Annella.reticulata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3] Ctenocella.pectinata      Cymbastela.coralliophil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5] Dichotella.divergens      Echinogorgia.sp.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7] Hypodistoma.deeratum      Ianthella.flabelliformis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9] Junceella.fragilis        Junceella.juncea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1] Nephtheidae               Porifera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3] Sarcophyton.sp.           Scleractinia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5] Solenocaulon.sp.          Subergorgia.suberosa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7] Turbinaria.frondens       Xestospongia.testudinaria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are names of some columns in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nthos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data fram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need to fit the master model for each and produce plots of the fixed and random eff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9ED-5EAE-4520-9E63-1D6C8AFF2F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trick: fitting multiple similar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itCommand &lt;- Quote(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m &lt;- glmmPQL(Species ~ Topography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ff0000"/>
                </a:solidFill>
                <a:latin typeface="Courier New"/>
              </a:rPr>
              <a:t>I(Impact * cbind(nsi(Intensity), bin(Time)))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offset(log(SweptArea)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andom = ~1|Cruise/Plo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amily = poisson, data = Benthos, verbose = 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5A6-7332-41AE-800C-96B4AD05B8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the trick to wor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pno &lt;-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start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name &lt;- paste("GLMM", Species[spno], sep=".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name &lt;- Species[spno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hisFitCommand &lt;- do.call("substitute", list(fitCommand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st(fm = as.name(mname), Species = as.name(sname)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eval(thisFitCommand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int(spno &lt;- spno +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end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objects(pat = "GLMM.*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GLMM.Alcyonacea"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] "GLMM.Annella.reticulata"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3] "GLMM.Ctenocella.pectinata"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4] "GLMM.Cymbastela.coralliophila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EC3-97FC-4AB6-B1AA-666368CDF0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 &lt;- predict(GLMM.Alcyonacea, newData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0 &lt;- predict(GLMM.Alcyonacea, newData, level=0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aphics.off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ellis.device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guard(pfm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log(mean)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and random effects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exp(pfm0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mean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effects only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39F-281A-4994-8766-41091C6689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12Z</dcterms:modified>
  <cp:revision>18</cp:revision>
  <dc:subject/>
  <dc:title>S-PLUS, An Introduction to the System</dc:title>
</cp:coreProperties>
</file>