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7CBA-7355-425C-9F28-E38D23A25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BFEE-A6A8-48A6-9888-54CAA89A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0A4B-3E53-4321-903C-FD1C11043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C7D6-1862-4EA0-94BB-522154067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A6AB-57AC-42C3-88D9-FE6E61424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25D7-215C-4741-A39A-EDD86A04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98F4-F5E5-470A-862B-AD89B596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1E68-D43F-4BB2-9150-C3B9A7BD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F48A-EF56-4493-8113-AF7C09DC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3B78-4295-4E91-ABD0-7B275CB1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072A-07E3-46BC-B2DA-2FABC5E0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E13A-EC5A-4D03-A741-89E2E718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1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F999AA9-3007-4593-98BC-A19E70660809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10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inear Mixed Effects Mode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7772400" cy="57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trol.lme &lt;- lme(Y ~ SG + VP + V10 + EP, data = petrol, random = ~1 | No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ummary(petrol.lm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Linear mixed-effects model fit by REML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…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Random effects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Formula: ~1 | No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(Intercept) Residual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tdDev:    1.444741 1.87220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Fixed effects: Y ~ SG + VP + V10 + EP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alue Std.Error DF   t-value p-valu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(Intercept) -6.134791 14.554171 21 -0.421514  0.677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G           0.219398  0.146938  6  1.493136  0.186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P           0.545863  0.520528  6  1.048673  0.334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10         -0.154243  0.039962  6 -3.859697  0.008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EP           0.157177  0.005588 21 28.127561  0.000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4CF3-C528-4265-B3C1-5E14EC8406C9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92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omparison with previous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nd(summary.lm(petrol.lm3)$coef, 5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Courier New"/>
              </a:rPr>
              <a:t>       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Estimate Std. Error  t value Pr(&gt;|t|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(Intercept) -6.82077   10.12315 -0.67378  0.5061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G           0.22725    0.09994  2.27390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0.0311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P           0.55373    0.36975  1.49756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0.14585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10         -0.14954    0.02923 -5.11597  0.00002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EP           0.15465    0.00645 23.99221  0.0000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Fixed effects: Y ~ SG + VP + V10 + EP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alue Std.Error DF   t-value p-value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(Intercept) -6.134795  14.55411 21  -0.42152  0.677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G  0.219398   0.14694  6   1.49314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0.186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P  0.545863   0.52053  6   1.04868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0.334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10 -0.154243   0.03996  6  -3.85971  0.008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EP  0.157177   0.00559 21  28.12753  &lt;.000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3645000"/>
            <a:ext cx="777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5D11-A0F7-46ED-9088-F74E228C210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Shrinkag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dat &lt;- with(petrol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expand.grid(No = levels(No), SG = mean(SG)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  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VP = mean(VP), V10=mean(V10), EP = mean(EP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fixM &lt;- predict(petrol.lm2, da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ranM &lt;- predict(petrol.lme, da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conM &lt;- predict(petrol.lm3, da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X &lt;- rbind(cbind(1,fixM), cbind(2,ranM), cbind(3,conM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plot(X, axes = F, ann = F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segments(1,fixM, 2,ranM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segments(2,ranM, 3,conM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D4FD-35CE-48AA-AE9B-84EAAE5A26D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77880" y="434880"/>
            <a:ext cx="5989680" cy="5989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502640" y="73332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xed eff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21320" y="23176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andom + 3 fix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43280" y="3573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 fix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95B6-057C-4134-AD74-C65611CBFA98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dding random slopes as wel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deviation from parallel regressions was not significant, but still somewhat suspiciou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might consider making both the intercept and the slope have a random component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etrol.lme2 &lt;- lme(Y ~ SG + VP + V10 + EP, data = petrol,random = ~ 1 + EP | No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ummary(petrol.lme2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27EC-C06D-4671-B786-895A3DC015C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4360" y="549360"/>
            <a:ext cx="7772400" cy="569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Random effects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Formula: ~1 + EP | No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tructure: General positive-definite, Log-Cholesky parametrization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tdDev      Corr 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(Intercept) 1.725640232 (Intr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EP          0.003283688 -0.535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Residual    1.854119617      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Fixed effects: Y ~ SG + VP + V10 + EP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alue Std.Error DF   t-value p-valu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(Intercept) -6.229186 14.632337 21 -0.425714  0.6746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G           0.219109  0.147941  6  1.481050  0.189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P           0.548118  0.523123  6  1.047781  0.335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10         -0.153940  0.040213  6 -3.828130  0.008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EP           0.157248  0.005666 21 27.753481  0.000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354E-0C2A-40E3-BAEC-7886FF814C00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xample: The petroleum data of N H Prater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10 samples of crude oi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artitioned and tested for yield at different “end points”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samples themselves are classified by specific gravity (SG), vapour pressure (VP) and volatility as measured by the ASTM 10% point (V10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roblems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Estimate the rate of rise in yield with end poin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an we explain differences between samples in terms of external measures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F6BC-BEB9-452B-A665-EC8FD187FB8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petrol data displayed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xyplot(Y ~ EP | No, petrol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anel = function(x, y, ...) {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anel.xyplot(x, y, ...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anel.lmline(x, y, col = 3, lty = 4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}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s.table = T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spect = "xy"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xlab = "End point"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ylab = "Yield (%)"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5DFE-1F28-4D7E-981D-89630E086F7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95280" y="476280"/>
          <a:ext cx="7848720" cy="60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76280"/>
                    <a:ext cx="7848720" cy="60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E38F-3AFD-4AB7-8C40-53327D2CBE4C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an the slopes be regarded as parallel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etrol.lm1 &lt;- aov(Y ~ No/EP, petrol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etrol.lm2 &lt;- aov(Y ~ No + EP, petrol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nova(petrol.lm2, petrol.lm1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Analysis of Variance Table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Response: Y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Terms Resid. Df      RSS    Test Df Sum of Sq  F Value     Pr(F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1 No + EP        21 74.13199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2 No/EP          12 30.32915 1 vs. 2  9  43.80284 1.925665 0.1439048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Yes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76EA-D1C7-4F31-AFE0-962424CCC30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an we explain differences in intercepts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petrol.lm3 &lt;- aov(Y ~ . - No, petrol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nova(petrol.lm3, petrol.lm2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Analysis of Variance Table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Response: Y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Terms Resid. Df     RSS    Test Df Sum of Sq  F Value      Pr(F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1 SG + VP +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V10 + EP       27 134.804                               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2 No + EP        21  74.132 1 vs. 2  6  60.67197 2.864511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0.0336811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ooks doubtful, but how close is it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8322-5B6B-49D1-8FF1-7712434349E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Looking at all three model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772400" cy="52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mp &lt;- update(petrol.lm2, .~.-1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0 &lt;- predict(tmp, type="terms")[, "No"]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0 &lt;- coef(tmp)["EP"]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 &lt;- cbind(1, petrol$SG, petrol$VP, petrol$V10) %*%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ef(petrol.lm3)[1:4]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 &lt;- coef(petrol.lm3)["EP"]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lette(c("red", "blue", "orange"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xyplot(Y ~ EP | No, petrol, subscripts = T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 = function(x, y, subscripts, ...) {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.xyplot(x, y, ...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.lmline(x, y, col = 3, lty = 3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.abline(a0[subscripts][1], b0, col = 4, lty = 4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nel.abline(a[subscripts][1], b, col = 5, lty = 5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, as.table = T, aspect = "xy", xlab = "End point"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ylab = "Yield (%)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20C1-04C1-48DF-865E-077ACB21385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6769080" cy="676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6097-5B33-47F8-956D-56DA244C3057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dding a random term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external (sample-specific) variables explain much of the differences between the intercepts, but there is still significant variation between samples unexplained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One natural way to model this is to assume that, in addition to the systematic variation between intercepts explained by regression on the external variables, there is a random term as well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assume this term to be normal with zero mean.  Its variance measures the extent of this additional varia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0252-7915-4654-8F96-779C6293EAD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9-06T14:10:35Z</dcterms:modified>
  <cp:revision>13</cp:revision>
  <dc:subject/>
  <dc:title>S-PLUS, An Introduction to the System</dc:title>
</cp:coreProperties>
</file>