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43F8-E091-4442-B4F3-66005BB3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7DE-E5A6-4BA2-BFA0-114DBB7F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B21-7C8D-4663-A18F-41062E38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5C5-93C2-451B-B43E-B154277A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8385-01C7-4233-B287-C6515229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1E6-DA16-49AA-9B7C-CBDA2071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0BDF-D4D5-4E31-AA43-EFBF65A5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55D-1B4A-4A54-BEF5-430CED34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197-FD4C-415C-A8F4-04AC6BDAB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DDA-C4D6-40DB-96C8-052871B6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F23-E0C4-4AA7-86A9-6D3F0912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F734-6842-4463-9703-177CB38C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964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6ACDEF-5B20-40D5-B75A-7F6C2A1F59C9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3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cal Linear Mode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reating a contrast matrix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 &lt;- diag(4)[1:3, ]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[col(M) - row(M) == 1] &lt;-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        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Desired meaning of contrast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  1   -1    0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   0    1   -1    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   0    0    1   -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 &lt;- fractions(ginv(M))          </a:t>
            </a:r>
            <a:r>
              <a:rPr b="0" lang="en-AU" sz="1800" spc="-1" strike="noStrike">
                <a:solidFill>
                  <a:srgbClr val="ff0000"/>
                </a:solidFill>
                <a:latin typeface="Courier New"/>
              </a:rPr>
              <a:t># matrix to us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0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1,]  3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2,] -1/4  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3,] -1/4 -1/2  1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[4,] -1/4 -1/2 -3/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C7CA-80B6-42D9-B0A6-28358F14644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ified function for the job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contrsdif &lt;- function(n) {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diag(n)[1:(n-1), ]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X &lt;- X - cbind(0, X[, -n]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inv(X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ractions(contrsdif(5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,1] [,2] [,3] [,4]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,]  4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2,] -1/5  3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3,] -1/5 -2/5  2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4,] -1/5 -2/5 -3/5  1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5,] -1/5 -2/5 -3/5 -4/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ttr(, "rank")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[1] 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See the MASS function contr.sdif for a more bullet-proof vers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2CD0-A3F4-41E3-8825-065F28CBE31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unbalanced 4-way classific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in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data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: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# of days absent from school in a yea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lassifying factor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Four levels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1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2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3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Aboriginal or Non-aborigina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rn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Slow or Aver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x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: Male or Fema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oblem: Construct a linear model to describe the differences in behaviour between the groups so define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676-874D-496D-92D6-7411BF4CD0D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xtent of the imbalance: Design iss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th(quine, table(Lrn, Age, Sex, Eth)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F, A          , , F, N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4  5  1  9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4  6  1 1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1 10  8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1 11  9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A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, , M, N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F0 F1 F2 F3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   F0 F1 F2 F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AL  5  2  7  7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AL  6  2  7  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SL  3  3  4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SL  3  7  3  </a:t>
            </a: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6919-39B3-48A9-9F3C-832F8A704F1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ell variances vs cell mea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Means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mean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Vars  &lt;- with(quine, tapply(Days, list(Eth, Sex, 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Age, Lrn), va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SD &lt;- sqrt(Var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ar(mfrow = c(1, 2), pty="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Vars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Variances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plot(Means, SD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Courier New"/>
              </a:rPr>
              <a:t>xlab = "Cell Means", ylab = "Cell Std Devn.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C9B-B968-4BFC-AF04-89BDAF0FE9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24819" r="0" b="16619"/>
          <a:stretch/>
        </p:blipFill>
        <p:spPr>
          <a:xfrm>
            <a:off x="250920" y="549360"/>
            <a:ext cx="8642160" cy="506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E3C-AAC4-4F99-86B9-72FAACD35365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Box-Cox  or log(y + c) transformation?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28061" r="0" b="22570"/>
          <a:stretch/>
        </p:blipFill>
        <p:spPr>
          <a:xfrm>
            <a:off x="1290600" y="3429000"/>
            <a:ext cx="656280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920"/>
            <a:ext cx="7631280" cy="23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par(mfrow=c(1,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boxcox(Days+1 ~ Eth*Sex*Age*Lrn, data = quine, singular.ok = T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ambda = seq(-0.05, 0.45, len = 2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logtrans(Days ~ Age*Sex*Eth*Lrn, data = quine, xlab=expression(alpha)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alpha = seq(0.75, 6.5, len = 20), singular.ok = 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A1A-3F0C-45AA-A5E2-FC8AF3F4631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itial Models and backwards elimin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hi &lt;- aov(log(Days + 2.5) ~ Eth*Sex*Age*Lrn, quin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nxt &lt;- update(quine.hi, . ~ . - Eth:Sex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ropterm(quine.nxt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log(Days + 2.5) ~ Age + Sex + Eth + Lrn + Age:Sex + Age:Eth +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 + Age:Lrn + Sex:Lrn + Eth:Lrn + Age:Sex:Eth + Age:Sex:Lrn + Age:Eth:Lrn + Sex:Eth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f Sum of Sq     RSS     AIC F Value   Pr(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&lt;none&gt;                    64.099 -68.184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Eth  3     0.974  65.073 -71.982   0.608 0.611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Sex:Lrn  2     1.466  65.565 -68.882   1.372 0.2574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Age:Eth:Lrn  2     2.128  66.227 -67.415   1.992 0.1408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Sex:Eth:Lrn  1     1.579  65.678 -66.631   2.956 0.088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B90-C5D2-422A-8B83-B2DE16463C5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orwar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ine.lo ~ aov(log(Days+2.5) ~ 1, quin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ddterm(quine.lo, quine.hi, test = "F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ingle term addition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og(Days + 2.5) ~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      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Df Sum of Sq     RSS     AIC F Value     Pr(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&lt;none&gt;              106.787 -43.664                 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Age     3     4.747 102.040 -44.303   2.202 0.0904804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Sex     1     0.597 106.190 -42.483   0.809 0.3698057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Eth     1    10.682  96.105 -57.052  16.006 0.0001006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rn     1     0.004 106.783 -41.670   0.006 0.939208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29BA-2CC9-4DC0-AA7C-BF1D33C642D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utomated selec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ne.stp &lt;- stepAIC(quine.nxt, scope = list(upper =  ~ Eth * Sex * Age * Lrn, lower =  ~ 1), trace = FALS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ummary(quine.stp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AU" sz="16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Df Sum Sq Mean Sq F value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           3  4.747   1.582  2.9698  0.03447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           1  0.255   0.255  0.4777  0.49072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           1 10.069  10.069 18.8978 2.829e-0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Lrn           1  0.653   0.653  1.2254  0.270425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Sex       3  8.816   2.939  5.5152  0.00137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       3  5.835   1.945  3.6504  0.014497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       1  0.009   0.009  0.0173  0.89563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Lrn       2  2.886   1.443  2.7082  0.0705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Lrn       1  0.029   0.029  0.0542  0.816372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Eth:Lrn       1  0.099   0.099  0.1852  0.66766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ge:Eth:Lrn   2  3.759   1.880  3.5277  0.03233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Sex:Eth:Lrn   1  3.032   3.032  5.6916  0.01854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iduals   125 66.600   0.533</a:t>
            </a:r>
            <a:r>
              <a:rPr b="0" lang="en-AU" sz="16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E5C-5431-4111-9020-55981A5C45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Regression with factor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quadratic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parate linear regressions within the level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arallel linear regressions within the levels of a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mmon linear regression (ignoring the factor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 regression at al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ample: the Whiteside data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150-E6D1-4E45-827A-D8CD3D3D8E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Further refinemen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stp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3 &lt;- update(quine.stp, . ~ . - Eth: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3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4 &lt;- update(quine.3, . ~ . - Eth:Age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4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5 &lt;- update(quine.4, . ~ . - Age:Lrn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5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ingle term deletions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Model: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log(Days + 2.5) ~ Eth + Sex + Age + Lrn + Eth:Sex + Eth:Lrn + Sex:Age + Sex:Lrn + Eth:Sex:Lrn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  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Df Sum of Sq      RSS       AIC  F Value       Pr(F)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&lt;none&gt;              74.63858 -69.95858                    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    </a:t>
            </a: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Sex:Age  3  9.900204 84.53878 -57.77385  5.83624 0.000894373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99"/>
                </a:solidFill>
                <a:latin typeface="Courier New"/>
              </a:rPr>
              <a:t>Eth:Sex:Lrn  1  6.298792 80.93737 -60.12993 11.13956 0.00109819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92E8-B3F9-4309-BB28-DC03F6BCDE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BIC penalty on complexit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quine.bic &lt;- stepAIC(quine.nxt, k = log(nrow(quine)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scope = list(upper=~Eth*Sex*Age*Lrn,lower=~1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race = 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dropterm(quine.bic, test = "F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ingle term deletion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Model: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log(Days + 2.5) ~ Eth + Sex + Age + Lrn + Eth:Sex + Eth:Lrn +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+ Sex:Lrn + Eth:Sex:Lrn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Df Sum of Sq      RSS       AIC  F Valu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  74.63858 -69.95858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 3  9.900204 84.53878 -57.77385  5.83624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 1  6.298792 80.93737 -60.12993 11.1395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        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Pr(F)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&lt;none&gt;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Sex:Age 0.00089437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3333cc"/>
                </a:solidFill>
                <a:latin typeface="Courier New"/>
              </a:rPr>
              <a:t>Eth:Sex:Lrn 0.00109819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87F1-4F27-4ECC-9D86-82E421AD90D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Interpretation of final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an be written a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(Y + 2.5) ~ Sex/(Age + Eth*Lr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two sexes behave differentl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ithin each sex, however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th*Lr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act additively in this sca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t much simplification, but som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429-F5A8-4AF6-847D-247EA9BD41D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: The Boston house pric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ult the help information for the Boston house price data from he MASS library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Construct a model describing the median house-price (variable medv) in terms of the other variables give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Prune the model using standard AIC.  Compare the result with that using BIC as the fit criterion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Do the standard diagnostic tests indicate any possible reasons for concern with the analysis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How would you investigate whether or not two-term interactions between the predictors may be needed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What about quadratic terms as well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99"/>
                </a:solidFill>
                <a:latin typeface="Arial Unicode MS"/>
              </a:rPr>
              <a:t>Report your conclusion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DD2-845A-459B-BC36-7A706DC8FE9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95640" y="404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73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306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87640" y="414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407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5157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85092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859280" y="4941360"/>
            <a:ext cx="289080" cy="28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858920" y="3860280"/>
            <a:ext cx="360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1280" y="3933360"/>
            <a:ext cx="28728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27640" y="2707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500720" y="141300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1800" y="6206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poly(Temp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5800" y="20606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/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32846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+ 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2720" y="4365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e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11280" y="443700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Insul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(not conside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1080" y="5445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33840" y="2276640"/>
            <a:ext cx="28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 Unicode MS"/>
              </a:rPr>
              <a:t>A lattice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26A-7772-4D82-A8DC-382C6983BF1B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equence of model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Fit the sequence of models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q2 &lt;- aov(Gas ~ Insul/poly(Temp, 2)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2 &lt;- aov(Gas ~ Insul/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 &lt;- aov(Gas ~ Insul +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l0 &lt;- aov(Gas ~ Temp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white.lm0 &lt;- aov(Gas ~ 1, whiteside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# Test each within the next in the sequence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ova(white.lm0, white.lml0, white.lml, white.lml2, white.lmq2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676-44BC-4996-83DB-4B625BCED9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alysis of Variance tab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Analysis of Variance Table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1: Gas ~ 1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2: Gas ~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3: Gas ~ Insul + 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4: Gas ~ Insul/Temp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Model 5: Gas ~ Insul/poly(Temp, 2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Res.Df    RSS Df Sum of Sq        F    Pr(&gt;F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1     55 75.014                               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2     54 39.995  1    35.019 359.4189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3     53  6.770  1    33.224 340.9968 &lt; 2.2e-1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     52  5.425  1     1.345  13.8057 0.0005118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5     50</a:t>
            </a:r>
            <a:r>
              <a:rPr b="1" lang="en-AU" sz="1600" spc="-1" strike="noStrike">
                <a:solidFill>
                  <a:srgbClr val="000099"/>
                </a:solidFill>
                <a:latin typeface="Arial Unicode MS"/>
              </a:rPr>
              <a:t>  </a:t>
            </a:r>
            <a:r>
              <a:rPr b="1" lang="en-AU" sz="1600" spc="-1" strike="noStrike">
                <a:solidFill>
                  <a:srgbClr val="000099"/>
                </a:solidFill>
                <a:latin typeface="Courier New"/>
              </a:rPr>
              <a:t>4.8720  2     0.554   2.8408 0.0678363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912-D42E-4A87-BE3C-19D75B62B3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 Unicode MS"/>
              </a:rPr>
              <a:t>Conclusions</a:t>
            </a:r>
            <a:endParaRPr b="0" lang="en-US" sz="44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Quadratic terms within the level of the insulation factor are unnecessary (apparently!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regressions apply within the level of the insulation fact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slopes are different: stop at </a:t>
            </a:r>
            <a:r>
              <a:rPr b="0" lang="en-GB" sz="2400" spc="-1" strike="noStrike">
                <a:solidFill>
                  <a:srgbClr val="000099"/>
                </a:solidFill>
                <a:latin typeface="Courier New"/>
              </a:rPr>
              <a:t>Insul/Tem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sulation makes a difference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796-413F-4FAB-8CFA-E0E274DD1B5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Exerci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nduct a similar analysis for the Birthwt data set and report your conclusion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lot the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es there appear to be any variance heterogeneity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your analysis, what linear model most plausibly describes the situation generating the data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s there a systematic difference in size between girls and boys?  Explain briefl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03AA-73F1-44D9-A60C-4FC886BB25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not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425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actor variables generate terms in the model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 way in which most people are familiar is to start with a redundant binary representation and drop columns to remove the redundancy.  e.g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ut                  and then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is corresponds to removing the first column corresponding to the alpha term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Other resolutions are possible (and used)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3357720"/>
          <a:ext cx="39592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3357720"/>
                    <a:ext cx="39592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692360" y="4221000"/>
          <a:ext cx="1224000" cy="4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221000"/>
                    <a:ext cx="1224000" cy="4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4356000" y="4221000"/>
          <a:ext cx="4464000" cy="50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6000" y="4221000"/>
                    <a:ext cx="4464000" cy="5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A609-92D3-4198-952E-F65661BDA0E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ore on contrast matric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V&amp;R page 146 ff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contr.helmert(4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contrast matri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[,2] [,3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1   -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2    1   -1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3    0    2   -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4    0    0    3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fractions(ginv(contr.helmert(4)))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                           </a:t>
            </a:r>
            <a:r>
              <a:rPr b="0" lang="en-GB" sz="2000" spc="-1" strike="noStrike">
                <a:solidFill>
                  <a:srgbClr val="ff0000"/>
                </a:solidFill>
                <a:latin typeface="Courier New"/>
              </a:rPr>
              <a:t># meaning of estimate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,1]  [,2]  [,3]  [,4]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,]  -1/2   1/2     0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2,]  -1/6  -1/6   1/3     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3,] -1/12 -1/12 -1/12   1/4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C7C-7D3D-47DF-A37F-E7F6405D4AE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9T02:22:30Z</dcterms:modified>
  <cp:revision>21</cp:revision>
  <dc:subject/>
  <dc:title>S-PLUS, An Introduction to the System</dc:title>
</cp:coreProperties>
</file>