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E9DA-3653-4886-8530-6F33F2BC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DC64-6CE6-42C7-BCC3-7E3EB056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FB8C-7E4E-4370-92FE-FCCF86406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3BB9-AEA2-4EE5-AD20-095EF80A5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B7AA-D0C7-4D63-B585-B61CCCA5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484F-AB92-4F6C-A8BF-3C3D62A0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18FA-DE54-45EC-AAD4-B66D7770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9538-D058-4D28-B0A0-CBAC94CA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CF01-8389-468C-9D92-78A7FF48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D792-94D7-423D-B57F-6EEF1ABA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EDE4-C1D9-4983-94E5-7D5EE655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ACE2-7405-43FB-B6B2-B8F07229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9272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15C25DF-60CF-4FD6-9FEF-9664CB703082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raditional and Modern Approaches to Modelling with R: An Advanced Cours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221000"/>
            <a:ext cx="6400800" cy="141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ill Venables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SIRO, Cleveland, Australia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2007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lotting the resul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ith(Janka,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g &lt;- range(Hardness, p1, p2, p3, na.rm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lot(Density, Hardness, ylim = rg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es(Density, p1, col="red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es(Density, p2, col="blue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es(Density, p3, col="green4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egend(0, 3000, paste("p", 1:3, sep="")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ty = 1, col = c("red", "blue", "green4")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ty = "n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)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1206-676C-4FA5-AA30-206D1D60547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49C2-1904-4018-A2D9-447D50E2AEE6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stability of coefficien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 &lt;- c(mean(janka$Hard), coef(jank.1),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ef(jank.2), coef(jank.3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 &lt;- matrix(0, 4, 4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[!lower.tri(w)] &lt;- x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imnames(w) &lt;- list(paste("Degree", 0:3),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ste("Model", 0:3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ound(t(w), 5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                    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Degree 0 Degree 1 Degree 2 Degree 3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Model 0  1469.4722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0.00000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0.00000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0.0000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Model 1 -1160.4997 57.50667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0.00000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0.0000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Model 2  -118.0074  9.43402  0.50908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0.0000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Model 3  -641.4379 46.86373 -0.33117  0.00596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7B2D-DF21-413A-AD45-A808641F69E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effect of centering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janka$d &lt;- scale(janka$Density, scale=F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jank.1a &lt;- lm(Hardness ~ d, janka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jank.2a &lt;- update(jank.1a, .~.+I(d^2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jank.3a &lt;- update(jank.2a, .~.+I(d^3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ange(fitted(jank.3a) - fitted(jank.3))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# check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-4.547474e-13  4.547474e-13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x &lt;- c(mean(janka$Hard), coef(jank.1a), coef(jank.2a),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oef(jank.3a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w[!lower.tri(w)] &lt;- x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nd(t(w), 5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 Unicode MS"/>
              </a:rPr>
              <a:t>     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egree 0 Degree 1 Degree 2 Degree 3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 0 1469.472 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0.00000  0.00000  0.0000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 1 1469.472 57.50667 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0.00000  0.0000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 2 1378.197 55.99764  0.50908 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0.0000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 3 1379.103 53.96095  0.48636  0.0059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940A-0756-4267-9304-0F861DBD8F5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Diagnostic plo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janka &lt;- transform(janka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FittedValue = fitted(jank.2)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Residual = resid(jank.2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g1 &lt;- xyplot(Residual ~ FittedValue, janka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panel = function(x, y, ...) 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panel.xyplot(x, y, col = "blue", ...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panel.abline(h = 0,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lty = "dashed", col = "red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}, las = 0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g2 &lt;- qqmath(~Residual, janka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panel = function(x, y, ...) 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panel.qqmath(x, ...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panel.qqmathline(x, x, distribution = qnorm,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col = "red", lty = "solid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}, las = 0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print(g1, position = c(0, 0.45, 0.55, 1), more = T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print(g2, position = c(0.45, 0, 1, 0.55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42B8-08D3-47AA-922A-5AFDEB0E6B6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66C3-E80A-4FD6-843A-B5695C23CD60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ransforma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A transformation may be needed to stabilize the variance.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his will also have an effect on the mean and may tend to linearise it as well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ibrary(MASS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r(mfrow = c(2,2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xcox(jank.1, lambda = seq(0, 0.75, len=10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itle(main = "Linear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ank.1t &lt;- update(jank.1, sqrt(.) ~ .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lot(fitted(jank.1t), resid(jank.1t), main = "Linear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bline(h = 0, lty="dashed", col="blue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xcox(jank.2, lambda = seq(-0.25, 0.6, len=10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itle(main = "Quadratic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ank.2t &lt;- update(jank.2, log(.) ~ .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lot(fitted(jank.2t), resid(jank.2t), main = "Quadratic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bline(h = 0, lty="dashed", col="blue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7752-B5E7-45E5-9F74-817C8FE8420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1DEE-85DC-44E3-92EE-B162F599929C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Messages so far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square-root transformation provides a straight-line relationship, but does not quite make the variance stab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~log transformation stabilizes the variance, but still requires a quadratic model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stable variance is much more important than a straight-line relationship, but can we have both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natural model to consider is a generalized linear model with constant coefficient of variation and square-root link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se suggest a gamma model.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359B-58CA-414C-B00A-3DCCFFCA93A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edictions from the transformed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janka2 &lt;- with(janka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.frame(Density =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q(min(Density), max(Density), len=200)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jank.2t &lt;- predict(jank.2t, new = janka2, se=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u &lt;- qt(0.975, 36 - 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janka2 &lt;- with(pjank.2t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ansform(janka2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an = fit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 = fit - tau*se.fit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p = fit + tau*se.fit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ias.corr &lt;- 0.5*sum(resid(jank.2t)^2)/pjank.2t$df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64CF-0FDB-4869-84FA-EAC127FBB8D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01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 and Modelling overview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edictions, cont’d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janka2 &lt;- transform(janka2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Hardness = exp(mean + bias.corr)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pper = exp(up + bias.corr)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wer = exp(lo + bias.corr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g &lt;- with(janka2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ange(Hardness, lower, upper, janka$Hardness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ith(janka2,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r(mfrow=c(1,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lot(Density, Hardness, type = "l", ylim = rg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es(Density, upper, lty=4, col=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es(Density, lower, lty=4, col=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ith(janka, points(Density, Hardness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6106-CAE2-4CF7-BDC9-5B7D8B06029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347C-3B7C-41D2-94AB-48EE94702BE5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quasi-likelihood GLM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8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jank.glm &lt;- glm(Hardness ~ Density, family =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quasi(link = sqrt, variance = "mu^2"), janka, trace = T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Courier New"/>
              </a:rPr>
              <a:t>Deviance = 0.3335429 Iterations - 1 </a:t>
            </a: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Courier New"/>
              </a:rPr>
              <a:t>Deviance = 0.3287643 Iterations - 2 </a:t>
            </a: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Courier New"/>
              </a:rPr>
              <a:t>Deviance = 0.3287642 Iterations - 3 </a:t>
            </a: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Courier New"/>
              </a:rPr>
              <a:t>Deviance = 0.3287642 Iterations - 4</a:t>
            </a:r>
            <a:r>
              <a:rPr b="1" lang="fr-FR" sz="12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jank.glm &lt;- predict(jank.glm, newdata = janka2, se.fit = T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janka3 &lt;- with(pjank.glm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transform(janka2, Hardness = fit^2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lower = (fit - 2*se.fit)^2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upper = (fit+2*se.fit)^2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rg &lt;- with(janka3, range(lower, upper, janka$Hardness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ar(mfrow=c(1,1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with(janka3, 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lot(Density, Hardness, type = "l", ylim = rg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lines(Density, upper, lty=4, col=3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lines(Density, lower, lty=4, col=3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with(janka, points(Density, Hardness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37AC-1F94-476F-AC4C-BCBA35FE1BA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DD9D-8AA0-41FC-8591-080F21045199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edictions from the untransformed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jank.2 &lt;- predict(jank.2, new = janka2, se=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au &lt;- qt(0.975, 36 - 3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anka2 &lt;- with(pjank.2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ransform(janka2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ardness = fit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pper = fit + tau*se.fit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ower = fit-tau*se.fit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g &lt;- with(janka2, range(lower, upper, janka$Hard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ith(janka2, 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ar(mfrow=c(1,1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lot(Density, Hardness, type = "l", ylim = rg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ines(Density, upper, lty=4, col=3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ines(Density, lower, lty=4, col=3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ith(janka, points(Density, Hardness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A0CC-B2E8-42F9-B48D-4E1D9A9FFE2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674B-54D1-43B8-9356-A3817CFF4D53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284720" y="450864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27280" y="306864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306864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134136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92720" y="4005000"/>
            <a:ext cx="792000" cy="6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3564000" y="3933360"/>
            <a:ext cx="720720" cy="6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059280" y="2276640"/>
            <a:ext cx="0" cy="72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1835280" y="2276280"/>
            <a:ext cx="792000" cy="86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716360" y="3429000"/>
            <a:ext cx="0" cy="100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516720" y="2349360"/>
            <a:ext cx="0" cy="64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1197000"/>
            <a:ext cx="914400" cy="914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12000" y="1125360"/>
            <a:ext cx="914400" cy="914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1640" y="2349360"/>
            <a:ext cx="914400" cy="914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04160" y="4781520"/>
            <a:ext cx="26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Linear models (L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27280" y="3284640"/>
            <a:ext cx="8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GL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1200" y="158112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G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26120" y="148428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GLM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0040" y="262260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LM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0840" y="328464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NL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00400" y="140184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NLM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/>
          <p:nvPr/>
        </p:nvCxnSpPr>
        <p:spPr>
          <a:xfrm flipV="1">
            <a:off x="1908000" y="1699920"/>
            <a:ext cx="648360" cy="46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</p:cxnSp>
      <p:sp>
        <p:nvSpPr>
          <p:cNvPr id="112" name=""/>
          <p:cNvSpPr/>
          <p:nvPr/>
        </p:nvSpPr>
        <p:spPr>
          <a:xfrm>
            <a:off x="452160" y="409680"/>
            <a:ext cx="71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Generalizations of Traditional Linear Models: a Road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79640" y="4581360"/>
            <a:ext cx="914400" cy="91440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ML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987640" y="501336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9457-D22A-4C2F-A983-A1A20AF37794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planation of acronym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Acronym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S fun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Linear Models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LM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lm, aov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ff"/>
                </a:solidFill>
                <a:latin typeface="Arial Unicode MS"/>
              </a:rPr>
              <a:t>Multivariate LMs</a:t>
            </a:r>
            <a:r>
              <a:rPr b="0" lang="en-GB" sz="2400" spc="-1" strike="noStrike">
                <a:solidFill>
                  <a:srgbClr val="66ffff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66ffff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66ffff"/>
                </a:solidFill>
                <a:latin typeface="Arial Unicode MS"/>
              </a:rPr>
              <a:t>MLM</a:t>
            </a:r>
            <a:r>
              <a:rPr b="0" lang="en-GB" sz="2400" spc="-1" strike="noStrike">
                <a:solidFill>
                  <a:srgbClr val="66ffff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66ffff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66ffff"/>
                </a:solidFill>
                <a:latin typeface="Arial Unicode MS"/>
              </a:rPr>
              <a:t>manova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Generalized LMs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GLM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glm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inear Mixed Models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MM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me, lmer, aov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Non-linear Models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NLM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n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n-linear Mixed Models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LMM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lm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eneralized LMMs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LMM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glmmPQL, lmer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Generalized Additive Ms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GAM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gam (mgcv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549F-674D-48E4-BC71-23FFAB71C82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tatistical modelling: a standpoint and overview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ypical modelling situation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esponse variable 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edictor variables 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, x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, x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, …, x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Unavoidable random variation: 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Z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~ N(0,1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onceptual model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et </a:t>
            </a: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lang="en-GB" sz="2800" spc="-1" strike="noStrike" baseline="-25000">
                <a:solidFill>
                  <a:srgbClr val="000099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be some point in the range of the data near which we would like to approximate the function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ssuming smoothness, we may do so by the first few terms in a power series expans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124000" y="3933720"/>
          <a:ext cx="5184720" cy="4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3933720"/>
                    <a:ext cx="518472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9B98-423C-42D1-AF01-6E705204A4B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Local approxima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irst order approximation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econd order approximation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403280" y="2349360"/>
          <a:ext cx="5616720" cy="10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349360"/>
                    <a:ext cx="5616720" cy="10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971640" y="4076640"/>
          <a:ext cx="7559640" cy="179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4076640"/>
                    <a:ext cx="755964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5FE2-730D-42E3-B4C6-54583EAB057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peculative conclus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egression models usually have an empirical justification as a local approximation to the response curve or surfac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08520" indent="-30852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y may only be useful in a close range about the observed data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08520" indent="-30852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xtending the range of usefulness for the approximation may require some allowance fo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68520" indent="-2570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econd (or higher) degree curvature term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68520" indent="-2570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teractions between variabl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68520" indent="-2570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n-normality of the error structure (skewness/kurtosis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68520" indent="-2570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great deal more data than is available!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D327-3195-4866-984E-4741600090A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Example: Janka hardness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99"/>
                </a:solidFill>
                <a:latin typeface="Arial Unicode MS"/>
              </a:rPr>
              <a:t>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ensity Hardness          Density Hardness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    24.7      484       19    42.9     127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2    24.8      427       20    45.8     118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3    27.3      413       21    46.9     140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4    28.4      517       22    48.2     176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5    28.4      549       23    51.5     171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6    29.0      648       24    51.5     201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7    30.3      587       25    53.4     188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8    32.7      704       26    56.0     198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9    35.6      979       27    56.5     182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0    38.5      914       28    57.3     202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1    38.8     1070       29    57.6     198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2    39.3     1020       30    59.2     231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3    39.4     1210       31    59.8     194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4    39.9      989       32    66.0     326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5    40.3     1160       33    67.4     270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6    40.6     1010       34    68.8     289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7    40.7     1100       35    69.1     274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8    40.7     1130       36    69.1     3140</a:t>
            </a:r>
            <a:r>
              <a:rPr b="0" lang="en-GB" sz="1200" spc="-1" strike="noStrike">
                <a:solidFill>
                  <a:srgbClr val="000099"/>
                </a:solidFill>
                <a:latin typeface="Courier New"/>
              </a:rPr>
              <a:t>  </a:t>
            </a: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with(janka, plot(Density, Hardness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xlim = range(0, Density), ylim = range(0, Hardness)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las=0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F805-4854-4CA0-81B4-9BAABCFE9A8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90600" y="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7287-3CA7-4B68-A3FB-DD198046BE8E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ome initial explora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ank.1 &lt;- lm(Hardness ~ Density, janka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ank.2 &lt;- update(jank.1, .~.+I(Density^2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ank.3 &lt;- update(jank.2, .~.+I(Density^3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anka &lt;- rbind(janka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ata.frame(Density = seq(0, 70, length=200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Hardness = NA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anka &lt;- Janka[order(Janka$Density), ]  </a:t>
            </a:r>
            <a:r>
              <a:rPr b="1" lang="en-GB" sz="1600" spc="-1" strike="noStrike">
                <a:solidFill>
                  <a:srgbClr val="ff0000"/>
                </a:solidFill>
                <a:latin typeface="Courier New"/>
              </a:rPr>
              <a:t># ordered densitie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anka &lt;- transform(Janka,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1 = predict(jank.1, Janka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2 = predict(jank.2, Janka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3 = predict(jank.3, Janka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F14C-F64F-4D4A-A6D6-7EEFC749F52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0" y="0"/>
          <a:ext cx="7956720" cy="614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956720" cy="61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ADBA-3BFD-415D-9CC8-66EABA616700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8-06T23:50:50Z</dcterms:modified>
  <cp:revision>28</cp:revision>
  <dc:subject/>
  <dc:title>S-PLUS, An Introduction to the System</dc:title>
</cp:coreProperties>
</file>