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E17-D7C8-47DF-8932-7813994D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B90-3ECF-4545-AA2D-2E26091F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531-8F9A-460E-B451-27538EBE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6D0-8BAA-4520-BDD2-0E034498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68C-2C7D-4AE6-B795-C1B242A7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4D4-ED99-4B0F-A977-B97F47E0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135-F493-49CB-A4F0-96B4BBB5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2EC-E858-46BF-BF52-15B4DBAB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8D3-C2A8-4E81-BAA8-07479046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B85-161B-4AE1-A6A3-6586B55E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9FD-D66A-49D0-B81A-42020D4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905-7CB8-4852-AB5A-BC620592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2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6F0E44-9330-48F5-8FBB-15758E823DBB}" type="slidenum">
              <a:rPr b="1" lang="en-GB" sz="12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Graphics: A closer loo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anging Lattice parameters and adding key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en a Lattice device is opened, it has various colours, line-types, plotting symbols, &amp;c associated with it that any printing of Lattice objects will u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can change these choices – but it gets mess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need to know how to access this scheme if you want to set a key saying what’s wha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st to keep an example on hand that works and re-read the help information with this example in mi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492-95E9-4E9E-A76F-333984FE6E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tting and setting Lattice p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device(x1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 &lt;- trellis.par.get("superpose.symbol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cex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0.8 0.8 0.8 0.8 0.8 0.8 0.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pch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1 1 1 1 1 1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$pch &lt;- 1: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par.set("superpose.symbol", sp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CB0-BC65-4F60-93FC-32F7F35B795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Stormer viscometer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32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ependent variable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Independent variables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, Weigh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oretic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Plotting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should give straight lines with slope depending on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Weight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Time ~ Viscosity, stormer, groups = Wt, type = "b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Stormer viscometer calibration data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v.off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97080" y="2604960"/>
          <a:ext cx="237636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2604960"/>
                    <a:ext cx="23763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D1D-76DF-4AD8-8479-CD916D52C2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968-6782-4AF5-9645-52FA5FA4FBA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the ke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xyplot(Time ~ Viscosity, stormer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groups = W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type = "b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AU" sz="3200" spc="-1" strike="noStrike">
                <a:solidFill>
                  <a:srgbClr val="000000"/>
                </a:solidFill>
                <a:latin typeface="Courier New"/>
              </a:rPr>
              <a:t>auto.key = TRUE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"Stormer viscometer calibration data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CEC-6C32-414B-A505-D14554205B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5CC-DF88-43A3-BFAC-3A222864B7A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rtificial example: adding fitted val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 &lt;- data.frame(x = rep(1:20, 10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 = factor(rep(LETTERS[1:10], each = 20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y &lt;- (dummy$x - 10.5)^2 + rnorm(100, sd = 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m &lt;- lm(y ~ f + poly(x, 2), dummy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fitted &lt;- fitted(fm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, subscripts = T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e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st(xlim = range(x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lim = range(y, dummy$fitted[subscripts]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x = diff(range(x)), dy = diff(range(y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spline(x, dummy$fitted[subscripts]), col = 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 aspect = "xy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943-FE92-4CF5-BD49-0E60EBEA35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493236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236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19640" y="2252520"/>
          <a:ext cx="515304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252520"/>
                    <a:ext cx="5153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2B6-4235-4B1D-8683-D3B192B6009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ree-dimensional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nd("volcano.S")  </a:t>
            </a:r>
            <a:r>
              <a:rPr b="0" lang="en-GB" sz="1400" spc="-1" strike="noStrike">
                <a:solidFill>
                  <a:srgbClr val="ff0000"/>
                </a:solidFill>
                <a:latin typeface="Courier New"/>
              </a:rPr>
              <a:t># courtesy Ross Ihak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package:datasets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matrix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gt; dim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87 6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# volcano &lt;- as.matrix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&lt;- 10*(1:nrow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 &lt;- 10*(1:ncol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dat &lt;- transform(expand.grid(x = x, y = y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 = as.vector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heat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evelplot(v ~ x*y, vda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topo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ireframe(v ~ x*y, vdat, drape = 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29C-4708-402C-B691-93308DA26A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heat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 contour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retty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opo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reframe(v ~ x*y, vdat, drape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errain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E5C-852B-4C3A-953F-33A60C7A8D9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traditional graphics, but based on it and roughly parallel to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mplementing the ideas of Bill Cleveland, and simplest to use when defaults are appropria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cremental construction is not feasible: the entire object must be constructed in a seamless oper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unctions generate Lattice objects; it is the printing of these objects that produces graphical outpu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objects may be updated, but this is not often necess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st of functions – page 91 of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FAE-871D-4B0F-90E1-5E4A328587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3FF-A202-4858-B1A6-D4E93FEB58D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7C6-726A-47C4-906D-180917D744C2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8E7-9F0C-42DB-876D-0D90C1368DC9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ynamic ver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g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 &lt;- 2 * volcano     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Exaggerate the relie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x &lt;- 10 * (1:nrow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S to N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y &lt;- 10 * (1:ncol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E to W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im &lt;- range(z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en &lt;- zlim[2] - zlim[1] +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orlut &lt;- topo.colors(zlen)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color lookup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&lt;- colorlut[ z-zlim[1]+1 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assign colors to heights for each poi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en3d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urface3d(x, y, z, color=col, back="line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100-312A-4C24-B0FF-95F387A93E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502-74C2-420C-926D-7C4627C86957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762-FA6A-475C-9BAA-8B63579568CB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DDB-66B1-4E4A-89FC-992369B441E3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e example: the Whitesid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MA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ames(whitesid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"Insul" "Temp"  "Gas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, aspect = 0.6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dily apparent that insulation reduces the need for heating gas, but the slope is less negative with increasing temperatur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8D8-69C7-476E-A65A-0956B789F2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932-9D87-43A2-9EA0-D062AADE640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ll in one ca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RUE, aspect = 0.61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im = c(0, max(whiteside$Gas)+0.5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ayout = c(2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BD7-CB65-4B47-ACC4-CDB533BC86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tra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ke sure the y-axis has a zero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im = c(0, max(whiteside$Gas)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ive proper labels to the x- and y-axes and add a main label at the top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Temperature"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de-by-side layou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ayout = c(2,1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862-D947-4DEB-8640-B4DA1139C9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9279" r="0" b="22570"/>
          <a:stretch/>
        </p:blipFill>
        <p:spPr>
          <a:xfrm>
            <a:off x="611280" y="620640"/>
            <a:ext cx="8064360" cy="468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877-547F-4BDA-B9B2-E6DC3ECE705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-linking the sca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External 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Whiteside heating data", aspect = 0.6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...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scales = list(relation = "free"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plot is now almost misleading!  Where possible make full use of linked scales in the panel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9CA-9371-4CD1-9F1F-FCDCC47385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C9D-7FCA-4FA7-9031-3FEA9C5B842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0:36:20Z</dcterms:modified>
  <cp:revision>18</cp:revision>
  <dc:subject/>
  <dc:title>S-PLUS, An Introduction to the System</dc:title>
</cp:coreProperties>
</file>