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F05-78E0-4716-A41A-50308522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625-F995-413B-BCA4-9744DA85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7F6-A915-4090-B17D-4021AA73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AB5-E333-4840-AB85-E1E1126A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A0B-E161-414C-A31B-379E8C97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4D8-CF82-49C8-B0A8-00193902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97B-8246-473B-8936-1B9728DB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119-C917-4BD1-A1A2-837A34B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D7D-22EE-4134-88CA-7D6EA6D4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C28-A7C4-4B95-82DC-1DDFB435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E16-B932-47D0-996F-22A348D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963-9225-40EB-992B-13A01D50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F1C22D-B625-4713-ACF3-70F5D6631777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-based models: tree and rpar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19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Now fit the first model with a very small minimum splitting siz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rpart, first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t1 &lt;- rpart(log(perf) ~ syct + mmin + mmax + cach + chmin + chmax,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at1, minsplit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t1)  # not good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[1] 0.572312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See how the tree look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pus.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xt(cpus.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847-BEA6-4186-9A05-044AD2C6408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7777" r="0" b="11185"/>
          <a:stretch/>
        </p:blipFill>
        <p:spPr>
          <a:xfrm>
            <a:off x="755640" y="0"/>
            <a:ext cx="7632720" cy="61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442-1396-458A-9A46-34FD70BDAF20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 cpus.t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= 1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de), split, n, deviance, yval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 denotes terminal nod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) root 100 104.7362000 4.150773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) cach&lt; 31 68  29.9160800 3.628058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) mmax&lt; 11240 51  11.9181500 3.391328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8) syct&gt;=750 9   0.5870328 2.740580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9) syct&lt; 750 42   6.7031610 3.530774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8) mmax&lt; 5500 24   2.3057870 3.342837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) mmax&gt;=5500 18   2.4194180 3.781358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5) mmax&gt;=11240 17   6.5655770 4.338247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0) chmin&lt; 5 13   1.7793700 4.052730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1) chmin&gt;=5 4   0.2822183 5.266178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) cach&gt;=31 32  16.7585700 5.261541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) syct&gt;=36.5 19   3.9935560 4.854145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) mmax&lt; 14000 7   0.6427171 4.428796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) mmax&gt;=14000 12   1.3456220 5.102265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7) syct&lt; 36.5 13   5.0026270 5.856967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4) mmax&lt; 48000 10   1.5606240 5.582417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5) mmax&gt;=48000 3   0.1756196 6.772136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EFB-942B-42C2-82A0-BEBAB6BF870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uning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important to prune trees so th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are small enough to avoid putting random variation into predic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are large enough to avoid putting systematic biases into predic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ross-validation is the normal tool for this purpo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has a quick version, but tools for a more thorough version if need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has tools for the more thorough version, (but the onus is still on the user to do it thoroughl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BFC-0B59-4D75-B7FF-FF89930815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ross-validation in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a cost-complexity measur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complexity parameter,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, regulates the trade-off between accuracy in the training sample and simplicity in the resul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y building trees on rotating sections of the data and predicting for the omitted sections we get some idea on the kind of value that might be appropriate for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‘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One SE’ rule suggests a choice of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332000" y="2276640"/>
          <a:ext cx="676908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76640"/>
                    <a:ext cx="6769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712-ABF2-4403-AEC6-A69D94F9D5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1800" y="1890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cp(cpus.t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989680" cy="59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DEB-2757-42E4-A034-F0F724A08776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ather than 8 nodes this suggests that about 6 nodes are warranted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t2 &lt;- prune(cpus.t1, cp=0.019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t2)  ## slightly worse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[1] 0.608650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 &lt;- predict(cpus.t1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2 &lt;- predict(cpus.t2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r(cbind(log(cpusTest$perf), py.tree, py.tree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  py.tree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.0000000 0.8454302 0.824757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  0.8454302 1.0000000 0.985443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2 0.8247576 0.9854434 1.00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uning seems not to have paid off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69C-31F8-46F7-9CD7-4A2B4DDC6F1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7840" y="495360"/>
            <a:ext cx="216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pus.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xt(cpus.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9118" r="0" b="12748"/>
          <a:stretch/>
        </p:blipFill>
        <p:spPr>
          <a:xfrm>
            <a:off x="1979640" y="1197000"/>
            <a:ext cx="662472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9B5-BD46-4932-9859-AA83D8496B37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19120" y="136440"/>
            <a:ext cx="642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 = c(1,2), pty = "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log(cpusTest$perf), py.tree, asp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log(cpusTest$perf), py.tree2, asp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18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DE3-99E8-41C4-AFAA-5AADA7A89DD7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otstrap Aggregation (or ‘Bagging’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echnique for considering how different the result might have been if the algorithm were a little less greed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training samples of the data are used to construct a ‘forest’ of tre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ions from each tree are averaged (regression trees) or ‘majority vote’ (for classification tre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ow many trees in the forest is still a matter of some debate, but ‘lots’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‘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ndom Forests’ develops this idea much furth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451-9BA4-4135-A1D5-EE5F175442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wo librar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library is like the S-PLUS native library and implements the traditional S-PLUS tree technolog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brary is due to Beth Atkinson and Terry Therneau of the Mayo Clinic, Rochester, NY.  It implements a technology much closer to the traditional CART version of trees due to Friedman, Breiman, Olshen and Ston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th have their advantages and disadvantages.  We mostly favour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version here, but most examples can be done on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library as wel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069-C9E7-415A-9231-4994BA1ABC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bagging fun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sample &lt;- function(dataFrame) </a:t>
            </a:r>
            <a:r>
              <a:rPr b="1" lang="en-AU" sz="1800" spc="-1" strike="noStrike">
                <a:solidFill>
                  <a:srgbClr val="ff0000"/>
                </a:solidFill>
                <a:latin typeface="Courier New"/>
              </a:rPr>
              <a:t># bootstrap sampling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ataFrame[sample(nrow(dataFrame), rep = T), 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impleBagging &lt;- function(objec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ata = eval(object$call$data), nBags = 200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 &lt;- list(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nBags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[[j]] &lt;- update(object, data = bsample(data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ldClass(bagsFull) &lt;- "bagRpart"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edict.bagRpart &lt;- function(object, newdata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owMeans(sapply(object, predict, newdata = newdata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D44-7015-4E19-BEF3-B37E75C20C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ecute and compare resul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pus.bag &lt;- simpleBagging(cpus.t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stPred(cpus.bag)  # bit better!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] 0.46789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y.bag &lt;- predict(cpus.bag, cpusTes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r(cbind(log(cpusTest$perf), py.bag, py.tree, py.tree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bag   py.tree  py.tree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.0000000 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0.9093912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0.8454302 0.824757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bag   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0.9093912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1.0000000 0.9609053 0.94023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tree  0.8454302 0.9609053 1.0000000 0.98544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tree2 0.8247576 0.9402384 0.9854434 1.000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CB1-3A69-4B16-AB97-30BCC697B2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404640"/>
            <a:ext cx="48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0920" y="7920"/>
            <a:ext cx="6840720" cy="684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00" y="353880"/>
            <a:ext cx="5423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ar(mfrow = c(2,2), pty = "s"); fram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bag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tree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tree2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5CD-A6A6-42E7-ADBF-C3FF5DA11AAD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big gu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The Random Forest technique, due to Leo Breiman and his colleagues, is a further development of bagging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It includes subsampling of the possible predictors at every possible split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Generally accepted as one of the best of the simple methods for improving the stability of tree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Available as the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andomForest</a:t>
            </a: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 package for </a:t>
            </a:r>
            <a:r>
              <a:rPr b="0" i="1" lang="en-AU" sz="2000" spc="-1" strike="noStrike">
                <a:solidFill>
                  <a:srgbClr val="000099"/>
                </a:solidFill>
                <a:latin typeface="Courier New"/>
              </a:rPr>
              <a:t>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equire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rf &lt;- randomForest(log(perf) ~ ., cpus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rf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[1] 0.410411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C0E-EF9B-4217-9CE4-B62C85DE60F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Putting it all togeth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rf &lt;- predict(cpus.rf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ound(cor(cbind(log(cpusTest$perf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, py.tree2, py.bag, py.rf)),4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 py.tree2 py.bag  py.r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1.0000  0.8454   0.8248 0.9094 0.930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  0.8454  1.0000   0.9854 0.9609 0.9429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2 0.8248  0.9854   1.0000 0.9402 0.925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bag   0.9094  0.9609   0.9402 1.0000 0.990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rf    0.9305  0.9429   0.9250 0.9905 1.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73B-DA09-4D85-AAAF-05C362996DE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Values against predi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, pty = 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pusTest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rf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bag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tree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tree2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8ED-05B8-484A-AE7E-A6F3918FC70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24000" y="162000"/>
            <a:ext cx="6696000" cy="66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146-0ADE-4B01-9A40-54A524404338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ynoptic foreca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efault prediction method for classification trees is to give a matrix of probabilities of class membership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allows the membership situation to be more clearly appreciat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class” rule simply chooses the class with maximum posterior probabilit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Bagging in classificat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usual recommendation is to use a ‘majority vote’ ru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5F1-B1DD-4A84-8BA8-F1C55B947E9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pilogu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ree models have brought statistical modellers and the machine learning fraternity closer togethe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 predictors they offer some useful features, but suffer from instability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agging is an attempt to overcome this instability, but has only limited succes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reiman &amp; Cutler’s ‘Random Forests’ offers a refinement of bagging that looks very promising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oosting’ is an alternative to bagging, but much more difficult to implement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rees in data analysis: often revealing, but there is often a danger to read too much into the split variable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DA7-9535-46E2-872A-6A1794DD40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oal is to construct a predictor, perhaps at the cost of a safe interpretation of how it wor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s are easy to interpret, but relying on that interpretation can be hazardou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cursive partitioning: Note that this is a greedy algorith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wo kinds of tre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Regress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continuous response with deviance measured as least squares – exactly the same as for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Classificat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factor response with deviance measured by entropy (or Shannon-Wiener Information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6D6-814C-49D6-B1F8-E1BA6E290E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cursive partition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ssume a homogeneity measure – least squares or entrop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a given variable, find the point at which the responses are divided into the two most homogeneous group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oose the variable which does this best and divide the sample into two groups at the best poin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pply the same procedure recursively to each sid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top when either the node is completely homogeneous or contains too few observations to continu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C3A-98E4-4946-B919-F7901AE62D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84720" y="476280"/>
            <a:ext cx="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1628640"/>
            <a:ext cx="403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1628640"/>
            <a:ext cx="0" cy="15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1628640"/>
            <a:ext cx="0" cy="15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579640" y="314172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141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72360" y="3141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4437000"/>
            <a:ext cx="19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44370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44370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125360"/>
            <a:ext cx="8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263700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 &lt;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93372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&lt;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256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19640" y="532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5300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9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7320" y="404640"/>
            <a:ext cx="38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decision tree with four terminal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F6E-9E52-451A-BD22-9067ABAA993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the CPUs data agai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cal example from the prediction literature – a set of CPUs whose log-performance is to be predicted using some qualitative measur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names(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"name"    "syct"    "mmin"    "mmax"    "cach"    "chmin"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7] "chmax"   "perf"    "estperf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im(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209   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begin using a pruned tre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compare the results using a bagging approac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0E1-9BD6-40B0-B15A-BB53C612B9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ransformed response scale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 'log' transform seems natur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ne way of showing that it is acceptabl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 &lt;- cpus[, 2:8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6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[[j]] &lt;- cut(rank(CPUs[[j]],ties = "r"),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m &lt;- lm(perf ~ ., 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oxcox(fm, lambda = seq(-0.15, 0.15, len = 10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BD7-F7AD-478B-82ED-E1466C8EDB5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A1E-702E-4268-9991-1E189579A91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Arial Unicode MS"/>
              </a:rPr>
              <a:t>First split the data into training and test sets and set up a test function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et.seed(38267251) # My phone number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.samp &lt;- sample(nrow(cpus), 10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Train &lt;- cpus[cpus.samp, 2:8] # omit name and manufactuer's estimat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Test &lt;- cpus[-cpus.samp, 2:8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estPred &lt;- function(fit, data = cpusTest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 mean squared error for the performance of a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 predictor on the test data.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estVals &lt;- log(data[, "perf"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redVals &lt;- predict(fit, data[, 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qrt(sum((testVals - predVals)^2)/nrow(dat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library(rpar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.t1 &lt;- rpart(log(perf) ~ syct + mmin + mmax + cach + chmin + chmax, cpusTrain, minsplit = 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4A7-9994-442A-B263-2AFBCA0303F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1:43Z</dcterms:modified>
  <cp:revision>20</cp:revision>
  <dc:subject/>
  <dc:title>S-PLUS, An Introduction to the System</dc:title>
</cp:coreProperties>
</file>