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D57-276E-4C80-80C0-9AE79345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09F-1D78-4DE5-BC5B-87AEA0BC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A24-78A9-4FA0-8C95-6157BABE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93A-FDB2-4E5D-928E-FF102321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6D0-D0F7-4366-A04C-F13425E6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530-043D-4628-924C-65FD51AA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C21-3FBE-4853-9D13-264B7F73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CDD-3B28-4971-A712-F803189F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722-A5D2-4648-A86E-0E767DD3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C7C-7E3F-401C-983B-F4834D1B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A9E-1F43-4B59-AEF1-278CA0C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EA4-6DE5-4D76-936D-74A6822C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96D5E5-8821-4BF9-A4D8-9B04E38A70B1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9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wtloss$Day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*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wt.lm1, data.frame(Days = rg[1] + 1:3*del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del*log(2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Weight ~ I(2^(-Days/t0)), wtlo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 &lt;- 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1 &lt;- nls(Weight ~ b0+b1*2^(-Days/tau), wtloss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nit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46115 :   82.51384 101.67121 139.21188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85 :   81.39093 102.66630 141.8709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76 102.68416 141.9104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84D-E969-4706-BF64-A43634F2F2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50920" y="2421000"/>
          <a:ext cx="5329440" cy="41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421000"/>
                    <a:ext cx="532944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879480" y="1413000"/>
            <a:ext cx="50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data.frame(Days = 0:7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$Weight &lt;- predict(wt.nls1, t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tmp, type="l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B91-EE88-4E6C-9FDF-0C287D10BB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menting it inside a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val &lt;- function(y, x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ith(wtloss, ival(Weight, Day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b0       b1      tau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81.3299 102.7232 142.01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D3C-CD00-4AB3-BE12-8B4A1E6B50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rivativ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non-linear least squares fitting algorithm can use first derivatives if they are availabl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regression function must be an S function that returns the values with the derivatives as an attribut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re is an important tool for doing the differentiation and providing the function in one step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gexp &lt;- deriv(~ b0 + b1*2^(-x/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("b0", "b1", "tau"),function(x, b0, b1, tau) {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.nls2 &lt;- nls(Weight ~ negexp(Days, b0, b1, 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loss, start = with(wtloss, ival(Weight, Days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501 :   81.3299 102.7232 142.01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40 102.6840 141.90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703-0A6D-4E71-AD9C-0703F67C97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negex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function (x, b0, b1, tau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expr3 &lt;- 2^(-x/tau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 &lt;- b0 + b1 *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 &lt;- array(0, c(length(.value), 3L), list(NULL, c("b0", "b1", "tau"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0"] &lt;-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1"] &lt;-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tau"] &lt;- b1 * (.expr3 * (log(2) * (x/tau^2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attr(.value, "gradient") &lt;- .gra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8BD-DCCB-4D0C-B2B1-A011063E477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it all together: Self-starte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(S-)function may also include an attribute giving an algorithm for finding initial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is is possible, it makes fitting such non-linear models very convenient, and if the initial value routine is good, very secu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riting such a self-starting regression function requires us to use some obscure conventions.  This is necessary because it has to cohere to the model fitting function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about to write a function that will not be called by us, but by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ls(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767-4522-4A15-98A7-C99ABB4984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ival &lt;- function(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mCall, data, LH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y ~ b0 + b1*2^(-x/tau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x &lt;- eval(mCall[["x"]]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y &lt;- eval(LHS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 &lt;- list(ab[1], ab[2],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names(pars) &lt;- mCall[c("b0", "b1", "tau")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4D6-B38D-4A72-9517-67CD447066A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negexp &lt;- selfStart(model = ~ b0 + b1*2^(-x/tau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 = SSival, parameters = c("b0", "b1", "tau"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emplate = function(x, b0, b1, tau) {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3 &lt;- nls(Weight ~ SSnegexp(Days, a, b, t), wtlos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501 :   81.3299  102.7232  142.014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40  102.6840  141.909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pretty good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F63-3881-4ABA-B8AA-6A8FF9AF3B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weight loss data: summa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wt.nls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 Weight ~ SSnegexp(Days, a, b,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er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81.374    2.26899 35.863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102.684    2.08275 49.302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141.910    5.29449 26.80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standard error: 0.894937 on 49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rrelation of Parameter Estimate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    b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-0.989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-0.986  0.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FD4-D936-4FAD-A207-D4826D4FB4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Stormer Viscome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is of the fo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gnoring the error, simplifying and re-writing giv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t is easy: regress y = wT on x1 = V and x2 = T with no intercep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3640" y="2205000"/>
          <a:ext cx="23763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205000"/>
                    <a:ext cx="2376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059280" y="3573360"/>
          <a:ext cx="326052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573360"/>
                    <a:ext cx="32605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0DC-10AC-4937-AA89-12F63EE72B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weight lo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"/>
          <p:cNvSpPr/>
          <p:nvPr/>
        </p:nvSpPr>
        <p:spPr>
          <a:xfrm>
            <a:off x="676800" y="141300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wt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977080" cy="45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F2F-450F-427B-B870-72F5B23637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out the stormer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Sival.storm &lt;- function(mCall, data, LHS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 y ~ b*x1/(x2-the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1 &lt;- eval(mCall[["x1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2 &lt;- eval(mCall[["x2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 &lt;- eval(LHS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 &lt;- lsfit(cbind(x1, y), x2*y, int = F)$coe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cf) &lt;- mCall[c("b", "theta")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 &lt;- selfStart(model = ~ b*x1/(x2-theta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itial = SSival.storm, parameters = c("b", "theta"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 = function(x1, x2, b, theta) {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.nls1 &lt;- nls(Time ~ storm(Viscosity, Wt, beta, tau), stormer, trace=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85.3645 :  28.875541  2.843728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1098 :  29.393464  2.23327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327  2.21822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257  2.218274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A6F-9EFA-4EDA-81C1-F3AFAE9A9E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fidence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rginal intervals are available as estimate 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± 2SE in much the same way as LM/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Joint intervals are sometimes useful.  These need to be constructed individual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Profiling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can also be used to find likelihood ratio intervals and to give some idea of join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ehaviour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of the estimat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nls1$call$trace &lt;- FALSE # turn off the trac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pf &lt;- profile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ot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s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47E-4F22-4748-8E70-3F77C9B825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018720" cy="46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C86-4BD8-4BCC-AFDF-FC5C49129CB6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404-7ACD-442F-8AF5-1ECAD5269DA4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haviour of the log-likelihood surface near the MLE appears to be quadratic, implying that the approximate confidence intervals are probably reason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arameter estimates are highly correla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more detailed behaviour we need to look at the bivariate surface direc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A79-2A03-4DCF-BAC3-45EE933037D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56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 &lt;- sqrt(diag(vcov(storm.nls1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seq(-5, 5, length = 10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 &lt;- expand.grid(beta = b[1] + del*se[1], tau = b[2] + del*se[2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gfn &lt;- with(storm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Viscosity, Stm$beta)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Wt, Stm$tau, "-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 &lt;- matrix(stormer$Time, nrow(stormer), nrow(Stm)) - Regf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colSums(res*res)/1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with(Stm, log10(1 + RSS - min(R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plot(RSS ~ beta + tau, Stm, contour = TRUE, pretty = TRU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l.regions = rev(heat.colors(100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 &lt;- round(quantile(Stm$RSS,0:10/10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ourplot(RSS ~ beta+tau, Stm, at=con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EE0-2563-4A7B-927E-051C5305A7E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6CF-CD52-4C38-B4B5-034750433E38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83A-8F77-41D3-B31B-E3F0AE440015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possible ways of using bootstrap ideas on non-linear regress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observations themselves: Could lead to cases where the model is non-estim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residuals, centred or uncentr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Bayesian bootstrap”: give each observation a variable weight (as the ordinary bootstrap does) and vary the weights.  It can be shown that an exp(1) weight is appropriate.  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Rubin, D. B. (1981). The Bayesian Bootstrap. </a:t>
            </a:r>
            <a:r>
              <a:rPr b="0" i="1" lang="en-GB" sz="1800" spc="-1" strike="noStrike">
                <a:solidFill>
                  <a:srgbClr val="3333cc"/>
                </a:solidFill>
                <a:latin typeface="Arial Unicode MS"/>
              </a:rPr>
              <a:t>Annals of Statistics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</a:t>
            </a:r>
            <a:r>
              <a:rPr b="1" lang="en-GB" sz="1800" spc="-1" strike="noStrike">
                <a:solidFill>
                  <a:srgbClr val="3333cc"/>
                </a:solidFill>
                <a:latin typeface="Arial Unicode MS"/>
              </a:rPr>
              <a:t>9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130-1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4C4-4652-42E2-B17C-D173CED7EE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demonstration: the weights are “about right”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 &lt;- v &lt;- numeric(1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(j in 1:100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factor(sample(1:50, 50, rep = T), levels = 1:5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table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[j] &lt;- mean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[j] &lt;- var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v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.01306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v &lt;- rexp(5000, 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89904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ar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6230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6D5-B9B7-43BB-AE8E-A7ECA777784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al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lynomial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– too pessimistic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ubic – no evidence yet of an inflex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vantag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evidence from dietary the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ear advantages in short-term extrapol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sadvantage: harder to fi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3573360"/>
          <a:ext cx="460836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573360"/>
                    <a:ext cx="4608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792-5DBF-4435-A90F-43CDFF5F8C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rexp(nrow(stormer),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p &lt;- try(update(storm.nls1, weights = w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colMeans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] 29.344850  2.27803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var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,]  0.3468216 -0.309030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2,] -0.3090304  0.37185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7A0-8171-4861-9FBA-ADA5EFE8F93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s &lt;- scale(resid(storm.nls1), scale = 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t &lt;- stormer$Time - 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hisY &lt;- as.vector(yt + sample(rs, rep = 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mp &lt;- try(update(storm.nls1, ThisY ~ .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colMeans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] 30.10174  1.947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var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,]  0.7475719 -0.495094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2,] -0.4950940  0.38826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6E6-DB2B-4632-9520-E8A024E98819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Final compari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09367 0.932128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0.52142 3.380051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1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37939 0.723661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1.69766 3.111560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tau &lt;- qt(0.975, nrow(stormer)-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b &lt;- coef(storm.nls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se &lt;- sqrt(diag(vcov(storm.nls1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rbind(b - tau*se, b + tau*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eta      tau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,] 27.49730 0.83424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,] 31.30521 3.6023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071-9B53-4F78-AC95-3AFED501998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confidence intervals for the parameters can be relatively straightforward, if the model is small and the data set manage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"Tests of fit" are not automatically available.  Graphical examination of residuals is important here, as elsew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639-F1BE-48C1-B333-ACD745A308E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mpirical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lm1 &lt;- lm(Weight ~ poly(Days, 3)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ith(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ays = seq(min(Days), max(Days), len = 1000), Weight = NA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rbind(Wtloss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tloss[order(Wtloss$Days),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$pWeight &lt;- predict(wt.lm1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brary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Weight ~ Days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ines(x, Wtloss$pWeight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F52-FC99-4F86-BED9-2AAF91DC6B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2D9-29AE-4C13-A60C-588E03176E4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523080" y="12477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0:700, predict(wt.lm1, data.frame(Days = 0:70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ype = "l", xlab = "Days", ylab = "Weight"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wtloss, points(Days, Weight, pch = 4, col = "blue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7158" r="0" b="0"/>
          <a:stretch/>
        </p:blipFill>
        <p:spPr>
          <a:xfrm>
            <a:off x="1692360" y="2205000"/>
            <a:ext cx="57592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B67-2C3B-44EE-9018-1109B2923FC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algorithm: guess them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nls0 &lt;-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ls(Weight ~ b0 + b1 * 2^( - Days/tau)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rt = c(b0 = 70, b1 = 122, tau = 150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769.5897  :   70 122 15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2.10227 :   81.57397 102.48311 142.585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3 :   81.3761  102.6819  141.90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  :   81.3738  102.6841  141.9104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F61-5F09-4E73-8095-734A7E1274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trapolation under the non-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"/>
          <p:cNvSpPr/>
          <p:nvPr/>
        </p:nvSpPr>
        <p:spPr>
          <a:xfrm>
            <a:off x="504000" y="1125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nes(0:700, predict(wt.nls0, data.frame(Days = 0:70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= "green4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h = coef(wt.nls0)[1], lty = "dashed", col = "blu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128680"/>
            <a:ext cx="626436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7AF-8F87-4F54-B479-13564BC83D7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algorithm: calculate approximate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00000" y="2492280"/>
          <a:ext cx="4392720" cy="31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43927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199-B7D7-4806-8B49-C540EB9FAE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2:26:14Z</dcterms:modified>
  <cp:revision>27</cp:revision>
  <dc:subject/>
  <dc:title>S-PLUS, An Introduction to the System</dc:title>
</cp:coreProperties>
</file>