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F68E-E38D-452D-B7EA-3F0C1899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8E61-4E89-4D3E-BA57-17830755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561D-D50B-4D82-8991-C7383B352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BB15-3598-45C6-A9E2-DECB4965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B5F0-FAC8-40F3-A227-CBA5B15A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E8BB-38EA-4B12-81D3-BDAE6ACD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B4CC-37D5-4B11-A4DD-556A3D0D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41A-5BE8-4ACA-8883-15836819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280E-EEFF-4542-A3A1-9B297606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13C-767A-40C4-86B2-02FF5019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BF47-4F0C-43EB-8B7D-6F2AB2EF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157F-E3A2-4A9B-B14E-95D5F694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C03516E-791C-41C9-A358-E7E89DE9CA49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8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s an Introdu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peculative comm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emp4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Two very hot years had crop damage during harvest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Wide range where little difference, but very dry years may lead to a reduced yield and very wet years to an enhanced one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One very dry growing month led to a reduced yield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ear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Strongest and most consistent predictor by far.  Some evidence of a pause in new varieties during the war and immediately post-war period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E4E-9D14-448B-9DB8-AC6A7332B5E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entative inferenc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83664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gt; summary(iowa.gam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amily: gaussian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ink function: identity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ormula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ield ~ s(Temp4, k = 5) + s(Rain0, k = 5) + s(Rain2, k = 5) 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Year, k = 5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arametric 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stimate Std. Error t value Pr(&gt;|t|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Intercept)   50.000      1.035   48.32   &lt;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pproximate significance of smooth term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df Est.rank      F  p-valu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Temp4) 2.303        4  4.067   0.012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Rain0) 2.686        4  2.343   0.085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Rain2) 1.000        1  1.682   0.207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(Year)  3.180        4 14.477 5.02e-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-sq.(adj) =  0.797   Deviance explained = 85.5%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CV score = 51.074   Scale est. = 35.334    n = 3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31D1-91A7-49E7-ADFE-9F35543F395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an we get to the same place with GLMs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pline terms: specified with ns(x, …) or bs(x, …), differ only in behaviour near the end poi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y specify the knot and boundary knot positions (recommended if prediction will be needed) or the equivalent degrees of freedom (OK for exploratory purpos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ach spline term is a collection of ordinary linear terms, but the coefficients have no simple meaning and the individual significance tests are meaningless.  Best regarded as a single composite term and retained or removed as a block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6AE-8412-4722-B1DB-610683F71EE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31640" y="758880"/>
            <a:ext cx="828072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ibrary(splines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iowa.ns &lt;- lm(Yield ~ ns(Temp4, df=3) + ns(Rain0, df=3) + ns(Rain2, df = 3) + ns(Year, df=3), Iow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termplot(iowa.ns, se=T, partial.resid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ropterm(iowa.ns, test = "F", k = log(nrow(Iowa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ield ~ ns(Temp4, df = 3) + ns(Rain0, df = 3) + ns(Rain2, df = 3) 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Year, df = 3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Sum of Sq     RSS     AIC F Value     Pr(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                      726.26  147.47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Temp4, df = 3)  3    274.60 1000.86  147.56    2.52   0.087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Rain0, df = 3)  3    332.31 1058.57  149.41    3.05   0.0523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Rain2, df = 3)  3     70.61  796.87  140.04    0.65   0.5932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s(Year, df = 3)   3   2022.93 2749.19  180.91   18.57 5.339e-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2D5E-B1C0-433D-9958-44B802F7F22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7280" cy="676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426-CF11-48AB-B34B-BFD20C2D4D93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6769080" cy="676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62C5-2A8F-4A7A-B0F9-72B4F0EFACF0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remark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Very similar pattern to the components as for the additive mod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w clear that the term in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ain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is not useful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mp4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ain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terms will need to be re-assess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term in Year stands out as dominant with a clear pattern in the response curve and the partial residuals following it close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 Unicode MS"/>
              </a:rPr>
              <a:t>Small data sets like this can be very misleading!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 Extreme caution is need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F794-4E6D-4BA7-8891-2939E54CF54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cond example: Rock data (V&amp;R p. 233 ff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esponse: permeabilit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edictors: area, perimeter and shap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oblem: build a predictor for log(perm) using the available predictor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ck.lm &lt;- lm(log(perm) ~ area + peri + shape, data = rock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rock.lm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Value Std. Error t value Pr(&gt;|t|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Intercept)  5.3331  0.5487     9.7200  0.00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rea  0.0005  0.0001     5.6021  0.00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eri -0.0015  0.0002    -8.6228  0.0000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hape  1.7565  1.7559     1.0003  0.3226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B042-04CA-427F-91C2-3F6F6C56EA5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trateg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ock.gam &lt;- gam(log(perm) ~ s(area) + s(peri) + s(shape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control = gam.control(maxit = 50), data = rock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summary(rock.gam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anova(rock.lm, rock.gam) </a:t>
            </a:r>
            <a:r>
              <a:rPr b="0" lang="en-AU" sz="2000" spc="-1" strike="noStrike">
                <a:solidFill>
                  <a:srgbClr val="ff0000"/>
                </a:solidFill>
                <a:latin typeface="Courier New"/>
              </a:rPr>
              <a:t># shows no improvemen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ar(mfrow = c(2, 3), pty = "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lot(rock.gam, s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rock.gam1 &lt;- gam(log(perm) ~ area + peri + s(shape), data = rock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plot(rock.gam1, s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urier New"/>
              </a:rPr>
              <a:t>anova(rock.lm, rock.gam1, rock.gam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9393-FA3A-45AC-90C8-3DC19CC5E42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&gt; summary(rock.gam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amily: gaussian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nk function: identity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mula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g(perm) ~ s(area) + s(peri) + s(shap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rametric 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stimate Std. Error t value Pr(&gt;|t|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Intercept)   5.1075     0.1222   41.81   &lt;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pproximate significance of smooth term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f Est.rank      F  p-valu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(area)  1.000        1 29.878 2.09e-0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(peri)  1.000        1 72.664 7.77e-1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(shape) 1.402        3  1.324    0.27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-sq.(adj) =  0.735   Deviance explained = 75.4%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GCV score = 0.78865   Scale est. = 0.71631   n = 4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9C17-CA60-4123-ACED-99CC44AA9ECF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del assumes that the mean response is a sum of terms each depending on (usually) a single predictor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the     s are linear terms, this is just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f they are step functions – main effect of a factor ter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general they may be smooth terms, with the degree of smoothness chosen by cross valid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411280" y="2637000"/>
          <a:ext cx="2880000" cy="85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637000"/>
                    <a:ext cx="288000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835280" y="3357720"/>
          <a:ext cx="30780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357720"/>
                    <a:ext cx="3078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B104-4818-4F16-A308-9389327D0EE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Testing lm within a gam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ova(rock.lm, rock.ga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alysis of Variance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odel 1: log(perm) ~ area + peri + shap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odel 2: log(perm) ~ s(area) + s(peri) + s(shap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s.Df    RSS       Df Sum of Sq      F Pr(&gt;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1 44.00000 31.949               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2 43.59763 31.230  0.40237     0.719 2.4951 0.125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F052-F3BD-4D3F-87AA-32016883109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&gt;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ummary(rock.gam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Family: gaussian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ink function: identity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Formula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og(perm) ~ area + peri + s(shap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arametric coefficient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  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stimate Std. Error t value Pr(&gt;|t|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(Intercept)  5.747e+00  3.615e-01  15.896  &lt; 2e-1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area         4.727e-04  8.648e-05   5.466 2.09e-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peri        -1.505e-03  1.766e-04  -8.524 7.77e-1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Approximate significance of smooth terms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df Est.rank     F p-valu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(shape) 1.402        3 1.324   0.27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R-sq.(adj) =  0.735   Deviance explained = 75.4%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GCV score = 0.78865   Scale est. = 0.71631   n = 4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AC42-82FF-40B4-8C82-0F999E125AB3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7898" r="0" b="54814"/>
          <a:stretch/>
        </p:blipFill>
        <p:spPr>
          <a:xfrm>
            <a:off x="179280" y="0"/>
            <a:ext cx="8496360" cy="3168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0" t="54784" r="0" b="6094"/>
          <a:stretch/>
        </p:blipFill>
        <p:spPr>
          <a:xfrm>
            <a:off x="250920" y="2997360"/>
            <a:ext cx="8424720" cy="329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8FC-2B8A-4170-9787-3579781B4A03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omparing 3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anova(rock.lm, rock.gam1, rock.gam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1: log(perm) ~ area + peri + shap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2: log(perm) ~ area + peri + s(shap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3: log(perm) ~ s(area) + s(peri) + s(shap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Res.Df    RSS          Df  Sum of Sq      F    Pr(&gt;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1  4.4000e+01 31.949                    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  4.3598e+01 31.230  4.0237e-01      0.719 2.4951    0.125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3  4.3598e+01 31.230 -3.5094e-06 -5.028e-06 2.0001 2.107e-0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&gt;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26D-4F7B-4924-9436-BAF062490C0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ess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though suggestive, the curve in shape is not particularly convincing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this case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bruto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lso suggests essentially linear terms, at most, in all three variables (V&amp;R p 235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6BD-388E-4C45-9AE2-F6912328D2F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oices of term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some cases the additive terms may be know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moothing splin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cal regr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plines with fixed degrees of freedo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plines with known knots and boundary knot posi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armonic terms, &amp;c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CE0-973C-4D4B-B5C9-0604D4C4AB5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imilarities to, and differences from GLM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dditive models are analogous to regression model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Generalized additive models are akin to the GLMs – they may employ a link function to relate the linear predictor to the mean of the response, they may have a non-normal distribution, &amp;c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Fitting GAMs is the same process as fitting GLMs (but with one letter different in the function name)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fitting process is NOT maximum likelihood if there are any smoother terms present.  A likelihood penalized by a roughness term is maximised, with the tuning constant chosen (usually) by cross-validat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Inference for GAMs is difficult and somewhat contentious.  Best regarded as an exploratory technique with standard models to follow (see example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408-AB08-41FD-A754-2440E149DFF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the Iowa wheat yield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toy example from 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Draper N R, and Smith H, </a:t>
            </a:r>
            <a:r>
              <a:rPr b="0" i="1" lang="en-GB" sz="1800" spc="-1" strike="noStrike">
                <a:solidFill>
                  <a:srgbClr val="000099"/>
                </a:solidFill>
                <a:latin typeface="Arial Unicode MS"/>
              </a:rPr>
              <a:t>Applied regression analysis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, 2nd Ed., John Wiley &amp; Sons, New York, 1981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ponse: Yield of wheat in bushels/acre for the state of Iowa for the years 1930-1962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edictors: Year (as surrogate), Rain0, 1, 2, 3, Temp1, 2, 3, 4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lem: Build a predictor for Yield from the predictors availab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te: with only 33 observations and 9 possible predictors some care has to be taken in choosing a mode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1C5B-5AD5-4BA8-AB61-370497F9EBD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linear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owa.lm1 &lt;- lm(Yield ~ ., Iow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owa.step &lt;- stepAIC(iowa.lm1, scope = list(lower =  ~ Year, upper =  ~ .), k = log(nrow(Iowa)), 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iowa.step, test = "F", k = log(nrow(Iowa)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ield ~ Year + Rain0 + Rain2 + Temp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Sum of Sq      RSS      AIC  F Value      Pr(F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          1554.605 144.6140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Temp4  1   187.951 1742.556 144.8838  3.38519 0.0764089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ain0  1   196.008 1750.612 145.0361  3.53029 0.0707042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ain2  1   240.204 1794.809 145.8589  4.32632 0.0467980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Year  1  1796.216 3350.821 166.4610 32.35167 0.0000042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1BB-FAA5-4F4E-9DB1-D5035E23225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refle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7772400" cy="49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ven with the more stringent BIC penalty on model complexity, two of the terms found are only borderline significant in the conventional sense – a consequence of the small sample siz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evertheless the terms found are tentatively realistic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ear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surrogate for crop improveme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a measure of pre-season sowing condi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Rain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rainfall during the critical growing month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emp4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climatic conditions during harvesting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18960" indent="-31896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re strictly linear terms in these variables reasonable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60D-9D8A-4110-8F54-450F3E34DB5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tive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onsider a non-parametric smoother in each term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library(mgcv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iowa.gam &lt;- gam(Yield ~ s(Temp4,k=5) + s(Rain0,k=5) + s(Rain2,k=5) + s(Year,k=5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data = Iowa, trace=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iowa.gam, se = T, ylim = c(-30, 30), resid = TRU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It can be important to keep the y-axes of these plots approximately the same to allow comparisons between term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512-04FC-4273-9A0A-35518526A30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CC5-09F6-4A79-9783-395F18901440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21T03:13:00Z</dcterms:modified>
  <cp:revision>17</cp:revision>
  <dc:subject/>
  <dc:title>S-PLUS, An Introduction to the System</dc:title>
</cp:coreProperties>
</file>