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1D64-7ACB-471B-A491-4CCBF0B8E01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8B7-0D7E-4881-8488-238E27EFC9B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ECEF-801C-43E5-BE8C-3F7807ABB28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0980-2443-4612-AA81-CF1690AECFE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D29C-C3D8-4AAA-B148-EF553B90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0BC3-0A21-4D89-85C9-D7BD9CB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B25B-C16D-44C3-9EE1-69CB6E65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771B-9D7D-41F6-8DC2-E2E6FB6E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71A-BA78-40A4-B561-08232F00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A5A4-DE6D-4ED5-A986-3C053FDB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01D-0390-40B1-B1EE-6AE7E01F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270-0C23-4029-BD21-30BB8F61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65E-B9A6-4AE2-BEE6-5E82D3B6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4380-2161-4825-B24C-8FA6B756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230-4C39-448C-AABD-031048C0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D68E-649A-4125-894E-9DB99F15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AU" sz="10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000" spc="-1" strike="noStrike">
                <a:solidFill>
                  <a:srgbClr val="006600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000" spc="-1" strike="noStrike">
                <a:solidFill>
                  <a:srgbClr val="006600"/>
                </a:solidFill>
                <a:latin typeface="Book Antiqu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2720" y="6237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16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D16AB9-F40B-41DB-ABE3-FC4706296FA8}" type="slidenum">
              <a:rPr b="1" lang="en-GB" sz="16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458200" y="0"/>
            <a:ext cx="68580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verde.esalq.usp.br/~jorge/clarice/venables/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R 2.5.1 Preliminari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venience features to make life a bit easier when working with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R Sess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nput and output of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From text/SAS/Excel/… files, ODBC connexions, 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ethods of interaction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 line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20720" indent="-27720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ative R script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32640" indent="-332640">
              <a:lnSpc>
                <a:spcPct val="14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editor (Tinn-R, WinEdit, Emacs/ESS, …) and R working in tandem – most powerful of all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33D1-F763-4DAB-8222-F62E487A0EC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Working with the fil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t aside a special directory (Microsoft: "folder") for all the files you will need, or generate, for this cours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e call this the "working directory"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using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etwd(…..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make this directory your working directory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ave your image, creating an .RData file in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o start R with this as your working directory, go to that directory with the file explorer and double-click on the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ub-directories for special kinds of file (e.g. graphics) are a good idea.  Neatness count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02E-3F8F-455B-B313-82E3FD045D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Always keep an eye on the search path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ist of places from which objects are sought by the evaluator.  May include packages, attached lists or data frames, or the 'global environment'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Courier New"/>
              </a:rPr>
              <a:t>&gt; search()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] ".GlobalEnv"        "package:stats"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3] "package:graphics"  "package:grDevices"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5] "package:utils"     "package:datasets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7] ".R_Data"           ".R_Utils" 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9] "package:methods"   "Autoloads"       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ourier New"/>
              </a:rPr>
              <a:t>[11] "package:base" 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596-B7E7-42EC-B68E-B63974344CB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 packages needed for the cours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ASOR (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ailable from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r>
              <a:rPr b="1" lang="en-AU" sz="1800" spc="-1" strike="noStrike">
                <a:solidFill>
                  <a:srgbClr val="000099"/>
                </a:solidFill>
                <a:latin typeface="Courier New"/>
              </a:rPr>
              <a:t>http://verde.esalq.usp.br/~jorge/clarice/venables/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AS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mgcv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lattice, grid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gl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nlme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lme4, Matrix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RODBC</a:t>
            </a: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, foreig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Courier New"/>
              </a:rPr>
              <a:t>rpart, </a:t>
            </a:r>
            <a:r>
              <a:rPr b="0" lang="en-AU" sz="2400" spc="-1" strike="noStrike">
                <a:solidFill>
                  <a:srgbClr val="ff3300"/>
                </a:solidFill>
                <a:latin typeface="Courier New"/>
              </a:rPr>
              <a:t>tree, gbm, randomFore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hoose a .br CRAN mirror and install the ones in red.  The ones in blue should be already ther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421-8D3F-4C91-BFA1-1810DB8C78D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Demonstration 1: Installing and Using ASOR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Not strictly needed, but useful for large data se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llows large objects to be stored out of memory in a special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.R_Stor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ub-direct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Attach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make the stored files visible on the search path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Stor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take objects out of memory and store as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Objects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list the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3300"/>
                </a:solidFill>
                <a:latin typeface="Courier New"/>
              </a:rPr>
              <a:t>Remove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– remove objects from the file stor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3B2-C518-4ACD-ABF8-1D52E9EEDAC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Reading in data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e simplest way is probably using .csv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sets for the course will come from several place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45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ome data sets are already available on the course web site </a:t>
            </a:r>
            <a:r>
              <a:rPr b="0" lang="en-AU" sz="1800" spc="-1" strike="noStrike" u="sng">
                <a:solidFill>
                  <a:srgbClr val="ccccff"/>
                </a:solidFill>
                <a:uFillTx/>
                <a:latin typeface="Courier New"/>
                <a:hlinkClick r:id="rId1"/>
              </a:rPr>
              <a:t>http://verde.esalq.usp.br/~jorge/clarice/venables/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ore will be supplied as the course progresses, as need b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5114-2286-4B47-8883-0436AAE549F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2: Reading in and Stor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ownload the CSVFiles.zip and unzip into your working direco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Tinn-R and open the script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make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ee how it works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tart R and execute the script.  This will generate another script calle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inputData.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xecute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 inputData.R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(not as a source file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This should start (if need be) an .R_Store directory of stored objec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4E49-6BFB-497F-B572-2F8C676E85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Use of R for modelling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 is a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languag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manipulating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i="1" lang="en-AU" sz="2800" spc="-1" strike="noStrike">
                <a:solidFill>
                  <a:srgbClr val="000099"/>
                </a:solidFill>
                <a:latin typeface="Arial Unicode MS"/>
              </a:rPr>
              <a:t>objects</a:t>
            </a: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"</a:t>
            </a:r>
            <a:endParaRPr b="0" lang="en-US" sz="2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When using S (i.e. the R program) use objects to transmit information as completely as possible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void using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attach(data_set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detach(data_se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Make frequent use of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…),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…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nd </a:t>
            </a: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…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776-38EE-4BD5-A707-97F20DAA101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Demonstration 3: using </a:t>
            </a:r>
            <a:r>
              <a:rPr b="1" lang="en-US" sz="3200" spc="-1" strike="noStrike">
                <a:solidFill>
                  <a:srgbClr val="990033"/>
                </a:solidFill>
                <a:latin typeface="Courier New"/>
              </a:rPr>
              <a:t>with()</a:t>
            </a: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 &amp; friend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Like making a copy of the data object visible </a:t>
            </a:r>
            <a:r>
              <a:rPr b="0" i="1" lang="en-AU" sz="2400" spc="-1" strike="noStrike">
                <a:solidFill>
                  <a:srgbClr val="ff3300"/>
                </a:solidFill>
                <a:latin typeface="Arial Unicode MS"/>
              </a:rPr>
              <a:t>ahead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of the search path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Ensures that variables come from the right plac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value &lt;- with(data, expression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with(data, do_someth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transform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data frames to be extended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99"/>
                </a:solidFill>
                <a:latin typeface="Courier New"/>
              </a:rPr>
              <a:t>subset()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allows selection of rows or columns of data frames in a graceful wa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FDE1-7A18-47D2-A194-617D060EB1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Quick exampl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99"/>
                </a:solidFill>
                <a:latin typeface="Arial Unicode MS"/>
              </a:rPr>
              <a:t>The janka data – a leading example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with(janka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plot(Density, Hardness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xlim = range(0, Density), ylim = range(0, Hardness), 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AU" sz="3200" spc="-1" strike="noStrike">
                <a:solidFill>
                  <a:srgbClr val="000099"/>
                </a:solidFill>
                <a:latin typeface="Courier New"/>
              </a:rPr>
              <a:t>las=0))</a:t>
            </a:r>
            <a:endParaRPr b="0" lang="en-US" sz="32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1F01-1E85-4DBB-9AB4-468A45E0AAE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wo important environment variab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R_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6600"/>
                </a:solidFill>
                <a:latin typeface="Courier New"/>
              </a:rPr>
              <a:t>             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_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"C:\\PROGRA~1\\R\\R-25~1.0</a:t>
            </a:r>
            <a:r>
              <a:rPr b="1" lang="pt-BR" sz="1800" spc="-1" strike="noStrike">
                <a:solidFill>
                  <a:srgbClr val="000099"/>
                </a:solidFill>
                <a:latin typeface="Courier New"/>
              </a:rPr>
              <a:t>" </a:t>
            </a:r>
            <a:endParaRPr b="0" lang="en-US" sz="18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Sys.getenv("HOME"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OME 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C:\\Documents and Settings\\Bill Venables\\My Documents"</a:t>
            </a:r>
            <a:r>
              <a:rPr b="1" lang="en-US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&gt; getwd(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1] "C:/Documents and Settings/Bill Venables/My Documents/R Modelling"</a:t>
            </a:r>
            <a:endParaRPr b="0" lang="en-US" sz="16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AFB-B5B3-42EF-B21C-7C9EC90C93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S_HOM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Usually located a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C:/Program Files/R/R-2.x.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Main subdirectories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bin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executabl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include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for programming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library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standard libraries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do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documentation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etc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(initialisation, &amp;c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8FD-7F89-44A4-BD94-1AEE79F1C5B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Initialisation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System wide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      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etc/Rprofile.sit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Global to a particular us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R_HOME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99"/>
                </a:solidFill>
                <a:latin typeface="Arial Unicode MS"/>
              </a:rPr>
              <a:t>Particular to a chapter: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&lt;wd&gt;/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ommands in function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.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First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AE75-D452-42BC-8AD5-8DA79FC2519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Simple structure of the </a:t>
            </a:r>
            <a:r>
              <a:rPr b="0" lang="en-US" sz="3200" spc="-1" strike="noStrike">
                <a:solidFill>
                  <a:srgbClr val="006600"/>
                </a:solidFill>
                <a:latin typeface="Courier New"/>
              </a:rPr>
              <a:t>working directory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Parent directory (folder) containing: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imag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created and maintained by R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	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if required. 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Automatically executed when S-PLUS start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6600"/>
                </a:solidFill>
                <a:latin typeface="Courier New"/>
              </a:rPr>
              <a:t>File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.RData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 saved objects for loading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Data files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xls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csv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txt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, …)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Scripts, (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*.R, *.q</a:t>
            </a: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99"/>
                </a:solidFill>
                <a:latin typeface="Arial Unicode MS"/>
              </a:rPr>
              <a:t>Output files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6F3-345E-4FBF-ACCB-2E2627E778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 Unicode MS"/>
              </a:rPr>
              <a:t>Editing the GUI Preferences</a:t>
            </a:r>
            <a:endParaRPr b="0" lang="en-US" sz="2800" spc="-1" strike="noStrike">
              <a:solidFill>
                <a:srgbClr val="990033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6336000" cy="547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80E-8283-4B67-82DD-38FE16546AD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Some possibilities for </a:t>
            </a:r>
            <a:r>
              <a:rPr b="1" lang="en-AU" sz="3200" spc="-1" strike="noStrike">
                <a:solidFill>
                  <a:srgbClr val="006600"/>
                </a:solidFill>
                <a:latin typeface="Courier New"/>
              </a:rPr>
              <a:t>.Rprofile</a:t>
            </a:r>
            <a:r>
              <a:rPr b="0" lang="en-AU" sz="3200" spc="-1" strike="noStrike">
                <a:solidFill>
                  <a:srgbClr val="990033"/>
                </a:solidFill>
                <a:latin typeface="Arial Unicode MS"/>
              </a:rPr>
              <a:t> files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extracts from my user .Rprofil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options(show.signif.stars = FALSE,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length = 999999)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### for this course 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0066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MASS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require(nnet, quietly = T)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r>
              <a:rPr b="1" lang="en-AU" sz="2400" spc="-1" strike="noStrike">
                <a:solidFill>
                  <a:srgbClr val="9933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DE4E-AFEF-4DCA-B467-77D3CBACC3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The ASOR package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llows data sets to be stored out of memor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Objects remain visible – 'promises' are set to load the data on demand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ill somewhat experimental…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Exerci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working directory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stall the ASOR package into your machin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Load all the data sets provided for this cours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tore them in an ASOR library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Set up a .First function to Attach() the library on commencement of the R session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A83A-F76D-4FB1-8D35-18C50B7DF9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 Unicode MS"/>
              </a:rPr>
              <a:t>R, An Introduction to the System</a:t>
            </a:r>
            <a:endParaRPr b="0" lang="en-US" sz="3200" spc="-1" strike="noStrike">
              <a:solidFill>
                <a:srgbClr val="990033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R is a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for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ng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i="1" lang="en-US" sz="2000" spc="-1" strike="noStrike">
                <a:solidFill>
                  <a:srgbClr val="cc3300"/>
                </a:solidFill>
                <a:latin typeface="Arial Unicode MS"/>
              </a:rPr>
              <a:t>language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n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interactive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object-oriented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, </a:t>
            </a:r>
            <a:r>
              <a:rPr b="0" lang="en-US" sz="2400" spc="-1" strike="noStrike">
                <a:solidFill>
                  <a:srgbClr val="cc3300"/>
                </a:solidFill>
                <a:latin typeface="Arial Unicode MS"/>
              </a:rPr>
              <a:t>function</a:t>
            </a: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 language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object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Data sets, vectors, matrices, arrays, lists, function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What sort of </a:t>
            </a:r>
            <a:r>
              <a:rPr b="0" lang="en-US" sz="2000" spc="-1" strike="noStrike">
                <a:solidFill>
                  <a:srgbClr val="cc3300"/>
                </a:solidFill>
                <a:latin typeface="Arial Unicode MS"/>
              </a:rPr>
              <a:t>manipulations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?</a:t>
            </a:r>
            <a:endParaRPr b="0" lang="en-US" sz="20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Input and output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Construction, computations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Graphical display,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  <a:p>
            <a:pPr lvl="1" marL="653760" indent="-251280">
              <a:lnSpc>
                <a:spcPct val="110000"/>
              </a:lnSpc>
              <a:spcBef>
                <a:spcPts val="601"/>
              </a:spcBef>
              <a:buClr>
                <a:srgbClr val="000099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Unicode MS"/>
              </a:rPr>
              <a:t>Assignments, &amp;c.</a:t>
            </a:r>
            <a:endParaRPr b="0" lang="en-US" sz="2400" spc="-1" strike="noStrike">
              <a:solidFill>
                <a:srgbClr val="00009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75AD-FCD8-4479-8862-8D4C98AA0B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CSIRO 2000-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4:08:04Z</dcterms:created>
  <dc:creator>Venables</dc:creator>
  <dc:description/>
  <dc:language>en-US</dc:language>
  <cp:lastModifiedBy>Venables, Bill (CMIS, Cleveland)</cp:lastModifiedBy>
  <dcterms:modified xsi:type="dcterms:W3CDTF">2007-08-07T11:43:38Z</dcterms:modified>
  <cp:revision>10</cp:revision>
  <dc:subject/>
  <dc:title>Some S-PLUS 8.0.1 Preliminaries</dc:title>
</cp:coreProperties>
</file>