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096E-C84C-4A7D-BFE9-9A9CC244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146-454A-44A7-B2C1-908A4340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E848-1220-4E1F-8BC1-251F9940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BA9-3976-4F03-B097-92A1A8DD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843-7B68-4A9A-9061-B6C64D0D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EB8-1948-4081-9A8D-839672DE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2BF7-4F78-4480-9907-AD5D509C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062-C6CB-4F20-907F-27BF69D5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43D-7491-4F5B-B3B9-0C168B0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046-030E-4D23-BE86-0E0D5818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B73-EDD1-466D-BD1E-F97A5285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6E51-2DFA-4BC4-A47A-FB09566F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9DECA7C-6A9E-4313-B179-9B48ECEEBB36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6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inear Models 1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tting an 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udworm.lg &lt;- glm(SF ~ sex/ldose, family = binomial, data = Budworms, trace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GLM    linear loop 4: deviance = 4.9937</a:t>
            </a:r>
            <a:r>
              <a:rPr b="0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mmary(budworm.lg, cor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Coefficients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Value Std. Error    t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Intercept) -2.9935418  0.5526997 -5.416217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  0.1749868  0.7783100  0.224829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Fldose  0.9060364  0.1671016  5.422067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Mldose  1.2589494  0.2120655  5.936606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(Dispersion Parameter for Binomial family taken to be 1 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DD70-5C96-4F9E-A1B3-80AB33942C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playing the fi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udworm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c(1,32), c(0,1), type = "n", xlab = "dose"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g = "x", axes = F,ylab = "Pr(Death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1, at = 2^(0: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xis(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1:6], numdead[1:6]/20, pch = 4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oints(2^ldose[7:12], numdead[7:12]/20, pch = 1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d &lt;- seq(0, 5, length = 10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M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col = 3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nes(2^ld, predict(budworm.lg, data.frame(ldose = ld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x = factor(rep("F", length(ld)), levels = levels(sex)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ype = "response"), lty = 2, col = 2, lwd =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326-577E-4DF2-807E-D6D23EF15A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1280" y="0"/>
          <a:ext cx="7380360" cy="682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0"/>
                    <a:ext cx="7380360" cy="68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4FB3-A3EE-46CC-BA74-36A52D7A3B90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s sex significant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is is a marginal term and so its meaning has to be interpreted carefully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Watch what happens if ldose is re-centred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A &lt;- update(budworm.lg, . ~ sex/I(ldose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- 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ummary(budworm.lgA, cor = F)$coefficien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Value Std. Error   t value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(Intercept) -0.2754324  0.2305173 -1.19484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  1.2337258  0.3769761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3.272689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FI(ldose - 3)  0.9060364  0.1671016  5.42206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exMI(ldose - 3)  1.2589494  0.2120655  5.93660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A063-D84F-435D-BC3D-77F13A8690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curvatur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nova(update(budworm.lgA, . ~ . + sex/I((ldose - 3)^2)), test = "Chisq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3.1802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3.171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5.01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4.9937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1: deviance = 121.813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2: deviance = 118.7995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3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GLM    linear loop 4: deviance = 118.7986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erms added sequentially (first to las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Deviance Resid. Df Resid. Dev   Pr(Chi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NULL                    11   124.8756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ex  1   6.0770        10   118.7986 0.013695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ldose - 3) %in% sex  2 113.8049         8     4.9937 0.000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I((ldose - 3)^2) %in% sex  2   1.8221         6     3.1716 0.402103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840-0337-449F-B7AF-ACF4B96664E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final model: parallelis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udworm.lg0 &lt;- glm(SF ~ sex + ldose - 1, family = binomial, Budworms, trace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1: deviance = 6.8074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2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3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GLM    linear loop 4: deviance = 6.7571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budworm.lg0, budworm.lgA, test = "Chisq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rms Resid. Df Resid. De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sex + ldose - 1         9   6.757064            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sex + I(ldose - 3) %in% sex         8   4.993727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Test Df Deviance   Pr(Chi)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vs. 2  1 1.763337 0.184208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4F9-9BE0-48A8-A724-AD3ACE7016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ffective dosages (V&amp;R p193)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6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dose.p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obj, cf = 1:2, p = 0.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ta &lt;- family(obj)$link(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 &lt;- coef(obj)[cf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.p &lt;- (eta - b[1]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ames(x.p) &lt;- paste("p = ", format(p), ":", sep = "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d &lt;-  - cbind(1, x.p)/b[2]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E &lt;- sqrt(((pd %*% vcov(obj)[cf, cf]) * pd) %*% c(1, 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 &lt;- structure(x.p, SE = SE, p = p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ldClass(res) &lt;- "glm.dose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gt; print.glm.do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nction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 &lt;- cbind(x, attr(x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imnames(M) &lt;- list(names(x), c("Dose", "SE"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 &lt;- M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NextMethod("print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645-00B8-4965-9F70-BCA1AF5547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ose.p(budworm.lg0, cf = c(1, 3), p = 1:3/4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Dose        SE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25: 2.231265 0.249908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50: 3.263587 0.2297539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p = 0.75: 4.295910 0.2746874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062-7FBF-43A3-BC8A-71E3B5EE446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econd example: low birth weigh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ttach(birth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ce &lt;- factor(race, labels = c("white", "black", "other"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ptl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59 24 5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td &lt;- factor(ptl &gt; 0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 2 3 4 6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30 7 4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tv &lt;- factor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evels(ftv)[ - (1:2)] &lt;- "2+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able(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0  1 2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100 47 4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wt &lt;- data.frame(low = factor(low), age, lwt, race, smoke = (smoke &gt; 0), ptd, ht = (ht &gt; 0), ui = (ui &gt; 0)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m(race, ptd, ftv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44EE-8634-44AF-B871-969BFD59218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188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2400" cy="45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 &lt;- glm(low ~ ., family = binomial, data = 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birthwt.glm, test = "Chisq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Deviance      AIC      LRT   Pr(Chi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195.4755 217.4755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  1 196.4174 216.4174 0.941876 0.331795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wt  1 200.9495 220.9495 5.473941 0.019302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race  2 201.2268 219.2268 5.751273 0.056380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moke  1 198.6738 218.6738 3.198241 0.073717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ptd  1 203.5841 223.5841 8.108539 0.004405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ht  1 202.9339 222.9339 7.458402 0.006314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ui  1 197.5855 217.5855 2.109974 0.14634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ftv  2 196.8337 214.8337 1.358185 0.5070769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BFC9-C4AF-4B17-8A2F-17E565B3F7B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ature of the generaliz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gle response variable,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candidate 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of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y 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only depend on the predictors through a single linear fun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distribution belongs to the GLM family of distribut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may (or may not) be an unknown scale paramet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619280" y="3357720"/>
          <a:ext cx="4824360" cy="60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357720"/>
                    <a:ext cx="4824360" cy="60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4BF-F909-4096-B9CF-06E67372561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actions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previous model output suggests removing fitv and age.  This is confirmed by successive dele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at happens, though, when we check for interactions between factors and curvatures in the numeric predictors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E4F5-2BF8-4A7E-AFF1-CA3D8363555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772400" cy="54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 &lt;- stepAIC(birthwt.glm,  ~ .^2 + I(scale(age)^2) + I(scale(lwt)^2), trace = 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irthwt.step2$anova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wise Model Path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Analysis of Deviance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Initi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race + smoke + ptd + ht + ui + ftv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Fin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Step Df Deviance Resid. Df Resid. Dev      AIC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1                              178   195.4755 217.4755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2  + age:ftv  2 12.47490       176   183.0006 209.0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3 + smoke:ui  1  3.05681       175   179.9438 207.9438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4     - race  2  3.12959       177   183.0734 207.073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4446-8D57-4E46-A4DD-68F2529130D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inal model: two important intera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birthwt.step2, test = "Chisq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ow ~ age + lwt + smoke + ptd + ht + ui + ftv + age:ftv + smoke:ui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f Deviance      AIC      LRT    Pr(Chi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&lt;none&gt;    183.0734 207.0734    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lwt  1 191.5590 213.5590  8.48561 0.0035796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ptd  1 193.5880 215.5880 10.51462 0.0011843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ht  1 191.2108 213.2108  8.13743 0.0043360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ge:ftv  2 199.0029 219.0029 15.92950 0.0003475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moke:ui  1 186.9861 208.9861  3.91270 0.04792245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F14-D170-4C82-A7E2-EDD260636B5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ecking for linearity o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age</a:t>
            </a: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 within </a:t>
            </a:r>
            <a:r>
              <a:rPr b="1" lang="en-GB" sz="3200" spc="-1" strike="noStrike">
                <a:solidFill>
                  <a:srgbClr val="000000"/>
                </a:solidFill>
                <a:latin typeface="Arial Unicode MS"/>
              </a:rPr>
              <a:t>ftv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n alternative to the method given in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dea is to fit separate spline terms within the levels of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tv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but keeping all other important terms (including interactions)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important that spline terms be chosen with enough knots to allow non-linear behaviour to become apparent, but not so much that the fit becomes nearly indetermin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6C6-88EE-4C00-BD1D-75F1C73CAF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attach(bw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BWT &lt;- expand.grid(age=14:45, lwt = mean(lwt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race = factor("white", levels = levels(rac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moke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ptd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ht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ui = c(T,F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ftv = levels(ftv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etach(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Age &lt;- function(x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s(x, knots = quantile(bwt$age, 1:2/3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undary.knots = range(bwt$age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irthwt.glm2 &lt;- glm(low ~ lwt + ptd + ht + smoke * ui + ftv/nsAge(age), binomial, bwt, 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b &lt;- predict(birthwt.glm2, BWT, type = "resp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yplot(prob ~ age | ftv, BWT, type = "l"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set = smoke == F &amp; ptd == F &amp; ht == F &amp; ui == F, as.table = T, ylim = c(0, 1), ylab = "Pr(Low bwt)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EF8-3BF0-49BF-AB2F-72B48D916619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95280" y="404640"/>
          <a:ext cx="792180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04640"/>
                    <a:ext cx="792180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431-DB65-4B90-9BC3-0C79FAF522BC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stributions in the GLM famil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rdinary linear models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istic regression, probit analysi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og-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-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lognorm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egative Binomial, &amp;c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A38-57ED-44CD-9F43-120FB032DA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ink func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assumed that the linear predictor determines the mean of the respon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ear predictor is unbounded, but the mean of some of these distributions (e.g. binomial) is restrict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mean is assumed to be a (monotone) function of the linear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inverse of this function is called the link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hoosing a link is often the first problem in constructing a GL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B5B-38F9-4307-98E1-3BD3175B8E6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– Identity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nomial – Logistic or Probit link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oisson – Log or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amma – log or inverse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or the binomial distribution the response is taken as the proportion of cases responding.  Thus the mean lies between 0 and 1.  The logistic link us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2268360" y="5084640"/>
          <a:ext cx="48247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5084640"/>
                    <a:ext cx="48247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BB6D-0E5F-497B-B4B0-111A2AAF3A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y is the link function defined ‘backwards’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Historical reason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 theory was developed as a replacement for an older approximate theory that used transformations of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link function is defined in the same sense, but the data are never transformed.  The connection is assumed between parameter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newer theory produces exact MLEs, but apart from the normal/identity case, inference procedures are still somewhat approximat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62B-09A8-4E79-A780-8AEBAB6967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actic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tructing GLMs in S-PLUS is almost entirely analogous to constructing L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stimation is by iteratively weighted least squares, so some care has to be taken that the iterative scheme has converg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ome tools exist for manual and automated variable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re are differences.  e.g. the residuals function distinguishes four types of residual which all coincide in the case of linear model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24CE-5BD9-479E-8551-18E6F0973B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The budworm data – a toxicological experiment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4360" y="1341360"/>
          <a:ext cx="7770600" cy="47466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4120"/>
                <a:gridCol w="1554120"/>
                <a:gridCol w="1554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S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D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Al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3300"/>
                          </a:solidFill>
                          <a:latin typeface="Courier New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>
                      <a:noFill/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C96A-A71B-42BC-A638-218471E05789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initial example: Budworm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eparing the data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tions(contrasts = c("contr.treatment", "contr.poly"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dose &lt;- rep(0:5,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numdead &lt;- c(1, 4, 9, 13, 18, 20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0, 2, 6, 10, 12, 16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ex &lt;- factor(rep(c("M", "F"), each = 6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F &lt;- cbind(numdead, numalive = 20 - numdead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 &lt;- data.frame(ldose, sex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udworms$SF &lt;- S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m(sex, ldose, S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81B0-B910-45F3-862E-7506842CF0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14T02:14:34Z</dcterms:modified>
  <cp:revision>15</cp:revision>
  <dc:subject/>
  <dc:title>S-PLUS, An Introduction to the System</dc:title>
</cp:coreProperties>
</file>