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79B6-B568-4BCA-86AF-9E1087FE3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FCFD-D5DB-4925-BC63-C8933D6B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2874-EC6C-40EE-9907-9FCC9C9FD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A97F-D294-4F28-A901-14E51693B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5F20-59D2-4E42-B0E6-19B2040C8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8C03-789B-4E80-847C-30A23A980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71AB-2A11-443C-8949-F94C0A466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269F-C6D9-47C0-9887-6951B353F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D920-182C-4B19-9E38-8F901BDA4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8D90-425F-47E9-8629-84852912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A2E0-3CDE-4538-9F98-CA9F181F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893D-44C8-4851-AE9A-3F988413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AU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000" spc="-1" strike="noStrike">
                <a:solidFill>
                  <a:srgbClr val="006600"/>
                </a:solidFill>
                <a:latin typeface="Book Antiqu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6600"/>
                </a:solidFill>
                <a:latin typeface="Book Antiqu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1964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GB" sz="14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AEFB853-3FDC-4E47-AFF8-101732C8223D}" type="slidenum">
              <a:rPr b="1" lang="en-GB" sz="1400" spc="-1" strike="noStrike">
                <a:solidFill>
                  <a:srgbClr val="0066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Click to edit the title text forma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458200" y="0"/>
            <a:ext cx="68580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ession 03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lassical Linear Model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Creating a contrast matrix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M &lt;- diag(4)[1:3, ]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M[col(M) - row(M) == 1] &lt;- -1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0" lang="en-AU" sz="1800" spc="-1" strike="noStrike">
                <a:solidFill>
                  <a:srgbClr val="000099"/>
                </a:solidFill>
                <a:latin typeface="Courier New"/>
              </a:rPr>
              <a:t>                       </a:t>
            </a:r>
            <a:r>
              <a:rPr b="0" lang="en-AU" sz="1800" spc="-1" strike="noStrike">
                <a:solidFill>
                  <a:srgbClr val="ff0000"/>
                </a:solidFill>
                <a:latin typeface="Courier New"/>
              </a:rPr>
              <a:t># Desired meaning of contrasts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99"/>
                </a:solidFill>
                <a:latin typeface="Courier New"/>
              </a:rPr>
              <a:t>     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[,1] [,2] [,3] [,4]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[1,]    1   -1    0    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[2,]    0    1   -1    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[3,]    0    0    1   -1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M0 &lt;- fractions(ginv(M))          </a:t>
            </a:r>
            <a:r>
              <a:rPr b="0" lang="en-AU" sz="1800" spc="-1" strike="noStrike">
                <a:solidFill>
                  <a:srgbClr val="ff0000"/>
                </a:solidFill>
                <a:latin typeface="Courier New"/>
              </a:rPr>
              <a:t># matrix to use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M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99"/>
                </a:solidFill>
                <a:latin typeface="Courier New"/>
              </a:rPr>
              <a:t>     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[,1] [,2] [,3]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[1,]  3/4  1/2  1/4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[2,] -1/4  1/2  1/4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[3,] -1/4 -1/2  1/4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[4,] -1/4 -1/2 -3/4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2EAF-3133-40B6-B698-856F3D3C905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 simplified function for the job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40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contrsdif &lt;- function(n) {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X &lt;- diag(n)[1:(n-1), ]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X &lt;- X - cbind(0, X[, -n]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ginv(X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ractions(contrsdif(5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,1] [,2] [,3] [,4]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1,]  4/5  3/5  2/5  1/5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2,] -1/5  3/5  2/5  1/5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3,] -1/5 -2/5  2/5  1/5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4,] -1/5 -2/5 -3/5  1/5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5,] -1/5 -2/5 -3/5 -4/5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attr(, "rank")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1] 4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See the MASS function contr.sdif for a more bullet-proof version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7366-AED0-40C7-930B-5601D9D61DE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n unbalanced 4-way classification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quine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data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Response: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# of days absent from school in a year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lassifying factor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Age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: Four levels,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0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1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2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3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th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: Aboriginal or Non-aborigina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Lrn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: Slow or Averag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ex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: Male or Femal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Problem: Construct a linear model to describe the differences in behaviour between the groups so defined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C264-572A-459C-AE6C-CABC5DD743B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he extent of the imbalance: Design issu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with(quine, table(Lrn, Age, Sex, Eth)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             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, , F, A          , , F, N      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F0 F1 F2 F3 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   F0 F1 F2 F3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AL  4  5  1  9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AL  4  6  1 1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SL  1 10  8  </a:t>
            </a:r>
            <a:r>
              <a:rPr b="1" lang="en-GB" sz="2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SL  1 11  9  </a:t>
            </a:r>
            <a:r>
              <a:rPr b="1" lang="en-GB" sz="2000" spc="-1" strike="noStrike">
                <a:solidFill>
                  <a:srgbClr val="ff0000"/>
                </a:solidFill>
                <a:latin typeface="Courier New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             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, , M, A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, , M, N     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F0 F1 F2 F3 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   F0 F1 F2 F3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AL  5  2  7  7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AL  6  2  7  7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SL  3  3  4  </a:t>
            </a:r>
            <a:r>
              <a:rPr b="1" lang="en-GB" sz="2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SL  3  7  3  </a:t>
            </a:r>
            <a:r>
              <a:rPr b="1" lang="en-GB" sz="2000" spc="-1" strike="noStrike">
                <a:solidFill>
                  <a:srgbClr val="ff0000"/>
                </a:solidFill>
                <a:latin typeface="Courier New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8E03-6FE5-4828-807C-4CB975CC2AD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Cell variances vs cell mean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Means &lt;- with(quine, tapply(Days, list(Eth, Sex,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Age, Lrn), mean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Vars  &lt;- with(quine, tapply(Days, list(Eth, Sex,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Age, Lrn), var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SD &lt;- sqrt(Vars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ar(mfrow = c(1, 2), pty="s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Means, Vars,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xlab = "Cell Means", ylab = "Cell Variances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Means, SD,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xlab = "Cell Means", ylab = "Cell Std Devn.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6C37-5295-4F1A-9D57-DAC464A525D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rcRect l="0" t="24819" r="0" b="16619"/>
          <a:stretch/>
        </p:blipFill>
        <p:spPr>
          <a:xfrm>
            <a:off x="250920" y="549360"/>
            <a:ext cx="8642160" cy="5060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B4BD-A399-4F95-BD83-EC08FDB16133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8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Box-Cox  or log(y + c) transformation?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28061" r="0" b="22570"/>
          <a:stretch/>
        </p:blipFill>
        <p:spPr>
          <a:xfrm>
            <a:off x="1290600" y="3429000"/>
            <a:ext cx="6562800" cy="3240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907920"/>
            <a:ext cx="7631280" cy="23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ar(mfrow=c(1,2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boxcox(Days+1 ~ Eth*Sex*Age*Lrn, data = quine, singular.ok = T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lambda = seq(-0.05, 0.45, len = 20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logtrans(Days ~ Age*Sex*Eth*Lrn, data = quine, xlab=expression(alpha)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alpha = seq(0.75, 6.5, len = 20), singular.ok = T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F0AC-484D-412D-8409-10BBAF7EAA6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Initial Models and backwards elimination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quine.hi &lt;- aov(log(Days + 2.5) ~ Eth*Sex*Age*Lrn, quine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quine.nxt &lt;- update(quine.hi, . ~ . - Eth:Sex:Age:Lrn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ropterm(quine.nxt, test = "F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ingle term deletions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Model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log(Days + 2.5) ~ Age + Sex + Eth + Lrn + Age:Sex + Age:Eth +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ex:Eth + Age:Lrn + Sex:Lrn + Eth:Lrn + Age:Sex:Eth + Age:Sex:Lrn + Age:Eth:Lrn + Sex:Eth:Lrn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  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Df Sum of Sq     RSS     AIC F Value   Pr(F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&lt;none&gt;                    64.099 -68.184    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Age:Sex:Eth  3     0.974  65.073 -71.982   0.608 0.61125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Age:Sex:Lrn  2     1.466  65.565 -68.882   1.372 0.25743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Age:Eth:Lrn  2     2.128  66.227 -67.415   1.992 0.14087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ex:Eth:Lrn  1     1.579  65.678 -66.631   2.956 0.08816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46B5-C5AC-443D-933E-D4B810E5CD3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Forward selection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quine.lo ~ aov(log(Days+2.5) ~ 1, quine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ddterm(quine.lo, quine.hi, test = "F"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Single term additions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Model: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log(Days + 2.5) ~ 1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       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Df Sum of Sq     RSS     AIC F Value     Pr(F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&lt;none&gt;              106.787 -43.664                 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Age     3     4.747 102.040 -44.303   2.202 0.0904804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Sex     1     0.597 106.190 -42.483   0.809 0.3698057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Eth     1    10.682  96.105 -57.052  16.006 0.0001006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Lrn     1     0.004 106.783 -41.670   0.006 0.9392083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8920-EB6C-4FC0-AA00-B1F48522330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utomated selection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quine.stp &lt;- stepAIC(quine.nxt, scope = list(upper =  ~ Eth * Sex * Age * Lrn, lower =  ~ 1), trace = FALSE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summary(quine.stp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AU" sz="1600" spc="-1" strike="noStrike">
                <a:solidFill>
                  <a:srgbClr val="000099"/>
                </a:solidFill>
                <a:latin typeface="Arial Unicode MS"/>
              </a:rPr>
              <a:t>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Df Sum Sq Mean Sq F value    Pr(&gt;F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Age           3  4.747   1.582  2.9698  0.034476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Sex           1  0.255   0.255  0.4777  0.490728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Eth           1 10.069  10.069 18.8978 2.829e-05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Lrn           1  0.653   0.653  1.2254  0.270425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Age:Sex       3  8.816   2.939  5.5152  0.001370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Age:Eth       3  5.835   1.945  3.6504  0.014497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Sex:Eth       1  0.009   0.009  0.0173  0.895634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Age:Lrn       2  2.886   1.443  2.7082  0.070566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Sex:Lrn       1  0.029   0.029  0.0542  0.816372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Eth:Lrn       1  0.099   0.099  0.1852  0.667666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Age:Eth:Lrn   2  3.759   1.880  3.5277  0.032330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Sex:Eth:Lrn   1  3.032   3.032  5.6916  0.018548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Residuals   125 66.600   0.533</a:t>
            </a:r>
            <a:r>
              <a:rPr b="0" lang="en-AU" sz="1600" spc="-1" strike="noStrike">
                <a:solidFill>
                  <a:srgbClr val="000099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CB73-ACE1-48F0-93EF-7A6C256330C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Regression with factor variabl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eparate quadratic regressions within the level of a factor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eparate linear regressions within the level of a factor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Parallel linear regressions within the levels of a factor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ommon linear regression (ignoring the factor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o regression at al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Example: the Whiteside data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4A65-C7CD-4609-885E-8A376A775D6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Further refinemen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dropterm(quine.stp, test = "F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quine.3 &lt;- update(quine.stp, . ~ . - Eth:Age:Lrn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dropterm(quine.3, test = "F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quine.4 &lt;- update(quine.3, . ~ . - Eth:Age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dropterm(quine.4, test = "F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quine.5 &lt;- update(quine.4, . ~ . - Age:Lrn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dropterm(quine.5, test = "F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99"/>
                </a:solidFill>
                <a:latin typeface="Courier New"/>
              </a:rPr>
              <a:t>Single term deletions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99"/>
                </a:solidFill>
                <a:latin typeface="Courier New"/>
              </a:rPr>
              <a:t>Model: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99"/>
                </a:solidFill>
                <a:latin typeface="Courier New"/>
              </a:rPr>
              <a:t>log(Days + 2.5) ~ Eth + Sex + Age + Lrn + Eth:Sex + Eth:Lrn + Sex:Age + Sex:Lrn + Eth:Sex:Lrn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99"/>
                </a:solidFill>
                <a:latin typeface="Courier New"/>
              </a:rPr>
              <a:t>            </a:t>
            </a:r>
            <a:r>
              <a:rPr b="1" lang="en-AU" sz="1400" spc="-1" strike="noStrike">
                <a:solidFill>
                  <a:srgbClr val="000099"/>
                </a:solidFill>
                <a:latin typeface="Courier New"/>
              </a:rPr>
              <a:t>Df Sum of Sq      RSS       AIC  F Value       Pr(F)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99"/>
                </a:solidFill>
                <a:latin typeface="Courier New"/>
              </a:rPr>
              <a:t>     </a:t>
            </a:r>
            <a:r>
              <a:rPr b="1" lang="en-AU" sz="1400" spc="-1" strike="noStrike">
                <a:solidFill>
                  <a:srgbClr val="000099"/>
                </a:solidFill>
                <a:latin typeface="Courier New"/>
              </a:rPr>
              <a:t>&lt;none&gt;              74.63858 -69.95858                    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AU" sz="1400" spc="-1" strike="noStrike">
                <a:solidFill>
                  <a:srgbClr val="000099"/>
                </a:solidFill>
                <a:latin typeface="Courier New"/>
              </a:rPr>
              <a:t>Sex:Age  3  9.900204 84.53878 -57.77385  5.83624 0.000894373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99"/>
                </a:solidFill>
                <a:latin typeface="Courier New"/>
              </a:rPr>
              <a:t>Eth:Sex:Lrn  1  6.298792 80.93737 -60.12993 11.13956 0.001098191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232B-6AF9-44D1-9FA0-789523DFE19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BIC penalty on complexity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7772400" cy="504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quine.bic &lt;- stepAIC(quine.nxt, k = log(nrow(quine))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scope = list(upper=~Eth*Sex*Age*Lrn,lower=~1)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trace = F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dropterm(quine.bic, test = "F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Single term deletions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Model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log(Days + 2.5) ~ Eth + Sex + Age + Lrn + Eth:Sex + Eth:Lrn +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Sex:Age + Sex:Lrn + Eth:Sex:Lrn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            </a:t>
            </a: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Df Sum of Sq      RSS       AIC  F Value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&lt;none&gt;              74.63858 -69.95858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Sex:Age  3  9.900204 84.53878 -57.77385  5.83624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Eth:Sex:Lrn  1  6.298792 80.93737 -60.12993 11.13956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                  </a:t>
            </a: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Pr(F)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&lt;none&gt;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Sex:Age 0.000894373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Eth:Sex:Lrn 0.001098191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BAB9-5421-4308-B93B-D49FD27E20E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Interpretation of final mode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an be written a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log(Y + 2.5) ~ Sex/(Age + Eth*Lrn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two sexes behave differentl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Within each sex, however,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Age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and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th*Lrn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act additively in this scal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ot much simplification, but som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A4D0-C886-4641-B91F-2A639C0567A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Exercise: The Boston house price data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99"/>
                </a:solidFill>
                <a:latin typeface="Arial Unicode MS"/>
              </a:rPr>
              <a:t>Consult the help information for the Boston house price data from he MASS library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99"/>
                </a:solidFill>
                <a:latin typeface="Arial Unicode MS"/>
              </a:rPr>
              <a:t>Construct a model describing the median house-price (variable medv) in terms of the other variables given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99"/>
                </a:solidFill>
                <a:latin typeface="Arial Unicode MS"/>
              </a:rPr>
              <a:t>Prune the model using standard AIC.  Compare the result with that using BIC as the fit criterion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99"/>
                </a:solidFill>
                <a:latin typeface="Arial Unicode MS"/>
              </a:rPr>
              <a:t>Do the standard diagnostic tests indicate any possible reasons for concern with the analysis?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99"/>
                </a:solidFill>
                <a:latin typeface="Arial Unicode MS"/>
              </a:rPr>
              <a:t>How would you investigate whether or not two-term interactions between the predictors may be needed?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99"/>
                </a:solidFill>
                <a:latin typeface="Arial Unicode MS"/>
              </a:rPr>
              <a:t>What about quadratic terms as well?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99"/>
                </a:solidFill>
                <a:latin typeface="Arial Unicode MS"/>
              </a:rPr>
              <a:t>Report your conclusions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6D87-67DB-4C0F-9F4A-2C63263C678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995640" y="404640"/>
            <a:ext cx="914400" cy="91440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1773360"/>
            <a:ext cx="914400" cy="91440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3068640"/>
            <a:ext cx="914400" cy="91440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87640" y="4149720"/>
            <a:ext cx="914400" cy="91440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4076640"/>
            <a:ext cx="914400" cy="914400"/>
          </a:xfrm>
          <a:prstGeom prst="octagon">
            <a:avLst>
              <a:gd name="adj" fmla="val 29287"/>
            </a:avLst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95640" y="5157720"/>
            <a:ext cx="914400" cy="91440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3850920" y="4941360"/>
            <a:ext cx="289080" cy="287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859280" y="4941360"/>
            <a:ext cx="289080" cy="287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4858920" y="3860280"/>
            <a:ext cx="360360" cy="36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3851280" y="3933360"/>
            <a:ext cx="287280" cy="28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427640" y="2707920"/>
            <a:ext cx="0" cy="28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4500720" y="1413000"/>
            <a:ext cx="0" cy="28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01800" y="620640"/>
            <a:ext cx="29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Insul/poly(Temp,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125800" y="206064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Insul/Te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81080" y="3284640"/>
            <a:ext cx="200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Insul + Te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52720" y="43657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Te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11280" y="4437000"/>
            <a:ext cx="280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Insul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(not consider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21080" y="54450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33840" y="2276640"/>
            <a:ext cx="28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Arial Unicode MS"/>
              </a:rPr>
              <a:t>A lattice of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BD94-158C-49BA-9F14-6A690091DBF3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he sequence of model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# Fit the sequence of models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white.lmq2 &lt;- aov(Gas ~ Insul/poly(Temp, 2), whiteside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white.lml2 &lt;- aov(Gas ~ Insul/Temp, whiteside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white.lml &lt;- aov(Gas ~ Insul + Temp, whiteside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white.lml0 &lt;- aov(Gas ~ Temp, whiteside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white.lm0 &lt;- aov(Gas ~ 1, whiteside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# Test each within the next in the sequence: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nova(white.lm0, white.lml0, white.lml, white.lml2, white.lmq2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E428-E99C-47C7-8769-A337F0D0097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nalysis of Variance tabl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40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Analysis of Variance Table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Model 1: Gas ~ 1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Model 2: Gas ~ Temp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Model 3: Gas ~ Insul + Temp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Model 4: Gas ~ Insul/Temp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Model 5: Gas ~ Insul/poly(Temp, 2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Res.Df    RSS Df Sum of Sq        F    Pr(&gt;F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1     55 75.014                    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2     54 39.995  1    35.019 359.4189 &lt; 2.2e-16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3     53  6.770  1    33.224 340.9968 &lt; 2.2e-16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4     52  5.425  1     1.345  13.8057 0.0005118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5     50</a:t>
            </a:r>
            <a:r>
              <a:rPr b="1" lang="en-AU" sz="1600" spc="-1" strike="noStrike">
                <a:solidFill>
                  <a:srgbClr val="000099"/>
                </a:solidFill>
                <a:latin typeface="Arial Unicode MS"/>
              </a:rPr>
              <a:t> 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4.8720  2     0.554   2.8408 0.0678363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6DB9-691B-4ED7-9D26-9CB4A43EBD6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 Unicode MS"/>
              </a:rPr>
              <a:t>Conclusions</a:t>
            </a:r>
            <a:endParaRPr b="0" lang="en-US" sz="44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Quadratic terms within the level of the insulation factor are unnecessary (apparently!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inear regressions apply within the level of the insulation factor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slopes are different: stop at </a:t>
            </a:r>
            <a:r>
              <a:rPr b="0" lang="en-GB" sz="2400" spc="-1" strike="noStrike">
                <a:solidFill>
                  <a:srgbClr val="000099"/>
                </a:solidFill>
                <a:latin typeface="Courier New"/>
              </a:rPr>
              <a:t>Insul/Temp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nsulation makes a difference!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35D9-DF09-4079-A7A7-9CB7CDF979E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Exercis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Conduct a similar analysis for the Birthwt data set and report your conclusion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Plot the data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Does there appear to be any variance heterogeneity?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From your analysis, what linear model most plausibly describes the situation generating the data?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Is there a systematic difference in size between girls and boys?  Explain briefly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7B06-3D4B-480A-8926-720ED093195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 note on contrast matric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772400" cy="425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Factor variables generate terms in the model matrix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-3326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way in which most people are familiar is to start with a redundant binary representation and drop columns to remove the redundancy.  e.g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-3326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Put                  and then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-3326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is corresponds to removing the first column corresponding to the alpha terms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-3326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Other resolutions are possible (and used).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268360" y="3357720"/>
          <a:ext cx="3959280" cy="78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3357720"/>
                    <a:ext cx="3959280" cy="78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1692360" y="4221000"/>
          <a:ext cx="1224000" cy="497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92360" y="4221000"/>
                    <a:ext cx="1224000" cy="4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4356000" y="4221000"/>
          <a:ext cx="4464000" cy="506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56000" y="4221000"/>
                    <a:ext cx="446400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EA92-0683-4D97-AD94-A7CF1C038D3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More on contrast matric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V&amp;R page 146 ff. 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contr.helmert(4)</a:t>
            </a:r>
            <a:r>
              <a:rPr b="0" lang="en-GB" sz="2000" spc="-1" strike="noStrike">
                <a:solidFill>
                  <a:srgbClr val="000099"/>
                </a:solidFill>
                <a:latin typeface="Courier New"/>
              </a:rPr>
              <a:t>                </a:t>
            </a:r>
            <a:r>
              <a:rPr b="0" lang="en-GB" sz="2000" spc="-1" strike="noStrike">
                <a:solidFill>
                  <a:srgbClr val="ff0000"/>
                </a:solidFill>
                <a:latin typeface="Courier New"/>
              </a:rPr>
              <a:t># contrast matrix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[,1] [,2] [,3]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1   -1   -1   -1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2    1   -1   -1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3    0    2   -1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4    0    0    3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fractions(ginv(contr.helmert(4)))</a:t>
            </a:r>
            <a:r>
              <a:rPr b="0" lang="en-GB" sz="2000" spc="-1" strike="noStrike">
                <a:solidFill>
                  <a:srgbClr val="000099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urier New"/>
              </a:rPr>
              <a:t>                           </a:t>
            </a:r>
            <a:r>
              <a:rPr b="0" lang="en-GB" sz="2000" spc="-1" strike="noStrike">
                <a:solidFill>
                  <a:srgbClr val="ff0000"/>
                </a:solidFill>
                <a:latin typeface="Courier New"/>
              </a:rPr>
              <a:t># meaning of estimates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[,1]  [,2]  [,3]  [,4]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[1,]  -1/2   1/2     0     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[2,]  -1/6  -1/6   1/3     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[3,] -1/12 -1/12 -1/12   1/4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E4EE-2004-4B47-8FDA-69A6BA76F82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3:19:39Z</dcterms:created>
  <dc:creator>Venables</dc:creator>
  <dc:description/>
  <dc:language>en-US</dc:language>
  <cp:lastModifiedBy>Venables, Bill (CMIS, Cleveland)</cp:lastModifiedBy>
  <dcterms:modified xsi:type="dcterms:W3CDTF">2007-08-09T02:22:30Z</dcterms:modified>
  <cp:revision>21</cp:revision>
  <dc:subject/>
  <dc:title>S-PLUS, An Introduction to the System</dc:title>
</cp:coreProperties>
</file>