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7E2-A37E-4A86-BFB6-C1C3914F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DEF7-3F49-4C31-BF58-87AB3B16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D51-B5F1-4B2E-A4F0-AC839A6B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7F0-E446-43D5-8EE3-013C826D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F14-D77C-405E-B41E-8954CDF3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29B-4775-4D27-9D8F-092A385B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FC1-2EBE-48CF-820D-F1CBFCD8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11F-9C91-4EA0-A064-8BBE5905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CA08-D38F-4597-B973-5BD3BA6E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C70-01A8-462F-8A9D-9EF86A1B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FD3-F42B-4879-9C0F-7176569D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A98-B1E5-4B81-BC98-B1CEBCA0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D0088C-48AB-4E47-9EC2-5362A4E91106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8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s an Introdu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ulative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Two very hot years had crop damage during harvest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Wide range where little difference, but very dry years may lead to a reduced yield and very wet years to an enhanced one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One very dry growing month led to a reduced yield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ear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trongest and most consistent predictor by far.  Some evidence of a pause in new varieties during the war and immediately post-war period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93F-EAD3-4A10-BB2B-040A8C56F9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entative inferenc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gt; summary(iowa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amily: gaussian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ink function: identity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ormula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s(Temp4, k = 5) + s(Rain0, k = 5) + s(Rain2, k = 5)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Year, k =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arametric 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stimate Std. Error t value Pr(&gt;|t|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  50.000      1.035   48.32   &lt;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pproximate significance of smooth term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df Est.rank      F  p-valu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Temp4) 2.303        4  4.067   0.012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Rain0) 2.686        4  2.343   0.085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Rain2) 1.000        1  1.682   0.207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Year)  3.180        4 14.477 5.02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-sq.(adj) =  0.797   Deviance explained = 85.5%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CV score = 51.074   Scale est. = 35.334    n = 3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F5F-694F-49CC-922D-1124F8FCD0B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we get to the same place with GLM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 terms: specified with ns(x, …) or bs(x, …), differ only in behaviour near the end poi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y specify the knot and boundary knot positions (recommended if prediction will be needed) or the equivalent degrees of freedom (OK for exploratory purpos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ach spline term is a collection of ordinary linear terms, but the coefficients have no simple meaning and the individual significance tests are meaningless.  Best regarded as a single composite term and retained or removed as a block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831-BF69-4336-99AF-62402E6F5CE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1640" y="758880"/>
            <a:ext cx="828072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brary(splines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iowa.ns &lt;- lm(Yield ~ ns(Temp4, df=3) + ns(Rain0, df=3) + ns(Rain2, df = 3) + ns(Year, df=3), Iow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rmplot(iowa.ns, se=T, partial.resid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iowa.ns, test = "F", k = log(nrow(Iowa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ns(Temp4, df = 3) + ns(Rain0, df = 3) + ns(Rain2, df = 3)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Year, df = 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            726.26  147.47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Temp4, df = 3)  3    274.60 1000.86  147.56    2.52   0.087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Rain0, df = 3)  3    332.31 1058.57  149.41    3.05   0.0523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Rain2, df = 3)  3     70.61  796.87  140.04    0.65   0.5932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Year, df = 3)   3   2022.93 2749.19  180.91   18.57 5.339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4E4-490C-4B2E-934D-4A24B381914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7280" cy="676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1FA-5FA3-4B00-9E9D-4BD66460DFC1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57F-4B85-4397-955A-7E64F2A8AF5E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remark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Very similar pattern to the components as for the additive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w clear that the term i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s not useful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terms will need to be re-assess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term in Year stands out as dominant with a clear pattern in the response curve and the partial residuals following it close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Small data sets like this can be very misleading!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Extreme caution is need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1B4-908F-44BB-9685-75F674F12F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cond example: Rock data (V&amp;R p. 233 ff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sponse: permeabilit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edictors: area, perimeter and shap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oblem: build a predictor for log(perm) using the available predictor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ck.lm &lt;- lm(log(perm) ~ area + peri + shape, data = rock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rock.lm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t value Pr(&gt;|t|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 5.3331  0.5487     9.7200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rea  0.0005  0.0001     5.6021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eri -0.0015  0.0002    -8.6228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hape  1.7565  1.7559     1.0003  0.3226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529-C16F-4A77-BAAF-66F186C9059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rateg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ock.gam &lt;- gam(log(perm) ~ s(area) + s(peri) + s(shape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control = gam.control(maxit = 50), data = rock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ummary(rock.gam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anova(rock.lm, rock.gam) </a:t>
            </a:r>
            <a:r>
              <a:rPr b="0" lang="en-AU" sz="2000" spc="-1" strike="noStrike">
                <a:solidFill>
                  <a:srgbClr val="ff0000"/>
                </a:solidFill>
                <a:latin typeface="Courier New"/>
              </a:rPr>
              <a:t># shows no improvemen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ar(mfrow = c(2, 3), pty = 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lot(rock.gam, s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ock.gam1 &lt;- gam(log(perm) ~ area + peri + s(shape), data = rock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lot(rock.gam1, s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anova(rock.lm, rock.gam1, rock.gam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23D-A2FE-4D1A-9ADC-48A557BA7EE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gt; summary(rock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amily: gaussian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k function: identity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mula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g(perm) ~ s(area) + s(peri)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rametric 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stimate Std. Error t value Pr(&gt;|t|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Intercept)   5.1075     0.1222   41.81   &lt;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pproximate significance of smooth term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f Est.rank      F  p-valu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area)  1.000        1 29.878 2.09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peri)  1.000        1 72.664 7.77e-1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shape) 1.402        3  1.324    0.27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-sq.(adj) =  0.735   Deviance explained = 75.4%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GCV score = 0.78865   Scale est. = 0.71631   n = 4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617-D8D7-4233-981F-390F7C39A5A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del assumes that the mean response is a sum of terms each depending on (usually) a single predictor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e     s are linear terms, this is just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ey are step functions – main effect of a factor ter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general they may be smooth terms, with the degree of smoothness chosen by cross valid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411280" y="2637000"/>
          <a:ext cx="288000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637000"/>
                    <a:ext cx="28800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835280" y="3357720"/>
          <a:ext cx="3078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357720"/>
                    <a:ext cx="307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E74-15C3-4C67-8368-8491AC2F89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Testing lm within a gam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rock.lm, rock.g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alysis of Var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del 1: log(perm) ~ area + peri + shap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del 2: log(perm) ~ s(area) + s(peri) + s(shap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.Df    RSS       Df Sum of Sq      F Pr(&gt;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 44.00000 31.949           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2 43.59763 31.230  0.40237     0.719 2.4951 0.125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57D-8A13-46CD-8E03-724197B989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&gt;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ummary(rock.gam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amily: gaussian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ink function: identity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ormula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og(perm) ~ area + peri + s(shap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arametric coefficien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stimate Std. Error t value Pr(&gt;|t|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(Intercept)  5.747e+00  3.615e-01  15.896  &lt; 2e-1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rea         4.727e-04  8.648e-05   5.466 2.09e-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eri        -1.505e-03  1.766e-04  -8.524 7.77e-1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pproximate significance of smooth term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df Est.rank     F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(shape) 1.402        3 1.324   0.27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R-sq.(adj) =  0.735   Deviance explained = 75.4%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GCV score = 0.78865   Scale est. = 0.71631   n = 4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8FE-C0FA-4E8E-A172-59AD291DADA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7898" r="0" b="54814"/>
          <a:stretch/>
        </p:blipFill>
        <p:spPr>
          <a:xfrm>
            <a:off x="179280" y="0"/>
            <a:ext cx="8496360" cy="316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54784" r="0" b="6094"/>
          <a:stretch/>
        </p:blipFill>
        <p:spPr>
          <a:xfrm>
            <a:off x="250920" y="2997360"/>
            <a:ext cx="8424720" cy="329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994-091F-4226-8ED0-46152D5C706D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omparing 3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nova(rock.lm, rock.gam1, rock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1: log(perm) ~ area + peri + shap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2: log(perm) ~ area + peri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3: log(perm) ~ s(area) + s(peri)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.Df    RSS          Df  Sum of Sq      F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1  4.4000e+01 31.949               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  4.3598e+01 31.230  4.0237e-01      0.719 2.4951    0.125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3  4.3598e+01 31.230 -3.5094e-06 -5.028e-06 2.0001 2.107e-0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DCB-5BFB-4492-B1ED-029ECC23EAC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ess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hough suggestive, the curve in shape is not particularly convincing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this case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ruto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lso suggests essentially linear terms, at most, in all three variables (V&amp;R p 235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3F2-7DEA-43FA-8921-0CB719BA217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oices of ter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some cases the additive terms may be know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moothing splin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cal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s with fixed degrees of freedo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s with known knots and boundary knot posi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armonic terms, &amp;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32E-EB30-4FB2-A0D9-68F13730F3E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imilarities to, and differences from GL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dditive models are analogous to regression model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Generalized additive models are akin to the GLMs – they may employ a link function to relate the linear predictor to the mean of the response, they may have a non-normal distribution, &amp;c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itting GAMs is the same process as fitting GLMs (but with one letter different in the function name)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itting process is NOT maximum likelihood if there are any smoother terms present.  A likelihood penalized by a roughness term is maximised, with the tuning constant chosen (usually) by cross-validat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Inference for GAMs is difficult and somewhat contentious.  Best regarded as an exploratory technique with standard models to follow (see example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920-AB79-4B12-9DAC-1644FD2FDCA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Iowa wheat yield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toy example from 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Draper N R, and Smith H, </a:t>
            </a:r>
            <a:r>
              <a:rPr b="0" i="1" lang="en-GB" sz="1800" spc="-1" strike="noStrike">
                <a:solidFill>
                  <a:srgbClr val="000099"/>
                </a:solidFill>
                <a:latin typeface="Arial Unicode MS"/>
              </a:rPr>
              <a:t>Applied regression analysis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, 2nd Ed., John Wiley &amp; Sons, New York, 1981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: Yield of wheat in bushels/acre for the state of Iowa for the years 1930-1962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ors: Year (as surrogate), Rain0, 1, 2, 3, Temp1, 2, 3, 4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: Build a predictor for Yield from the predictors availa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te: with only 33 observations and 9 possible predictors some care has to be taken in choosing a mode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DF18-1E59-4109-AD1B-A3D20203964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linear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owa.lm1 &lt;- lm(Yield ~ ., Iow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owa.step &lt;- stepAIC(iowa.lm1, scope = list(lower =  ~ Year, upper =  ~ .), k = log(nrow(Iowa))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iowa.step, test = "F", k = log(nrow(Iowa)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Year + Rain0 + Rain2 + Temp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 RSS      AIC  F Value      Pr(F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1554.605 144.6140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emp4  1   187.951 1742.556 144.8838  3.38519 0.0764089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in0  1   196.008 1750.612 145.0361  3.53029 0.0707042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in2  1   240.204 1794.809 145.8589  4.32632 0.0467980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ear  1  1796.216 3350.821 166.4610 32.35167 0.000004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8AD-D59B-4627-91DA-9E986386E1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refle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7772400" cy="49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ven with the more stringent BIC penalty on model complexity, two of the terms found are only borderline significant in the conventional sense – a consequence of the small sample siz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vertheless the terms found are tentatively realistic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ear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urrogate for crop improv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a measure of pre-season sowing condi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rainfall during the critical growing mont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climatic conditions during harvest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re strictly linear terms in these variables reasonable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498-5520-4383-9DF2-273920A106F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tive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onsider a non-parametric smoother in each term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mgcv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owa.gam &lt;- gam(Yield ~ s(Temp4,k=5) + s(Rain0,k=5) + s(Rain2,k=5) + s(Year,k=5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ata = Iowa, trace=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iowa.gam, se = T, ylim = c(-30, 30), resid = TRU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It can be important to keep the y-axes of these plots approximately the same to allow comparisons between term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358-0F91-43C0-98B9-3494F665414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A2D-90C2-4F86-AADA-B06923E5FCCC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3:13:00Z</dcterms:modified>
  <cp:revision>17</cp:revision>
  <dc:subject/>
  <dc:title>S-PLUS, An Introduction to the System</dc:title>
</cp:coreProperties>
</file>