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4459-13E5-41BD-8F06-5733BDEF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557-2264-4221-9F1F-7D6234FB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B3E-E751-4EDC-B920-A9C74B819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E3C3-67B9-44B1-9794-90B67177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9780-4C5C-4D1F-9EA9-FEBBD086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675F-4773-4FAA-B084-56AB3E57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76B6-FA2F-4F1A-BA3F-7050C836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CA98-DD61-436C-BA4F-06A9DBE5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4698-6EB5-4322-8F1D-E169DB67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6E8D-B101-4A42-9EEC-B7F006B1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7239-EB57-4490-BAB8-1FB21BBF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6850-11E9-44AF-A0A4-F937BB10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8BA2B01-B442-4C8B-ACFC-5403C3D6DC76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4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Demystifying Neural Network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irth weight example, continued.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Set up train/test and start with a parametric model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b1 &lt;- sample(1:nrow(bwt), 100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wt.train &lt;- bwt[sb1,  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wt.test &lt;- bwt[ - sb1,  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m.train &lt;- update(tst1, data = bwt.train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m.tst &lt;- predict(bm.train, bwt.test, type = "resp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m.class &lt;- round(bm.t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(bm.class, bwt.test$low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bm.class  0  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0 57 1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1  6 1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AA0D-10A8-4F6A-9817-3429ED2B09A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w consider a tree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quire(tre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m.train &lt;- tree(factor(low) ~ race + smoke + age + ptd + ht + ui + ftv, bwt.train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lot(cv.tree(tm.train, FUN = prune.miscla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m.train &lt;- prune.tree(tm.train, best = 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m.class &lt;- predict(tm.train, bwt.test, type = "clas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(tm.class, bwt.test$low)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tm.class  0  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0 40 1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1 23 1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D742-82DF-4ED6-ADA9-F2740822839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65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ome initial explorations of a N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6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Not clear what degree of non-linearity is warranted, but try some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0 &lt;- max(abs(model.matrix( ~ race + smoke + age + ptd + ht + ui + ftv, bwt.train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m.train &lt;- nnet(low ~ race + smoke + age + ptd + ht + ui + ftv, data = bwt.train, size = 3, entropy = T, rang = 1/X0, skip = T, decay = 0.01, trace = T, maxit = 100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weights:  4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nitial  value 68.527783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 10 value 52.90699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 20 value 48.31932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290 value 25.68342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300 value 25.68339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nal  value 25.683390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converged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F8DD-D360-45DE-B620-9042451E49C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est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Normalisations are somewhat tediou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m.tst &lt;- predict(nm.train, newdata = bwt.test, type = "raw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m.class &lt;- round(nm.t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ble(nm.class, bwt.test$low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nm.class  0  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       </a:t>
            </a: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0 49 1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       </a:t>
            </a: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1 14 12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estPred2(nm.train, bwt.t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80"/>
                </a:solidFill>
                <a:latin typeface="Courier New"/>
              </a:rPr>
              <a:t>[1] 35.9550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9373-ECBF-4505-8B89-DEAE78AD371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A more challenging test: credit card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C.nnet &lt;- nnet(credit.card.owner ~ ., CCTrain, size = 7, rang = 2e-7, skip = T, decay = 0.05, trace = T, maxit = 1000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2(CC.nne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8080"/>
                </a:solidFill>
                <a:latin typeface="Courier New"/>
              </a:rPr>
              <a:t>[1] 15.92593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cc"/>
                </a:solidFill>
                <a:latin typeface="Arial Unicode MS"/>
              </a:rPr>
              <a:t>Not as good as random forests, better than trees and parametric model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2F03-2B0E-4988-B3C9-DE4F5F97578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model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n input node for every determining vari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specified number of internal nod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n output node for each component of the resul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orm linear functions of the input variables for each internal laye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ransform and form linear functions for each node of the output laye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dd in ‘skip layer’ linear functions and transform agai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4360" y="5084640"/>
          <a:ext cx="7704000" cy="12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084640"/>
                    <a:ext cx="7704000" cy="12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C1AB-F99E-458F-85EB-A1B094A117B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35280" y="126828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1916280"/>
            <a:ext cx="433080" cy="431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56536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321300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393372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184464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80000" y="2565360"/>
            <a:ext cx="43308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3284640"/>
            <a:ext cx="433080" cy="43164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1844640"/>
            <a:ext cx="43344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565360"/>
            <a:ext cx="43344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3213000"/>
            <a:ext cx="433440" cy="4320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8" idx="6"/>
            <a:endCxn id="53" idx="2"/>
          </p:cNvCxnSpPr>
          <p:nvPr/>
        </p:nvCxnSpPr>
        <p:spPr>
          <a:xfrm>
            <a:off x="2268000" y="1483920"/>
            <a:ext cx="1512360" cy="577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0" name=""/>
          <p:cNvCxnSpPr>
            <a:stCxn id="48" idx="6"/>
            <a:endCxn id="54" idx="1"/>
          </p:cNvCxnSpPr>
          <p:nvPr/>
        </p:nvCxnSpPr>
        <p:spPr>
          <a:xfrm>
            <a:off x="2268000" y="1484280"/>
            <a:ext cx="1575720" cy="1145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1" name=""/>
          <p:cNvCxnSpPr>
            <a:stCxn id="48" idx="6"/>
            <a:endCxn id="55" idx="1"/>
          </p:cNvCxnSpPr>
          <p:nvPr/>
        </p:nvCxnSpPr>
        <p:spPr>
          <a:xfrm>
            <a:off x="2268000" y="1483920"/>
            <a:ext cx="1575720" cy="1864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2" name=""/>
          <p:cNvCxnSpPr>
            <a:stCxn id="49" idx="6"/>
            <a:endCxn id="53" idx="2"/>
          </p:cNvCxnSpPr>
          <p:nvPr/>
        </p:nvCxnSpPr>
        <p:spPr>
          <a:xfrm flipV="1">
            <a:off x="2268000" y="2060280"/>
            <a:ext cx="1512360" cy="72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3" name=""/>
          <p:cNvCxnSpPr>
            <a:stCxn id="49" idx="6"/>
            <a:endCxn id="54" idx="1"/>
          </p:cNvCxnSpPr>
          <p:nvPr/>
        </p:nvCxnSpPr>
        <p:spPr>
          <a:xfrm>
            <a:off x="2268000" y="2131560"/>
            <a:ext cx="1575720" cy="4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4" name=""/>
          <p:cNvCxnSpPr>
            <a:stCxn id="50" idx="6"/>
            <a:endCxn id="54" idx="2"/>
          </p:cNvCxnSpPr>
          <p:nvPr/>
        </p:nvCxnSpPr>
        <p:spPr>
          <a:xfrm>
            <a:off x="2268000" y="2781000"/>
            <a:ext cx="15123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5" name=""/>
          <p:cNvCxnSpPr>
            <a:stCxn id="50" idx="6"/>
            <a:endCxn id="53" idx="2"/>
          </p:cNvCxnSpPr>
          <p:nvPr/>
        </p:nvCxnSpPr>
        <p:spPr>
          <a:xfrm flipV="1">
            <a:off x="2268000" y="2060280"/>
            <a:ext cx="1512360" cy="72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6" name=""/>
          <p:cNvCxnSpPr>
            <a:stCxn id="51" idx="6"/>
            <a:endCxn id="54" idx="2"/>
          </p:cNvCxnSpPr>
          <p:nvPr/>
        </p:nvCxnSpPr>
        <p:spPr>
          <a:xfrm flipV="1">
            <a:off x="2268000" y="2780640"/>
            <a:ext cx="1512360" cy="648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7" name=""/>
          <p:cNvCxnSpPr>
            <a:stCxn id="52" idx="6"/>
            <a:endCxn id="54" idx="3"/>
          </p:cNvCxnSpPr>
          <p:nvPr/>
        </p:nvCxnSpPr>
        <p:spPr>
          <a:xfrm flipV="1">
            <a:off x="2268000" y="2933280"/>
            <a:ext cx="1575720" cy="12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8" name=""/>
          <p:cNvCxnSpPr>
            <a:stCxn id="52" idx="6"/>
            <a:endCxn id="55" idx="3"/>
          </p:cNvCxnSpPr>
          <p:nvPr/>
        </p:nvCxnSpPr>
        <p:spPr>
          <a:xfrm flipV="1">
            <a:off x="2268000" y="3652560"/>
            <a:ext cx="1575720" cy="497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9" name=""/>
          <p:cNvCxnSpPr>
            <a:stCxn id="50" idx="6"/>
            <a:endCxn id="55" idx="2"/>
          </p:cNvCxnSpPr>
          <p:nvPr/>
        </p:nvCxnSpPr>
        <p:spPr>
          <a:xfrm>
            <a:off x="2268000" y="2781000"/>
            <a:ext cx="1512360" cy="719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0" name=""/>
          <p:cNvCxnSpPr>
            <a:stCxn id="51" idx="6"/>
            <a:endCxn id="55" idx="3"/>
          </p:cNvCxnSpPr>
          <p:nvPr/>
        </p:nvCxnSpPr>
        <p:spPr>
          <a:xfrm>
            <a:off x="2268000" y="3429000"/>
            <a:ext cx="1575720" cy="224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1" name=""/>
          <p:cNvCxnSpPr>
            <a:stCxn id="51" idx="6"/>
            <a:endCxn id="53" idx="3"/>
          </p:cNvCxnSpPr>
          <p:nvPr/>
        </p:nvCxnSpPr>
        <p:spPr>
          <a:xfrm flipV="1">
            <a:off x="2268000" y="2212560"/>
            <a:ext cx="1575720" cy="121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2" name=""/>
          <p:cNvCxnSpPr>
            <a:stCxn id="53" idx="6"/>
            <a:endCxn id="56" idx="2"/>
          </p:cNvCxnSpPr>
          <p:nvPr/>
        </p:nvCxnSpPr>
        <p:spPr>
          <a:xfrm>
            <a:off x="4212720" y="2060280"/>
            <a:ext cx="1367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3" name=""/>
          <p:cNvCxnSpPr>
            <a:stCxn id="53" idx="6"/>
            <a:endCxn id="57" idx="2"/>
          </p:cNvCxnSpPr>
          <p:nvPr/>
        </p:nvCxnSpPr>
        <p:spPr>
          <a:xfrm>
            <a:off x="4212720" y="2060640"/>
            <a:ext cx="1367640" cy="72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4" name=""/>
          <p:cNvCxnSpPr>
            <a:stCxn id="54" idx="6"/>
            <a:endCxn id="56" idx="2"/>
          </p:cNvCxnSpPr>
          <p:nvPr/>
        </p:nvCxnSpPr>
        <p:spPr>
          <a:xfrm flipV="1">
            <a:off x="4212720" y="2060280"/>
            <a:ext cx="1367640" cy="721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5" name=""/>
          <p:cNvCxnSpPr>
            <a:stCxn id="54" idx="6"/>
            <a:endCxn id="57" idx="2"/>
          </p:cNvCxnSpPr>
          <p:nvPr/>
        </p:nvCxnSpPr>
        <p:spPr>
          <a:xfrm>
            <a:off x="4212720" y="2781000"/>
            <a:ext cx="136764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6" name=""/>
          <p:cNvCxnSpPr>
            <a:stCxn id="55" idx="6"/>
            <a:endCxn id="58" idx="2"/>
          </p:cNvCxnSpPr>
          <p:nvPr/>
        </p:nvCxnSpPr>
        <p:spPr>
          <a:xfrm flipV="1">
            <a:off x="4212720" y="3428640"/>
            <a:ext cx="1367640" cy="72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7" name=""/>
          <p:cNvCxnSpPr>
            <a:stCxn id="55" idx="6"/>
            <a:endCxn id="57" idx="2"/>
          </p:cNvCxnSpPr>
          <p:nvPr/>
        </p:nvCxnSpPr>
        <p:spPr>
          <a:xfrm flipV="1">
            <a:off x="4212720" y="2780640"/>
            <a:ext cx="1367640" cy="719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8" name=""/>
          <p:cNvSpPr/>
          <p:nvPr/>
        </p:nvSpPr>
        <p:spPr>
          <a:xfrm>
            <a:off x="2859120" y="789120"/>
            <a:ext cx="4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 Unicode MS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76500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*</a:t>
            </a:r>
            <a:r>
              <a:rPr b="0" i="1" lang="el-GR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φ</a:t>
            </a:r>
            <a:r>
              <a:rPr b="0" lang="en-A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49" idx="6"/>
            <a:endCxn id="55" idx="2"/>
          </p:cNvCxnSpPr>
          <p:nvPr/>
        </p:nvCxnSpPr>
        <p:spPr>
          <a:xfrm>
            <a:off x="2268000" y="2131560"/>
            <a:ext cx="1512360" cy="136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1" name=""/>
          <p:cNvCxnSpPr>
            <a:stCxn id="52" idx="6"/>
            <a:endCxn id="53" idx="3"/>
          </p:cNvCxnSpPr>
          <p:nvPr/>
        </p:nvCxnSpPr>
        <p:spPr>
          <a:xfrm flipV="1">
            <a:off x="2268000" y="2212560"/>
            <a:ext cx="1575720" cy="1937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2" name=""/>
          <p:cNvCxnSpPr>
            <a:stCxn id="55" idx="6"/>
            <a:endCxn id="56" idx="2"/>
          </p:cNvCxnSpPr>
          <p:nvPr/>
        </p:nvCxnSpPr>
        <p:spPr>
          <a:xfrm flipV="1">
            <a:off x="4212720" y="2059920"/>
            <a:ext cx="1367640" cy="1440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3" name=""/>
          <p:cNvCxnSpPr>
            <a:stCxn id="54" idx="6"/>
            <a:endCxn id="58" idx="2"/>
          </p:cNvCxnSpPr>
          <p:nvPr/>
        </p:nvCxnSpPr>
        <p:spPr>
          <a:xfrm>
            <a:off x="4212720" y="2781000"/>
            <a:ext cx="1367640" cy="648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4" name=""/>
          <p:cNvCxnSpPr>
            <a:stCxn id="53" idx="6"/>
            <a:endCxn id="58" idx="2"/>
          </p:cNvCxnSpPr>
          <p:nvPr/>
        </p:nvCxnSpPr>
        <p:spPr>
          <a:xfrm>
            <a:off x="4212720" y="2060280"/>
            <a:ext cx="1367640" cy="136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5" name=""/>
          <p:cNvSpPr/>
          <p:nvPr/>
        </p:nvSpPr>
        <p:spPr>
          <a:xfrm>
            <a:off x="1046880" y="2565360"/>
            <a:ext cx="3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9200" y="249228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 Unicode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040" y="4676760"/>
            <a:ext cx="44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 Unicode MS"/>
              </a:rPr>
              <a:t>5-3-3 Neural net, no skip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F1EF-8D51-4DC3-94BA-4315A769826C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Regression func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think of these as regression equation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ternal layer transformations: logistic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utput transformations: Linear, logistic or threshol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stimation criteria: OLS, Logistic or ‘softmax’ (p. 245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843280" y="2276640"/>
          <a:ext cx="2303280" cy="60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276640"/>
                    <a:ext cx="23032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2340000" y="3573360"/>
          <a:ext cx="3168720" cy="109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3573360"/>
                    <a:ext cx="3168720" cy="10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EE5-2F62-4827-B53C-7D8CEDD891A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enalized estim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eneral idea: minimiz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cale the x-variables to be in [0,1] and measure ‘roughenss’ a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ntropy fit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east squares fit: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419640" y="2421000"/>
          <a:ext cx="1942920" cy="5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421000"/>
                    <a:ext cx="19429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276720" y="3716280"/>
          <a:ext cx="2447640" cy="90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716280"/>
                    <a:ext cx="244764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564000" y="5300640"/>
          <a:ext cx="3168720" cy="61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5300640"/>
                    <a:ext cx="316872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843280" y="4581360"/>
          <a:ext cx="2665440" cy="52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4581360"/>
                    <a:ext cx="26654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07F8-4B42-4022-AC36-5FD7A8BAB27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pecial cas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internal nodes, no penalties, linear output fun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(Multivariate) linear regression (the hard way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internal nodes, no penalties, logistic output function, one output nod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gistic regression (the hard way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skip layer, one internal node, Kullback-Liebler objective function with no penalti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gistic regression agai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internal nodes, ‘softmax’ objective function, no penaltie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ultiple logistic, multinomial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395E-1C3F-4698-9A4B-23717788A35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inear Regression the Hard Way: a check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st &lt;- nnet(1000/MPG.city ~ Weight+Origin+Type, Cars93, linout = T, size = 0, decay = 0, rang = 0, skip = T, 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weights:  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nitial  value 213926.872885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 10 value 1474.56415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nal  value 1461.849294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converged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ef(t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b-&gt;o      i1-&gt;o      i2-&gt;o    i3-&gt;o      i4-&gt;o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6.079536 0.01337819 -0.6014517 2.225679 -0.245694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5-&gt;o      i6-&gt;o     i7-&gt;o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0.07327528 -0.2431229 0.3443452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9CE6-5BB8-4AF4-81DD-9E842E28103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eck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st1 &lt;- lm(1000/MPG.city ~ Weight + Origin+Type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ef(ts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   Weight     Origin    Type1      Type2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6.079531 0.0133782 -0.6014518 2.225679 -0.245695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Type3      Type4     Type5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0.07327431 -0.2431231 0.344344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ange(coef(tst) - coef(tst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-7.084505e-009  4.709652e-0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9144-6024-4C3F-9617-AC8E05440E1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ogistic regression is a special ca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irth weight data agai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st &lt;- nnet(low ~ ptd + ftv/age, data = bwt, entropy = T, skip = T, size = 0, decay = 0, rang = 0, 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# weights:  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initial  value 131.004817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iter  10 value 101.71356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final  value 101.676271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converged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st1 &lt;- glm(low ~ ptd + ftv/age, binomial, bw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ange(coef(tst) - coef(tst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1] -0.0001691513  0.000321821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EBC4-4D7A-4890-B661-ED9CB067C2D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3:11Z</dcterms:modified>
  <cp:revision>15</cp:revision>
  <dc:subject/>
  <dc:title>S-PLUS, An Introduction to the System</dc:title>
</cp:coreProperties>
</file>