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4EB3-E6B8-4D03-AAB3-039D3856C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057-AB40-456E-86F7-677D93DE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DF62-8AEC-401A-B885-2E17577E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0B8-E9D3-421E-80DC-D56A0D423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9978-7486-40B2-81B1-8B516349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919-D287-4C2C-B575-FD324A60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8211-03C0-40B5-8628-BF4FE7F1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03FB-B03D-4E5D-B8E7-7E52F0C3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499C-87C0-4308-B657-76C9DDB5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D4C-3EF8-4ED9-B88A-BD83E70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3E5-2164-4AD4-BBD9-DB94BBD0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E00D-F165-4331-82C6-18ED4CF7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4EEA26F-5488-45A8-A214-E3428F5668DB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on mixed effects modell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95280" y="115920"/>
          <a:ext cx="799308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9308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6F25-0D2F-45CD-9772-C164D1D120E0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4360" y="115920"/>
          <a:ext cx="7704000" cy="59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5920"/>
                    <a:ext cx="7704000" cy="59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69A-14B5-49B3-BED5-D418FF9EE9B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Variance compon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GLMM.Alcyonacea, corr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ta: Bentho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IC      BIC    logLik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338.8218 371.0074 -157.41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667752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1 | Plot %in% Crui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(Intercept) Residual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:   0.5896012 2.5099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riance function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fixed weight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 ~ invwt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Alcyonacea ~ Topography + I(Impact * cbind(nsi(Intensity),    bin(Time))) + offset(log(SweptArea)) 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D8AD-4A12-4744-A63C-65B3CDEF233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produces a result where the components of variance are smaller than the underlying Poisson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useful way of isolating various parts of the model to reveal (perhaps speculatively!) the fixed patter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ood way of handling overdispersion – close connection between GLMMs and Negative Binomi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till somewhat controversial.  The inference process is still a matter of deb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5500-1A9D-4B1B-822B-A63FF368887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ird non-linear example: the muscl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92360" y="2193840"/>
          <a:ext cx="5616360" cy="43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193840"/>
                    <a:ext cx="5616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303920" y="1427040"/>
            <a:ext cx="626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log(Length) ~ Conc | Strip, muscle, as.table = 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C9D-A932-45AA-BF82-76D34A7A520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fit: fixed effects on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ggested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43 parameters with only 61 points.  Special care needs to be taken with fitting th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use the “plinear” algorithm both to simplify the model specification and to make the fitting process more robu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ed to specify the non-linear parameters on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n re-fit the model in a standard way to simplify predictions from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79640" y="2060640"/>
          <a:ext cx="475308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060640"/>
                    <a:ext cx="475308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55B-2EA2-4F9B-AD52-C88EA038949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model.matrix(~Strip - 1, muscle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1 &lt;- nls(log(Length) ~ cbind(X, X*rho^Conc), muscle, start = c(rho = 0.1), algorithm = "plinear"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as.vector(coef(muscle.nls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 &lt;- list(rho = b[1]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lpha = b[2:22], beta = b[23:43]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uscle.nls2 &lt;- nls(log(Length) ~ alpha[Strip] + beta[Strip]*rho^Conc, muscle, start = init, 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.....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21E8-15E1-4950-9798-4BC5777BF682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 and presentation of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expand.grid(Conc = seq(0.25, 4, len=20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rip = levels(muscle$Strip), Length = 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rbind(muscl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 &lt;- Muscle[order(Muscle$Strip, Muscle$Conc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fit &lt;- predict(muscle.nls2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fit ~ Conc|Strip, Muscle, type = "l"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78A-47FD-42C5-BD98-97669C73D4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E54-92C3-4874-88A8-8BD70EE4E33F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mixed effect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0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.nlme &lt;- nlme(log(Length) ~ alpha + beta*rho^Conc, muscl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xed = rho+alpha+beta ~ 1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dom = alpha + beta ~ 1|Strip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va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uscle$RandomFit &lt;- predict(muscle.nlme, Musc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RandomFit ~ Conc|Strip, Muscle, type = "l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ines(x, Muscle$fit[subscripts]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points(x, log(Muscle$Length[subscripts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ylab = "log(Length)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lab = "CaCl concentration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EC40-3C50-4A79-9CC1-BF081F0F83B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Generalized Linear Mix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covery of the benthos after trawling on the Great Barrier Reef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6 Control plots, 6 Impact plo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isited 2 times prior to treatment and 4 times afterwards – longitudinal stud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pection is by Benthic sled.  The total number of animals of each species is counted for each trans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 trawl intensity in the transe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tal ‘swept area’ of the sled video camer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pography (Shallow or Deep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2B5-E077-48C0-A77D-7F7C6CDF3F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5092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1FDD-710D-4629-8426-60EF2AC47F9B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ummary(muscle.nlm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onlinear mixed-effects model fit by maximum likelihood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 log(Length) ~ alpha + beta * rho^Conc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ormula: list(alpha ~ 1, beta ~ 1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vel: Stri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dDev     Corr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  0.16991613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   0.88268573 0.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idual 0.07692169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ixed effects: rho + alpha + beta ~ 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alue  Std.Error DF  t-value p-valu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 0.094083 0.01349832 37  6.96996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 3.363546 0.04486974 37 74.96247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-2.817441 0.29503865 37 -9.54940      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Correlation: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ho   alph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lpha 0.371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beta  0.546 0.2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tandardized Within-Group Residuals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          Q1         Med          Q3         Max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-1.66713635 -0.34229465 -0.08582487  0.35210281  2.843345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Observations: 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mber of Groups: 2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E17-B9A9-497E-B08B-317A17DE51A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plinear” algorithm offers an effective way of using the simplicity of linear paramete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ndom effects can be very tricky, but offer a way of “borrowing strength” from one group to another, in order to gain a more holistic representation of the process generating th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5DE-9EA9-4D02-A6C8-4B48769000F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92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each species the total count for a control or pre-experiment treatment plot has a distribution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or a post-experiment treatment plot the distribution is similar, but the Poisson mean has additional term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extra terms are a spline term in mean trawl intensity and a factor term to allow for recove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1280" y="2781360"/>
          <a:ext cx="784836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781360"/>
                    <a:ext cx="784836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189080" y="4307040"/>
          <a:ext cx="669780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9080" y="4307040"/>
                    <a:ext cx="669780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2450-8556-41B9-AB3E-6237FF268E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functions an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Species &lt;- scan("SpeciesNames.csv", what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match(Species, names(Bentho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bin &lt;- function(fac, all = F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binary matrix for a factor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ac &lt;- as.factor(fac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X &lt;- outer(fac, levels(fac), "==") + 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if(all) X else X[, -1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i &lt;- function(x, k = 3, Intensity = Benthos$Intensity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 natural spline in intensit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knots &lt;- as.vector(quantile(unique(Intensity), 0:k/k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ns(x, knots = knots[2:k], Boundary.knots = knots[c(1, k + 1)]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uard &lt;- function(x) ifelse(x &lt; -5, NA, 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3B79-F95C-4887-8E2E-E555EE76D9A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tting up the prediction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rs &lt;- c("Cruise", "Plot", "Months", "Treatme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"Time", "Impact", "Topography", "Unity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vals &lt;- with(Benthos, tapply(Intensity, Impact, mean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sa &lt;- mean(Benthos$SweptAre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transform(Benthos[, vars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Months = as.numeric(as.character(Months)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ntensity = vals[factor(Impact)]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weptArea = rep(msa, nrow(Bentho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ewData &lt;- newData[order(Benthos$Months)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FAD-A127-4C9F-AE48-2BD2A98083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key spec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int(Species, quot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] Alcyonacea                Annella.reticulata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3] Ctenocella.pectinata      Cymbastela.coralliophila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5] Dichotella.divergens      Echinogorgia.sp.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7] Hypodistoma.deeratum      Ianthella.flabelliformis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9] Junceella.fragilis        Junceella.juncea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1] Nephtheidae               Porifera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3] Sarcophyton.sp.           Scleractinia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5] Solenocaulon.sp.          Subergorgia.suberosa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[17] Turbinaria.frondens       Xestospongia.testudinaria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se are names of some columns in th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Benthos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data fram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need to fit the master model for each and produce plots of the fixed and random eff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F35-F8FC-477B-B4F6-D8886EF969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trick: fitting multiple similar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itCommand &lt;- Quote(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m &lt;- glmmPQL(Species ~ Topography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ff0000"/>
                </a:solidFill>
                <a:latin typeface="Courier New"/>
              </a:rPr>
              <a:t>I(Impact * cbind(nsi(Intensity), bin(Time)))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offset(log(SweptArea)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random = ~1|Cruise/Plo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family = poisson, data = Benthos, verbose = 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ACE6-4AA4-46DC-9BCB-44CE0254DE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the trick to work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pno &lt;-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start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name &lt;- paste("GLMM", Species[spno], sep=".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name &lt;- Species[spno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hisFitCommand &lt;- do.call("substitute", list(fitCommand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list(fm = as.name(mname), Species = as.name(sname)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eval(thisFitCommand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rint(spno &lt;- spno +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Courier New"/>
              </a:rPr>
              <a:t>### --- end of main loo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objects(pat = "GLMM.*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] "GLMM.Alcyonacea"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] "GLMM.Annella.reticulata"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3] "GLMM.Ctenocella.pectinata"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4] "GLMM.Cymbastela.coralliophila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277-0261-4CE3-A2C1-08D7E3D9CEC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 &lt;- predict(GLMM.Alcyonacea, newData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fm0 &lt;- predict(GLMM.Alcyonacea, newData, level=0) + log(ms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aphics.off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ellis.device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guard(pfm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log(mean)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and random effects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xyplot(exp(pfm0) ~ Months|Treatment*Topography, newDat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groups = Plot, type="b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main = "Alcyonacea", ylab = "mean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b = "fixed effects only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976-CF6A-4734-98ED-4427AF6649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1:12Z</dcterms:modified>
  <cp:revision>18</cp:revision>
  <dc:subject/>
  <dc:title>S-PLUS, An Introduction to the System</dc:title>
</cp:coreProperties>
</file>