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085-1F46-49C6-8696-0EFD29B7FAF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1831-D2AF-4A79-9076-C77C9E6D654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DA83-2E0F-45E4-B97B-1F1684ADDC5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A7A-671A-4B23-B4A9-F4670702DD5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296-B5BC-4CC8-8ADD-EFF17B0F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710-CFFB-4113-86C0-858C3AC8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D4B-9D9C-4EB1-AA81-2B95E555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39F-9AAA-42FA-BEF6-5ACFB296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C11-6FC4-4191-8BC8-191D3F5B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76A-0C11-469C-A30E-11C97EE1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E77-3288-4ABA-AD0A-D142A15F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767-279A-4567-A582-C431BFE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56D-4831-4548-A12C-576E6D73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526-ACE4-4380-B5AC-DC6B60C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0A1-A6C6-4EB3-9C28-3923D7F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66C-E10C-4613-8D54-01A9EB6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6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BE4310-9E67-45C5-B634-1A8A2195B699}" type="slidenum">
              <a:rPr b="1" lang="en-GB" sz="16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erde.esalq.usp.br/~jorge/clarice/venables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R 2.5.1 Prelimin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venience features to make life a bit easier when working with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R Sess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nput and output of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text/SAS/Excel/… files, ODBC connexions,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ethods of intera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 lin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ative R script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editor (Tinn-R, WinEdit, Emacs/ESS, …) and R working in tandem – most powerful of al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050-0BF3-4E42-993B-2D844F597E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Working with the fil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t aside a special directory (Microsoft: "folder") for all the files you will need, or generate, for this cour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all this the "working directory"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using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etwd(…..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make this directory your working director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ave your image, creating an .RData file in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o start R with this as your working directory, go to that directory with the file explorer and double-click on the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ub-directories for special kinds of file (e.g. graphics) are a good idea.  Neatness coun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FAF-235F-46B6-8623-7806827FEA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Always keep an eye on the search path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ist of places from which objects are sought by the evaluator.  May include packages, attached lists or data frames, or the 'global environment'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urier New"/>
              </a:rPr>
              <a:t>&gt; search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] ".GlobalEnv"        "package:stats"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3] "package:graphics"  "package:grDevices"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5] "package:utils"     "package:datasets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7] ".R_Data"           ".R_Utils"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9] "package:methods"   "Autoloads"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1] "package:base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6F7-A997-46C6-8D57-950A3F8FEA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 packages needed for the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ASOR (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ailable from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http://verde.esalq.usp.br/~jorge/clarice/venables/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gc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lattice, grid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gl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nlme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lme4,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ODBC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, foreig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rpart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tree, gbm, randomFore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hoose a .br CRAN mirror and install the ones in red.  The ones in blue should be already t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666-F5F7-48DA-B067-04865AFB9F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Demonstration 1: Installing and Using ASOR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ot strictly needed, but useful for large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llows large objects to be stored out of memory in a special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_Stor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ub-direct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Attach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make the stored files visible on the search pa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Stor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take objects out of memory and store as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Objects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list the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Remov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remove objects from the file sto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B74-6FFC-4170-BE0C-E6B9E7FF26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Reading in data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simplest way is probably using .csv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sets for the course will come from several plac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data sets are already available on the course web site </a:t>
            </a:r>
            <a:r>
              <a:rPr b="0" lang="en-AU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verde.esalq.usp.br/~jorge/clarice/venables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will be supplied as the course progresses, as need b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FBC-7037-4474-8485-A32E2E0EA3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2: Reading in and Sto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wnload the CSVFiles.zip and unzip into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Tinn-R and open the script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make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e how it work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execute the script.  This will generate another script calle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xecute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 inputData.R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(not as a source file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is should start (if need be) an .R_Store directory of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140-69A8-4E27-BF5D-022033308C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Use of R for modell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 is a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languag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manipulating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objects</a:t>
            </a: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hen using S (i.e. the R program) use objects to transmit information as completely as possi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oid using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attach(data_se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detach(data_se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ake frequent use of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…),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…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…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578-BFFC-4B66-BE4E-02D92FD03C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3: using </a:t>
            </a:r>
            <a:r>
              <a:rPr b="1" lang="en-US" sz="3200" spc="-1" strike="noStrike">
                <a:solidFill>
                  <a:srgbClr val="990033"/>
                </a:solidFill>
                <a:latin typeface="Courier New"/>
              </a:rPr>
              <a:t>with()</a:t>
            </a: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 &amp; frien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Like making a copy of the data object visible </a:t>
            </a:r>
            <a:r>
              <a:rPr b="0" i="1" lang="en-AU" sz="2400" spc="-1" strike="noStrike">
                <a:solidFill>
                  <a:srgbClr val="ff3300"/>
                </a:solidFill>
                <a:latin typeface="Arial Unicode MS"/>
              </a:rPr>
              <a:t>ahead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of the search path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nsures that variables come from the right pl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value &lt;- with(data, expression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data, do_someth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data frames to be exten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selection of rows or columns of data frames in a graceful wa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46B-0DF3-4CD3-8994-724C12AC64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Quick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 Unicode MS"/>
              </a:rPr>
              <a:t>The janka data – a leading example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with(janka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plot(Density, Hardness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D74-15A2-455F-85A5-646C79F23B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wo important environment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R_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_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"C:\\PROGRA~1\\R\\R-25~1.0</a:t>
            </a:r>
            <a:r>
              <a:rPr b="1" lang="pt-BR" sz="1800" spc="-1" strike="noStrike">
                <a:solidFill>
                  <a:srgbClr val="000099"/>
                </a:solidFill>
                <a:latin typeface="Courier New"/>
              </a:rPr>
              <a:t>"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:\\Documents and Settings\\Bill Venables\\My Documents"</a:t>
            </a: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getwd(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"C:/Documents and Settings/Bill Venables/My Documents/R Modelling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4E6-5BF3-40C5-A20C-09767A134F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_HOM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Usually located 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C:/Program Files/R/R-2.x.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Main subdirector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bin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executabl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include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rary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standard librari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do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document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et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initialisation, &amp;c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432-BCB7-44C9-8F6C-8917647FFF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Initialis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System wide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     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etc/Rprofile.si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Global to a particular us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Particular to a chapt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&lt;wd&gt;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unction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Fir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95E-A74E-4809-9810-080C6548BE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Simple structure of the </a:t>
            </a:r>
            <a:r>
              <a:rPr b="0" lang="en-US" sz="3200" spc="-1" strike="noStrike">
                <a:solidFill>
                  <a:srgbClr val="006600"/>
                </a:solidFill>
                <a:latin typeface="Courier New"/>
              </a:rPr>
              <a:t>working directo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arent directory (folder) containing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imag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reated and maintained by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f required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utomatically executed when S-PLUS star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6600"/>
                </a:solidFill>
                <a:latin typeface="Courier New"/>
              </a:rPr>
              <a:t>File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objects for load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files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xls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csv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tx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…)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cripts,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R, *.q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utput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E87-94D4-4F97-BA79-428498DD7D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Editing the GUI Preferences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336000" cy="547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7A0-3A7D-40FC-8E8A-30908D4F476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possibilities for </a:t>
            </a:r>
            <a:r>
              <a:rPr b="1" lang="en-AU" sz="32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 fi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extracts from my user 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options(show.signif.stars = FALS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length = 999999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for this course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MASS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nnet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FE6-2AFF-47F6-8101-DC11744378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ASOR pac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llows data sets to be stored out of memor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Objects remain visible – 'promises' are set to load the data on dema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ill somewhat experimental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xerc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working directory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stall the ASOR package into your machin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Load all the data sets provided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ore them in an ASOR libr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.First function to Attach() the library on commencement of the R s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298-68A2-4265-A50F-9A5F469FC6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, An Introduction to th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R is a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ng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n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interactive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object-oriented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function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 langu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Data sets, vectors, matrices, arrays, lists, function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on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put and outpu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struction, computation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Graphical displa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ssignment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8F3-F096-4348-A460-1C6CD409845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4:08:04Z</dcterms:created>
  <dc:creator>Venables</dc:creator>
  <dc:description/>
  <dc:language>en-US</dc:language>
  <cp:lastModifiedBy>Venables, Bill (CMIS, Cleveland)</cp:lastModifiedBy>
  <dcterms:modified xsi:type="dcterms:W3CDTF">2007-08-07T11:43:38Z</dcterms:modified>
  <cp:revision>10</cp:revision>
  <dc:subject/>
  <dc:title>Some S-PLUS 8.0.1 Preliminaries</dc:title>
</cp:coreProperties>
</file>