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DCA-F962-4215-8414-EA354146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FF9-6649-46B1-B9DF-30341A7C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D1DB-4180-466F-81EB-939E6A2D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3B63-9629-444E-8BE1-D1844D431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48E8-B950-486A-B79F-7D4D9C0A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44A3-B4C5-4C50-9F90-453448C6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967-7BA2-4F16-AC6C-7514586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AF4-FF60-4354-A295-308197AF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AF8-03C8-4209-8D2B-ADE9BB3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702-18FE-42EF-B0BF-44089B3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5406-3335-4253-93FC-E33BB58C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3F4-1258-461B-B35D-6E894F96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2AA3553-F74C-49A9-8701-827533A2A4A3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 models, continu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confusion matrix is not very confus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cars93.t3, Cars93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table(pred, Typ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y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red      Compact Large Midsize Small Sporty Va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ompact      15     0       0     1      2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arge         0     9       1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Midsize       0     2      19     0      0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mall         0     0       0    20      4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Sporty        1     0       2     0      8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l test comes from a train/test sample: exerci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CA6-C4FB-4EC6-B47C-0310DFDB8C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son with multinomia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nnet) </a:t>
            </a: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 multinomial is a neural network mode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 &lt;- multinom(Type ~ Width + EngineSiz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ssengers + Origin, cars93, maxit = 10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fm &lt;- predict(m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cars93, table(Type, pf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fm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Type      Compact Large Midsize Small Sporty Va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mpact      13     0       1     1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rge         0    11       0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idsize       0     1      21     0      0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mall         1     0       0    19      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porty        1     0       0     2     11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an           0     0       0     0      0   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DCE-91EA-4726-89BD-D9490C928F8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pecial case of one or two predicto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hoose two likely useful predictor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 &lt;- tree(Type ~ Width + EngineSize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); text(cars.2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.2t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.2t1 &lt;- prune.misclass(cars.2t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.2t1); text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B3B-9E3B-421E-A5BF-DC5B05601F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6392" r="0" b="11091"/>
          <a:stretch/>
        </p:blipFill>
        <p:spPr>
          <a:xfrm>
            <a:off x="287280" y="981000"/>
            <a:ext cx="8569440" cy="53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67B-869F-48FD-B98D-54158A359C7D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21440" cy="5981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A5E-308D-4AF6-9D61-0491AB458C0B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6590" r="0" b="9125"/>
          <a:stretch/>
        </p:blipFill>
        <p:spPr>
          <a:xfrm>
            <a:off x="468360" y="816120"/>
            <a:ext cx="8207280" cy="522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5763-491A-4691-9686-B5C91BE48A8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An alternative displa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3333cc"/>
                </a:solidFill>
                <a:latin typeface="Arial Unicode MS"/>
              </a:rPr>
              <a:t>If there are only two variables, the tree may be given as a two-dimensional diagra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tition.tree(cars.2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ars93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oints(Width, EngineSize, pch=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as.numeric(Type), cex = 0.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egend("topleft", levels(Type), pch = 8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l = 1:length(levels(Type)), 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B1E-7905-49A3-971C-B37B6D5D3C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0" t="7854" r="0" b="0"/>
          <a:stretch/>
        </p:blipFill>
        <p:spPr>
          <a:xfrm>
            <a:off x="431640" y="836640"/>
            <a:ext cx="8280720" cy="576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5DD-97DE-488C-A43D-EA7B68C55DF9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89600" y="260280"/>
            <a:ext cx="690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janka.t1 &lt;- tree(Hardness ~ Density, jank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tition.tree(janka.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janka, points(Density, Hardness, col="red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10421" r="0" b="0"/>
          <a:stretch/>
        </p:blipFill>
        <p:spPr>
          <a:xfrm>
            <a:off x="838080" y="1341360"/>
            <a:ext cx="7467840" cy="5051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330-7595-4DDD-AD0A-E6C4AA30C310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nary data 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credit card data provides a more realistic examp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previous exercise used this data with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sider now using the tree package instea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et.seed(32867700) </a:t>
            </a:r>
            <a:r>
              <a:rPr b="1" lang="en-AU" sz="2400" spc="-1" strike="noStrike">
                <a:solidFill>
                  <a:srgbClr val="008080"/>
                </a:solidFill>
                <a:latin typeface="Courier New"/>
              </a:rPr>
              <a:t># my home phone numbe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ind &lt;- sample(nrow(CC), 8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rain &lt;- CC[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CTest &lt;- CC[-ind, 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Store(CCTrain, CCTes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E2E8-47BA-463F-AB09-853F3192B7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lassification: more on c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 &lt;- subset(Cars93, select = -c(Manufactur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del, Rear.seat.room, Luggage.room, Make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nt(names(cars93), quote = FALS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] Price              Max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] MPG.city           MPG.highway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7]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9] Cylinders          EngineSize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1] Horsepower         RPM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3]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5] Fuel.tank.capacity Passengers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7] Length             Wheelbas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9]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1] Weight             Origin</a:t>
            </a:r>
            <a:r>
              <a:rPr b="1" lang="en-GB" sz="1600" spc="-1" strike="noStrike">
                <a:solidFill>
                  <a:srgbClr val="000099"/>
                </a:solidFill>
                <a:latin typeface="Arial Unicode MS"/>
              </a:rPr>
              <a:t>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461-2C19-4DC6-85D9-B387513B7B4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50840" y="476280"/>
            <a:ext cx="704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t1 &lt;- tree(credit.card.owner ~ ., CCTr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misclass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v.tree(CC.t1, FUN = prune.tree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5678640" cy="428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45FE-2D4D-4AF6-92E8-D8C7B39008E9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est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C.t2 &lt;- prune.misclass(CC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 &lt;- function(fit, data = CCTest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red &lt;- predict(fit, data, type = "clas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 &lt;- formula(fit)[[2]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matrix &lt;- with(data, table(eval(Y), pred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ot &lt;- sum(Cmatrix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err &lt;- tot - sum(diag(Cmatrix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100*err/to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1)  #  [1] 18.3950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2(CC.t2)  #  [1] 18.2716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399-73DA-42A4-8202-1887E1C099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imple bagg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### simple bagging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gedTree &lt;- local(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sample &lt;- function(dat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ata[sample(nrow(data), rep = TRUE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unction (object, data = eval(object$call$dat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nBags = 200, ...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 &lt;- list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for (j in 1:nBag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[[j]] &lt;- update(object, data = bsample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ttr(bagsFull, "formula") &lt;- formula(objec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class(bagsFull) &lt;- "bagTree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agsFul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461-BCDB-4BA1-95AB-07590A0346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Methods and t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mula.bagTree &lt;- function(x, ...) attr(x, "formula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Tree &lt;- function(object, newdata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sapply(object, predict, newdata, type = "clas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 &lt;- sort(unique(val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Vote &lt;- apply(vals, 1, function(x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hich.max(table(factor(x, levels = svals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vals[mVote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C.bag &lt;- baggedTree(CC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2(CC.bag) </a:t>
            </a:r>
            <a:r>
              <a:rPr b="1" lang="en-AU" sz="1800" spc="-1" strike="noStrike">
                <a:solidFill>
                  <a:srgbClr val="008080"/>
                </a:solidFill>
                <a:latin typeface="Courier New"/>
              </a:rPr>
              <a:t># [1] 13.7037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89D1-C20D-4AF2-AC9B-0F4267B523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library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C.rf &lt;- randomForest(credit.card.owner ~ ., CC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testPred2(CC.rf)  </a:t>
            </a: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[1] 13.209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Random forests wins, but by a very slight margi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Bagged methods are (in this case) far superior to trees, pruned or otherw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808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8080"/>
                </a:solidFill>
                <a:latin typeface="Arial Unicode MS"/>
              </a:rPr>
              <a:t>Also better (again, in this case) than the parametric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02CB-349D-48CF-8FA9-0D73E4B365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jec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want to build a tree classifier for the Type of car from the other variables (no good reason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omit variables that have missing values and factors with large numbers of lev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R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package for illustrative purpo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ll cycle i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uild an initial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eck size by cross-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une to something sensi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D85D-43EC-417E-B6B0-B125529A2C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struction and cross-valid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tre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1 &lt;- tree(Type ~ ., cars93, minsize =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11(width = 8, heigh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1); text(cars93.t1, cex = 0.7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tree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8080"/>
                </a:solidFill>
                <a:latin typeface="Courier New"/>
              </a:rPr>
              <a:t># an alternative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=prune.miscla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74E-33E8-4175-9735-F5E7383CE18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0" y="836640"/>
            <a:ext cx="9144000" cy="555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EE7-AD98-4AFC-A911-12F827B70F1D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25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E86-E695-46AD-8209-8EE857CFB5BD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4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v.tree(cars93.t1, FUN = prune.misclass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8080" y="836640"/>
            <a:ext cx="7694640" cy="581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245-B342-41C6-9682-F754EE2BA7E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an us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nip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to prune manuall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tre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devianc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une.misclass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enacts optimal misclassification rate pruning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2 &lt;- prune.misclass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2, type = "u"); text(cars93.t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ars93.t3 &lt;- prune.tree(cars93.t1, best = 6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ars93.t3, type = "u"); text(cars93.t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th methods lead to the same tree, her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984F-BB0E-4949-A755-4697999581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7854" r="0" b="11685"/>
          <a:stretch/>
        </p:blipFill>
        <p:spPr>
          <a:xfrm>
            <a:off x="324000" y="692280"/>
            <a:ext cx="8496000" cy="516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77B2-7827-4491-9CB9-B325A098BF68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2:11Z</dcterms:modified>
  <cp:revision>15</cp:revision>
  <dc:subject/>
  <dc:title>S-PLUS, An Introduction to the System</dc:title>
</cp:coreProperties>
</file>