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A19-28A8-4EAC-82F3-5BDDD39A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B9B-3D8C-4C86-B0FE-F340E6A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11B-8539-4070-BD02-7977EEE0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33B-BF92-4290-BE93-F6E77568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585-DA39-44F4-A4A6-33B8E0CA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0C5-7958-464C-9035-C2F0FE0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F8F-B922-4F3D-9E4C-5F4349E2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011-C08A-49A4-A690-FD51AC8E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FCD-C3E0-4F06-ACEB-113A4CDB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C48-6747-4B43-BE07-8CC439E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6F9-B6B5-4F33-A31D-6A817FF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189-3A56-4B5C-AC5C-CE4975D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2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DC033F-32C8-47E9-9CED-A0504D126691}" type="slidenum">
              <a:rPr b="1" lang="en-GB" sz="12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Graphics: A closer loo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anging Lattice parameters and adding key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en a Lattice device is opened, it has various colours, line-types, plotting symbols, &amp;c associated with it that any printing of Lattice objects will u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can change these choices – but it gets mess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need to know how to access this scheme if you want to set a key saying what’s wha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st to keep an example on hand that works and re-read the help information with this example in mi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D23-AE54-4376-BA3B-3C0B306BE2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tting and setting Lattice p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device(x1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 &lt;- trellis.par.get("superpose.symbol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cex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0.8 0.8 0.8 0.8 0.8 0.8 0.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pch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1 1 1 1 1 1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$pch &lt;- 1: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par.set("superpose.symbol", sp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BF6-C51F-4D71-A6E8-F62A4BFBC7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Stormer viscometer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32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ependent variable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Independent variables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, Weigh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oretic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Plotting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should give straight lines with slope depending on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Weight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Time ~ Viscosity, stormer, groups = Wt, type = "b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Stormer viscometer calibration data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v.off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97080" y="2604960"/>
          <a:ext cx="23763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604960"/>
                    <a:ext cx="23763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654-A5D6-4E04-9C2B-84696BC170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E8B-B5BC-4EBE-A27C-BD49E952B071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the ke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xyplot(Time ~ Viscosity, stormer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groups = W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type = "b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3200" spc="-1" strike="noStrike">
                <a:solidFill>
                  <a:srgbClr val="000000"/>
                </a:solidFill>
                <a:latin typeface="Courier New"/>
              </a:rPr>
              <a:t>auto.key = TRUE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"Stormer viscometer calibration data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2EC-5756-402F-BFD9-E1C005505B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0D2-0DB6-4E73-A2C8-86F6A560DC9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rtificial example: adding fitted val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 &lt;- data.frame(x = rep(1:20, 10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 = factor(rep(LETTERS[1:10], each = 20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y &lt;- (dummy$x - 10.5)^2 + rnorm(100, sd = 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m &lt;- lm(y ~ f + poly(x, 2), dummy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fitted &lt;- fitted(fm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, subscripts = T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e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st(xlim = range(x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lim = range(y, dummy$fitted[subscripts]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x = diff(range(x)), dy = diff(range(y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spline(x, dummy$fitted[subscripts]), col = 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 aspect = "xy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EDD-CA7F-4A94-8D07-A9F20E4125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4932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2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19640" y="2252520"/>
          <a:ext cx="515304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252520"/>
                    <a:ext cx="5153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E8F-5B83-4F39-A085-FF5777B9B9D6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ree-dimensional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nd("volcano.S")  </a:t>
            </a:r>
            <a:r>
              <a:rPr b="0" lang="en-GB" sz="1400" spc="-1" strike="noStrike">
                <a:solidFill>
                  <a:srgbClr val="ff0000"/>
                </a:solidFill>
                <a:latin typeface="Courier New"/>
              </a:rPr>
              <a:t># courtesy Ross Ihak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package:datasets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matrix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gt; dim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87 6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# volcano &lt;- as.matrix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&lt;- 10*(1:nrow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&lt;- 10*(1:ncol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dat &lt;- transform(expand.grid(x = x, y = y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 = as.vector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heat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evelplot(v ~ x*y, vda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topo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ireframe(v ~ x*y, vdat, drape = 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EA7-720A-4CC2-8AB7-AAFD520784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heat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 contour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retty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opo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reframe(v ~ x*y, vdat, drape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errain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89E-FDED-4E48-A86D-F1BA8D71247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traditional graphics, but based on it and roughly parallel to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mplementing the ideas of Bill Cleveland, and simplest to use when defaults are appropria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cremental construction is not feasible: the entire object must be constructed in a seamless oper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unctions generate Lattice objects; it is the printing of these objects that produces graphical outpu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objects may be updated, but this is not often necess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st of functions – page 91 of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5F2-332D-41C5-8971-86558E6B24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550-2B29-4BB1-B81B-20B19F34341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DC6-7290-4FC6-BF1C-9EA895D550EA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044-76F0-46BA-8342-819BFC1F669A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ynamic ver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g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 &lt;- 2 * volcano     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Exaggerate the relie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x &lt;- 10 * (1:nrow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S to N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y &lt;- 10 * (1:ncol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E to W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im &lt;- range(z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en &lt;- zlim[2] - zlim[1] +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orlut &lt;- topo.colors(zlen)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color lookup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&lt;- colorlut[ z-zlim[1]+1 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assign colors to heights for each poi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en3d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urface3d(x, y, z, color=col, back="line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01B-FB75-4A10-9CE2-1E54D5BDF7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0E8-2E2D-41E5-A709-81DDCC80A6AB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972-E3FF-4306-90C6-A2EA0ABF4BD3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13D-3EE2-460B-8A32-2D7DCD7C87BC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e example: the Whitesid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MA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ames(whitesid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"Insul" "Temp"  "Gas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, aspect = 0.6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dily apparent that insulation reduces the need for heating gas, but the slope is less negative with increasing temperatur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F92-4732-47AF-BD94-30F2FB04CD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2E8-DF84-4847-BAD7-9585E295F67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ll in one ca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RUE, aspect = 0.61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im = c(0, max(whiteside$Gas)+0.5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ayout = c(2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582-A2E4-4EE7-9FBE-95365BE811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tra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ke sure the y-axis has a zero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im = c(0, max(whiteside$Gas)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ive proper labels to the x- and y-axes and add a main label at the top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Temperature"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de-by-side layou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ayout = c(2,1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950-514C-4687-B48F-9F23363340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9279" r="0" b="22570"/>
          <a:stretch/>
        </p:blipFill>
        <p:spPr>
          <a:xfrm>
            <a:off x="611280" y="620640"/>
            <a:ext cx="8064360" cy="468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E75-7BE8-4CF8-AAE5-96A5836BAD3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-linking the sca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External 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Whiteside heating data", aspect = 0.6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...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scales = list(relation = "free"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plot is now almost misleading!  Where possible make full use of linked scales in the panel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605-03F6-4FCA-9565-091CF106E6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D1C-C27C-4152-85F1-507B7CCA622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0:36:20Z</dcterms:modified>
  <cp:revision>18</cp:revision>
  <dc:subject/>
  <dc:title>S-PLUS, An Introduction to the System</dc:title>
</cp:coreProperties>
</file>