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415B-9766-4DA3-944B-7BABF7D3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5E57-A0E8-4888-AAC4-F40EE999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7718-D95D-48C0-A25E-B8E2C6FE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C2D7-0A81-4231-AF3D-11371C0C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76B-AD79-4F78-AEFF-1AD2E2EC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A4BE-D514-47AD-9E51-87D08B21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5174-C9FC-43B2-B0A0-5C6CB0C7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63CF-A7F7-42AA-AE29-355169A1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7847-F9F6-4F19-B40E-8413F950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1F2-F062-4BE4-885C-C733C8D7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DAA-5150-43B7-9617-564FC2FD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1B39-A788-4F7F-B993-001B445B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34E9F3-B84C-42C5-BA2A-F79E56EB89BD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4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del sele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9280" y="2852640"/>
          <a:ext cx="8748720" cy="31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852640"/>
                    <a:ext cx="874872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84360" y="836640"/>
            <a:ext cx="77724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r(mfrow=c(2,2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fitted(Cars93.step), resid(Cars93.step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bline(h = 0, lty = 4, col =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qnorm(resid(Cars93.step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qline(resid(Cars93.step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9F24-848D-4CA0-8752-1E803DF561B0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What happens if we use AIC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ars93.AIC &lt;- stepAIC(Cars93.lm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cope = list(lower = ~ Weight, upper = ~ Type + Min.Price +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ice + Max.Price + AirBags + DriveTrain + Cylinders + EngineSize + Horsepower + RPM + Rev.per.mile +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uel.tank.capacity + Passengers + Length + Wheelbase + Width + Turn.circle + Weight + Origin), k =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366-7CEE-4865-955C-F460E51E62A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000./MPG.city ~ Weight + Cylinders + Fuel.tank.capacity + Length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rigin + Min.Price + Horsepower + Wheelba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f Sum of Sq      RSS      AIC  F Value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none&gt;               938.132 240.9501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heelbase  1   24.2090  962.341 241.3195  2.06444 0.154669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Horsepower  1   45.2546  983.387 243.3315  3.85913 0.052948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ength  1   64.4150 1002.547 245.1260  5.49305 0.021574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ylinders  5  157.5719 1095.704 245.3894  2.68742 0.026898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in.Price  1   82.2667 1020.399 246.7675  7.01536 0.009733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rigin  1  105.3495 1043.481 248.8478  8.98377 0.003627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uel.tank.capacity  1  156.0240 1094.156 253.2579 13.30508 0.000469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eight  1  239.4604 1177.592 260.0924 20.42019 0.000021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Much less stringent choice of variables.  Perhaps we should remove some starting with the least significant.  The ‘backwards elimination’ sequence is as follow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3D46-EFEB-483C-B366-2BA54DEB4A4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400" cy="555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ars93.AIC &lt;- update(Cars93.AIC, .~.-Wheelbas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ars93.AIC &lt;- update(Cars93.AIC, .~.-Horsepower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ars93.AIC &lt;- update(Cars93.AIC, .~.-Cylinder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1000./MPG.city ~ Weight + Fuel.tank.capacity + Length + Origin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Min.Pric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Df Sum of Sq      RSS      AIC F Value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&lt;none&gt;              1126.909 244.0010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Length  1  122.4164 1249.326 251.5917  9.4508 0.002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Min.Price  1  153.1380 1280.047 253.8509 11.8226 0.000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Origin  1  188.6606 1315.570 256.3966 14.5650 0.000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Fuel.tank.capacity  1  223.0965 1350.006 258.7996 17.2236 0.000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Weight  1  362.0418 1488.951 267.9102 27.9505 0.00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115-C1F6-4418-AB04-E61FE480E0B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l interaction terms have been remov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ith the BIC model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” is not present, but “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Origi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” i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in.pric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” is presumably a surrogate variable for engineering refineme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IC model is very different, but has a slightly lower multiple R</a:t>
            </a:r>
            <a:r>
              <a:rPr b="0" lang="en-GB" sz="2400" spc="-1" strike="noStrike" baseline="30000">
                <a:solidFill>
                  <a:srgbClr val="000099"/>
                </a:solidFill>
                <a:latin typeface="Arial Unicode MS"/>
              </a:rPr>
              <a:t>2.  (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ably a very biased equation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ider the standard diagnostic plots for the BIC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iduals vs fitted values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rmal scores plot of the residua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281-A019-4B89-912B-4DC9B22ADE6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ree modelling strateg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Courier New"/>
              </a:rPr>
              <a:t>#### now for something completely different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equire(rpar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ars93.tm &lt;- rpart(I(1000/MPG.city) ~ Type + Min.Price + Price + Max.Price + AirBags + DriveTrain + Cylinders + EngineSize + Horsepower + RPM + Rev.per.mile + Fuel.tank.capacity + Passengers + Length + Wheelbase + Width + Turn.circle + Weight + Origin, Cars9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cp(Cars93.t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Cars93.tm); text(Cars93.tm, col = "green4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predict(Cars93.tm), predict(Cars93.AIC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0, 1, lty = "solid", col = "red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9692-E806-4EA2-B136-0A20E4C62F6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328D-8B4C-4DA4-96CF-EFF34A85810F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8299" r="0" b="10498"/>
          <a:stretch/>
        </p:blipFill>
        <p:spPr>
          <a:xfrm>
            <a:off x="826920" y="0"/>
            <a:ext cx="7417080" cy="602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972-4659-41CC-92C6-71BD154B712E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7207" r="0" b="0"/>
          <a:stretch/>
        </p:blipFill>
        <p:spPr>
          <a:xfrm>
            <a:off x="900000" y="0"/>
            <a:ext cx="7272360" cy="674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343B-A3A7-43D1-A921-4B611EA5CD7D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andom forests of tre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require(randomFor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Cars93.rf &lt;- randomForest(1000/MPG.city ~ Type + Min.Price + Price + Max.Price + AirBags + DriveTrain + Cylinders + EngineSize + Horsepower + RPM + Rev.per.mile + Fuel.tank.capacity + Passengers + Length + Wheelbase + Width + Turn.circle + Weight + Origin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lot(predict(Cars93.rf), predict(Cars93.AIC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abline(0, 1, lty = "solid"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B593-0E78-48EB-A800-94AEBB25C43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Cars 93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Details (~data) from 93 makes of car released in the USA in 1993.  Variable names largely self-explanatory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oblem: build a prediction equation for the fuel economy from the other variables available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int(names(Cars93), quote = F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] Manufacturer       Type               Min.Pric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4] Price              Max.Price          MPG.city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7] MPG.highway        AirBags            DriveTrain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0] Cylinders          EngineSize         Horsepower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3] RPM                Rev.per.mile       Man.trans.avail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6] Fuel.tank.capacity Passengers         Length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9] Wheelbase          Width              Turn.circle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22] Rear.seat.room     Luggage.room       Weight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25] Origin             Mak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ABA-1F1E-4EE9-AF92-F7899ACA8DC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5A97-3DDF-4E34-BA63-35DA47EA7E17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ree models can be unstable, but the tree structure is often enlightening and predictions from them can be fairly st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Random forests can substantially improve the predictive capacity of tree models, but at the expense of interpretability: a 'black box' predi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Really tools from machine learning and data mining, but useful in conjunction with classical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ore later in the course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6DD-EADD-4F3B-8BD0-A398E97DF16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cale of the respon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s the response we choos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PG.cit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dominant predictor will (presumably) be the weight of the vehicl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onsider some exploratory plot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PG.city</a:t>
            </a: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 v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eigh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1000/MPG.city</a:t>
            </a: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 v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eigh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quire(lattic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1 &lt;- xyplot(MPG.city ~ Weight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2 &lt;- xyplot(1000/MPG.city ~ Weight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nt(p1, c(0, 0.5, 0.5, 1), mor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nt(p2, c(0.5, 0.5, 1, 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73C9-5540-446F-8D07-049864E25E9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3860640"/>
            <a:ext cx="7772400" cy="21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first scale asymptotes to zero and the variance contracts for large w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second scale is open-ended for large vehicles and shows much more variance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ither scale is a convenient one for fuel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0" b="50005"/>
          <a:stretch/>
        </p:blipFill>
        <p:spPr>
          <a:xfrm>
            <a:off x="790560" y="0"/>
            <a:ext cx="7561440" cy="37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4BE3-03C2-4D17-B0A5-532FAC23675C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x-cox transform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evice for choosing a scale which is a power transform of the original.  (See introductory session.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rs93.lm &lt;- lm(MPG.city ~ Weight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oxcox(Cars93.lm, lambda = seq(-2, -0.5, len=15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nce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λ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= -1 is well within the acceptable range (next slide), this is the scale we confir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Now look for other variables that might improve the prediction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ars93.lm &lt;- update(Cars93.lm, 1000/MPG.city ~ 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23B8-F843-43BE-8DAC-3BD7F2C5732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8299" r="0" b="0"/>
          <a:stretch/>
        </p:blipFill>
        <p:spPr>
          <a:xfrm>
            <a:off x="934920" y="0"/>
            <a:ext cx="7272360" cy="66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CA1-9716-4D43-A4F7-9399A2A2DDCF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utomated selection of variab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never a good idea to entrust the selection of variables in a regression entirely to some automated procedu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, nevertheless, often quite a good idea to take into account which variables such procedures suggest as important, along with other thing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fit an intermediate regression and consider an automated procedure that steps “up and down”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ather than minimize AIC, we choose BIC, which penalizes redundant variables much hard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2CC-7952-48AB-89E6-8F5AA707541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rs93.lm1 &lt;- lm(1000/MPG.city ~ Type * (Weight + Horsepower + Length)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ropterm(Cars93.lm1, test = "F", k = log(93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000/MPG.city ~ Type * (Weight + Horsepower + Length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Sum of Sq      RSS      AIC  F Value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          1059.993 335.0903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ype:Weight  5  163.6090 1223.602 325.7762 2.130018 0.072042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ype:Horsepower  5   92.1563 1152.150 320.1804 1.199779 0.3185266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ype:Length  5  149.1609 1209.154 324.6715 1.941918 0.098471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Notice that only the marginal terms are dropped and none are significant.</a:t>
            </a:r>
            <a:r>
              <a:rPr b="1" lang="en-GB" sz="18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E68E-89F2-4360-BB4E-71DD593690C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tepwise refinemen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ars93.step &lt;- stepAIC(Cars93.lm1, scope = list(lower = ~ Weight, upper = ~ Type*(Min.Price + Price + Max.Price + AirBags + DriveTrain + Cylinders + EngineSize + Horsepower + RPM + Rev.per.mile + Fuel.tank.capacity + Passengers + Length + Wheelbase + Width + Turn.circle + Weight + Origin)), k = log(93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Cars93.step, test = "F", k = log(93)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000/MPG.city ~ Weight + Length + Fuel.tank.capacity + Origin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in.Pric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Sum of Sq     RSS     AIC F Value     Pr(F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                      1126.91  259.20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Weight              1    362.04 1488.95  280.57   27.95 9.137e-0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ength              1    122.42 1249.33  264.25    9.45 0.002819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uel.tank.capacity  1    223.10 1350.01  271.46   17.22 7.718e-05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Origin              1    188.66 1315.57  269.06   14.57 0.000252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in.Price           1    153.14 1280.05  266.51   11.82 0.000900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B8D1-52E2-46A8-9F43-C5946473AF9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7T02:58:25Z</dcterms:modified>
  <cp:revision>12</cp:revision>
  <dc:subject/>
  <dc:title>S-PLUS, An Introduction to the System</dc:title>
</cp:coreProperties>
</file>