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4DD-5F44-4023-ABFB-81DF7E00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5E8-22AC-48AB-8DD2-95C6160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C83-BB72-4462-B760-E5F0F293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68C-01F6-4C88-AF9C-57322D53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A81-E963-4F69-A931-6EAC3677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675-4D0F-4BA7-8FBD-6DD0140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2E9-1841-46B6-8DED-58BD89DC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4F7-4715-4592-A75A-C279B4ED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13B-8D06-499E-BCD5-EEB2702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A31-A20C-4093-A148-6E8D846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F7F-BE02-4EAC-8405-5F3FEDE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C74-6FAE-4364-92FA-948CA3B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110897-6863-43F7-82B9-111D76868A1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8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s an Introdu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Two very hot years had crop damage during harves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Wide range where little difference, but very dry years may lead to a reduced yield and very wet years to an enhanced on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One very dry growing month led to a reduced yiel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trongest and most consistent predictor by far.  Some evidence of a pause in new varieties during the war and immediately post-war perio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7DE-E1D9-463E-9E40-DF3FD56BE2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ntative inferen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gt; summary(iowa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s(Temp4, k = 5) + s(Rain0, k = 5) + s(Rain2, k = 5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, k =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 50.000      1.035   48.32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Temp4) 2.303        4  4.067   0.01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0) 2.686        4  2.343   0.085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2) 1.000        1  1.682   0.20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)  3.180        4 14.477 5.02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-sq.(adj) =  0.797   Deviance explained = 85.5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CV score = 51.074   Scale est. = 35.334    n = 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565-8327-49AE-B2AF-5D1D3CCCC1E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get to the same place with GLM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 terms: specified with ns(x, …) or bs(x, …), differ only in behaviour near the end poi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y specify the knot and boundary knot positions (recommended if prediction will be needed) or the equivalent degrees of freedom (OK for exploratory purpos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ach spline term is a collection of ordinary linear terms, but the coefficients have no simple meaning and the individual significance tests are meaningless.  Best regarded as a single composite term and retained or removed as a block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22E-7400-4C0F-9333-B7C0C55343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640" y="758880"/>
            <a:ext cx="828072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spline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owa.ns &lt;- lm(Yield ~ ns(Temp4, df=3) + ns(Rain0, df=3) + ns(Rain2, df = 3) + ns(Year, df=3), Iow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rmplot(iowa.ns, se=T, partial.resi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iowa.ns, test = "F", k = log(nrow(Iowa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ns(Temp4, df = 3) + ns(Rain0, df = 3) + ns(Rain2, df = 3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      726.26  147.47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Temp4, df = 3)  3    274.60 1000.86  147.56    2.52   0.087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0, df = 3)  3    332.31 1058.57  149.41    3.05   0.0523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2, df = 3)  3     70.61  796.87  140.04    0.65   0.5932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   3   2022.93 2749.19  180.91   18.57 5.33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46C-C7DC-48D0-876E-69EA70524E8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728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A60-E850-4901-9A35-3B9085A2354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A34-3D68-4881-987E-D5EACAD037A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remark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ery similar pattern to the components as for the additiv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w clear that the term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not useful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terms will need to be re-assess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erm in Year stands out as dominant with a clear pattern in the response curve and the partial residuals following it close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Small data sets like this can be very misleading!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Extreme caution is need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D3F-F696-42A1-9887-708B38D63D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Rock data (V&amp;R p. 233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sponse: permeabil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dictors: area, perimeter and sha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or for log(perm) using the available predicto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ck.lm &lt;- lm(log(perm) ~ area + peri + shape, data = rock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rock.l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Pr(&gt;|t|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5.3331  0.5487     9.7200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rea  0.0005  0.0001     5.6021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eri -0.0015  0.0002    -8.6228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hape  1.7565  1.7559     1.0003  0.322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49C-DD74-4AD6-9C17-CAC1ED0DA1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 &lt;- gam(log(perm) ~ s(area) + s(peri) + s(shape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rol = gam.control(maxit = 50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ummary(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) </a:t>
            </a:r>
            <a:r>
              <a:rPr b="0" lang="en-AU" sz="2000" spc="-1" strike="noStrike">
                <a:solidFill>
                  <a:srgbClr val="ff0000"/>
                </a:solidFill>
                <a:latin typeface="Courier New"/>
              </a:rPr>
              <a:t># shows no improvemen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ar(mfrow = c(2, 3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1 &lt;- gam(log(perm) ~ area + peri + s(shape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1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1, 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958-D4CC-4A16-B64C-9450072D92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summary(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Intercept)   5.1075     0.1222   41.81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area)  1.000        1 29.878 2.0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peri)  1.000        1 72.664 7.77e-1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shape) 1.402        3  1.324    0.27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-sq.(adj) =  0.735   Deviance explained = 75.4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CV score = 0.78865   Scale est. = 0.71631   n = 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856-1A42-4622-961D-FEC8A53832A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assumes that the mean response is a sum of terms each depending on (usually) a single predictor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     s are linear terms, this is just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y are step functions – main effect of a factor te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general they may be smooth terms, with the degree of smoothness chosen by cross 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637000"/>
          <a:ext cx="28800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2880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35280" y="3357720"/>
          <a:ext cx="307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357720"/>
                    <a:ext cx="307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828-A273-4737-B399-58D2DA045D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Testing lm within a gam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rock.lm, rock.g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alysis of Var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1: log(perm) ~ area + peri + shap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2: log(perm) ~ s(area) + s(peri)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.Df    RSS       Df Sum of Sq      F Pr(&gt;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44.00000 31.949   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43.59763 31.230  0.40237     0.719 2.4951 0.125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0FA-9A93-417F-9D50-6B470FC439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&gt;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ummary(rock.gam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perm) ~ area + peri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(Intercept)  5.747e+00  3.615e-01  15.896  &lt; 2e-1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rea         4.727e-04  8.648e-05   5.466 2.09e-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eri        -1.505e-03  1.766e-04  -8.524 7.77e-1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df Est.rank     F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(shape) 1.402        3 1.324   0.27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-sq.(adj) =  0.735   Deviance explained = 75.4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GCV score = 0.78865   Scale est. = 0.71631   n = 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AA6-3331-4B9D-9176-4291F433ACE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898" r="0" b="54814"/>
          <a:stretch/>
        </p:blipFill>
        <p:spPr>
          <a:xfrm>
            <a:off x="179280" y="0"/>
            <a:ext cx="849636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54784" r="0" b="6094"/>
          <a:stretch/>
        </p:blipFill>
        <p:spPr>
          <a:xfrm>
            <a:off x="250920" y="2997360"/>
            <a:ext cx="842472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169-6CA4-4F80-95F4-F0FA6FB46321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ng 3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nova(rock.lm, rock.gam1, 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log(perm) ~ area + peri + shap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log(perm) ~ area + peri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         Df  Sum of Sq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4.4000e+01 31.949        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4.3598e+01 31.230  4.0237e-01      0.719 2.4951    0.125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4.3598e+01 31.230 -3.5094e-06 -5.028e-06 2.0001 2.107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2BD-A491-4385-928C-FD0F98652E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es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hough suggestive, the curve in shape is not particularly convincin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uto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lso suggests essentially linear terms, at most, in all three variables (V&amp;R p 23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BD7-9CD6-4671-B32B-F22AB35185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oices of ter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some cases the additive terms may be know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moothing splin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c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fixed degrees of freed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known knots and boundary knot pos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armonic terms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CD8-3051-4827-8D28-1C4AD30FCE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imilarities to, and differences from GL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dditive models are analogous to regression model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neralized additive models are akin to the GLMs – they may employ a link function to relate the linear predictor to the mean of the response, they may have a non-normal distribution, &amp;c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itting GAMs is the same process as fitting GLMs (but with one letter different in the function name)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itting process is NOT maximum likelihood if there are any smoother terms present.  A likelihood penalized by a roughness term is maximised, with the tuning constant chosen (usually) by cross-validat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ference for GAMs is difficult and somewhat contentious.  Best regarded as an exploratory technique with standard models to follow (see example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428-BB92-402B-9D74-04A729B9B8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Iowa wheat yiel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toy example from 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raper N R, and Smith H, </a:t>
            </a:r>
            <a:r>
              <a:rPr b="0" i="1" lang="en-GB" sz="1800" spc="-1" strike="noStrike">
                <a:solidFill>
                  <a:srgbClr val="000099"/>
                </a:solidFill>
                <a:latin typeface="Arial Unicode MS"/>
              </a:rPr>
              <a:t>Applied regression analysis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, 2nd Ed., John Wiley &amp; Sons, New York, 1981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Yield of wheat in bushels/acre for the state of Iowa for the years 1930-1962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s: Year (as surrogate), Rain0, 1, 2, 3, Temp1, 2, 3, 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Build a predictor for Yield from the predictors avail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e: with only 33 observations and 9 possible predictors some care has to be taken in choosing a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F6F-5D10-443E-A794-7A714E0CA3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lm1 &lt;- lm(Yield ~ ., Iow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step &lt;- stepAIC(iowa.lm1, scope = list(lower =  ~ Year, upper =  ~ .), k = log(nrow(Iowa))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iowa.step, test = "F", k = log(nrow(Iowa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Year + Rain0 + Rain2 + Temp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 RSS      AIC  F Value      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1554.605 144.614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emp4  1   187.951 1742.556 144.8838  3.38519 0.0764089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0  1   196.008 1750.612 145.0361  3.53029 0.0707042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2  1   240.204 1794.809 145.8589  4.32632 0.0467980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ear  1  1796.216 3350.821 166.4610 32.35167 0.0000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46D-75C8-4E39-A55F-C5D127DCFF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refle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ven with the more stringent BIC penalty on model complexity, two of the terms found are only borderline significant in the conventional sense – a consequence of the small sample siz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vertheless the terms found are tentatively realistic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urrogate for crop improv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 measure of pre-season sowing cond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rainfall during the critical growing mon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limatic conditions during harvest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re strictly linear terms in these variables reasonabl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D51-22F9-457A-9454-2FE67000FC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tiv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a non-parametric smoother in each term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mgcv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owa.gam &lt;- gam(Yield ~ s(Temp4,k=5) + s(Rain0,k=5) + s(Rain2,k=5) + s(Year,k=5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a = Iowa, trac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iowa.gam, se = T, ylim = c(-30, 30), resid = TRU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can be important to keep the y-axes of these plots approximately the same to allow comparisons between term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926-C6F9-413E-9B14-114F26F99F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C55-3FA9-4C4D-9344-5E6B25FAFA1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13:00Z</dcterms:modified>
  <cp:revision>17</cp:revision>
  <dc:subject/>
  <dc:title>S-PLUS, An Introduction to the System</dc:title>
</cp:coreProperties>
</file>