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34B59-7886-41A8-B229-9F27FD7C8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9848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D5CE8-4046-450F-B5DD-E542F9BC1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275C6-7E59-4FF3-920E-AF0779AEA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C69E7-738A-470D-8000-A0FA3DCED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3E53D-EA29-494A-AD5B-3E32C371C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25C99-CA00-4A78-B5BB-5C61E6AE0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0BD9F-80B0-4531-ACF5-C7529443E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55C70-1282-4886-87EE-013680B9D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C18BE-450F-40CB-B416-E8265E9CC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CD15E-0C21-4159-8D73-FD0C598C9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A6083-BAEE-4CEB-BC14-BCFD3956C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10474-4C14-4360-AE3F-D4B5C6EE4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AU" sz="1000" spc="-1" strike="noStrike">
                <a:solidFill>
                  <a:srgbClr val="006600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AU" sz="1000" spc="-1" strike="noStrike">
                <a:solidFill>
                  <a:srgbClr val="006600"/>
                </a:solidFill>
                <a:latin typeface="Book Antiqu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GB" sz="1000" spc="-1" strike="noStrike">
                <a:solidFill>
                  <a:srgbClr val="006600"/>
                </a:solidFill>
                <a:latin typeface="Book Antiqu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000" spc="-1" strike="noStrike">
                <a:solidFill>
                  <a:srgbClr val="006600"/>
                </a:solidFill>
                <a:latin typeface="Book Antiqu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94836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1" lang="en-GB" sz="1400" spc="-1" strike="noStrike">
                <a:solidFill>
                  <a:srgbClr val="006600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0F136B8D-7030-44C5-A32E-643C4C425F3B}" type="slidenum">
              <a:rPr b="1" lang="en-GB" sz="1400" spc="-1" strike="noStrike">
                <a:solidFill>
                  <a:srgbClr val="006600"/>
                </a:solidFill>
                <a:latin typeface="Book Antiqu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Arial Unicode MS"/>
              </a:rPr>
              <a:t>Click to edit the title text format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8458200" y="0"/>
            <a:ext cx="685800" cy="819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Session 12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Tree-based models: tree and rpart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684360" y="836280"/>
            <a:ext cx="7772400" cy="519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99"/>
                </a:solidFill>
                <a:latin typeface="Arial Unicode MS"/>
              </a:rPr>
              <a:t>Now fit the first model with a very small minimum splitting size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library(rpart, first = T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cpus.t1 &lt;- rpart(log(perf) ~ syct + mmin + mmax + cach + chmin + chmax,</a:t>
            </a: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dat1, minsplit = 3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testPred(cpus.t1)  # not good!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99"/>
                </a:solidFill>
                <a:latin typeface="Courier New"/>
              </a:rPr>
              <a:t>[1] 0.5723122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99"/>
                </a:solidFill>
                <a:latin typeface="Arial Unicode MS"/>
              </a:rPr>
              <a:t>See how the tree looks: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plot(cpus.t1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text(cpus.t1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4A193-8BF1-43DA-B33C-A1619E5B6F37}" type="slidenum">
              <a:t>1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rcRect l="0" t="7777" r="0" b="11185"/>
          <a:stretch/>
        </p:blipFill>
        <p:spPr>
          <a:xfrm>
            <a:off x="755640" y="0"/>
            <a:ext cx="7632720" cy="6184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B9832-5E43-491C-882D-2700D75A5ED0}" type="slidenum">
              <a:t>11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4360" y="476280"/>
            <a:ext cx="7772400" cy="590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&gt; cpus.t1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n= 100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node), split, n, deviance, yval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* denotes terminal node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1) root 100 104.7362000 4.150773 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2) cach&lt; 31 68  29.9160800 3.628058 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4) mmax&lt; 11240 51  11.9181500 3.391328 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8) syct&gt;=750 9   0.5870328 2.740580 *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9) syct&lt; 750 42   6.7031610 3.530774 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18) mmax&lt; 5500 24   2.3057870 3.342837 *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19) mmax&gt;=5500 18   2.4194180 3.781358 *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5) mmax&gt;=11240 17   6.5655770 4.338247 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10) chmin&lt; 5 13   1.7793700 4.052730 *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11) chmin&gt;=5 4   0.2822183 5.266178 *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3) cach&gt;=31 32  16.7585700 5.261541 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6) syct&gt;=36.5 19   3.9935560 4.854145 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12) mmax&lt; 14000 7   0.6427171 4.428796 *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13) mmax&gt;=14000 12   1.3456220 5.102265 *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7) syct&lt; 36.5 13   5.0026270 5.856967 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14) mmax&lt; 48000 10   1.5606240 5.582417 *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15) mmax&gt;=48000 3   0.1756196 6.772136 *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D10EB-177E-454E-B9D5-459233A415CD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Pruning trees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It is important to prune trees so that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705600" indent="-271440"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They are small enough to avoid putting random variation into predictions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705600" indent="-271440"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They are large enough to avoid putting systematic biases into predictions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25800" indent="-32580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Cross-validation is the normal tool for this purpose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rpart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 has a quick version, but tools for a more thorough version if needed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tree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 has tools for the more thorough version, (but the onus is still on the user to do it thoroughly)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50313-BC06-4F1F-9741-89B7616C22D2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Cross-validation in trees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Consider a cost-complexity measure: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29040" indent="-32904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The complexity parameter, </a:t>
            </a:r>
            <a:r>
              <a:rPr b="0" lang="el-GR" sz="2400" spc="-1" strike="noStrike">
                <a:solidFill>
                  <a:srgbClr val="000099"/>
                </a:solidFill>
                <a:latin typeface="Arial Unicode MS"/>
                <a:ea typeface="Arial Unicode MS"/>
              </a:rPr>
              <a:t>α</a:t>
            </a:r>
            <a:r>
              <a:rPr b="0" lang="en-AU" sz="2400" spc="-1" strike="noStrike">
                <a:solidFill>
                  <a:srgbClr val="000099"/>
                </a:solidFill>
                <a:latin typeface="Arial Unicode MS"/>
                <a:ea typeface="Arial Unicode MS"/>
              </a:rPr>
              <a:t>, regulates the trade-off between accuracy in the training sample and simplicity in the result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29040" indent="-32904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99"/>
                </a:solidFill>
                <a:latin typeface="Arial Unicode MS"/>
                <a:ea typeface="Arial Unicode MS"/>
              </a:rPr>
              <a:t>By building trees on rotating sections of the data and predicting for the omitted sections we get some idea on the kind of value that might be appropriate for </a:t>
            </a:r>
            <a:r>
              <a:rPr b="0" lang="el-GR" sz="2400" spc="-1" strike="noStrike">
                <a:solidFill>
                  <a:srgbClr val="000099"/>
                </a:solidFill>
                <a:latin typeface="Arial Unicode MS"/>
                <a:ea typeface="Arial Unicode MS"/>
              </a:rPr>
              <a:t>α</a:t>
            </a:r>
            <a:r>
              <a:rPr b="0" lang="en-AU" sz="2400" spc="-1" strike="noStrike">
                <a:solidFill>
                  <a:srgbClr val="000099"/>
                </a:solidFill>
                <a:latin typeface="Arial Unicode MS"/>
                <a:ea typeface="Arial Unicode MS"/>
              </a:rPr>
              <a:t>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29040" indent="-32904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99"/>
                </a:solidFill>
                <a:latin typeface="Arial Unicode MS"/>
                <a:ea typeface="Arial Unicode MS"/>
              </a:rPr>
              <a:t>‘</a:t>
            </a:r>
            <a:r>
              <a:rPr b="0" lang="en-AU" sz="2400" spc="-1" strike="noStrike">
                <a:solidFill>
                  <a:srgbClr val="000099"/>
                </a:solidFill>
                <a:latin typeface="Arial Unicode MS"/>
                <a:ea typeface="Arial Unicode MS"/>
              </a:rPr>
              <a:t>One SE’ rule suggests a choice of </a:t>
            </a:r>
            <a:r>
              <a:rPr b="0" lang="el-GR" sz="2400" spc="-1" strike="noStrike">
                <a:solidFill>
                  <a:srgbClr val="000099"/>
                </a:solidFill>
                <a:latin typeface="Arial Unicode MS"/>
                <a:ea typeface="Arial Unicode MS"/>
              </a:rPr>
              <a:t>α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1332000" y="2276640"/>
          <a:ext cx="6769080" cy="569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2276640"/>
                    <a:ext cx="6769080" cy="56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99E3B-50AA-49A6-B1DC-F6E17A53A21C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901800" y="189000"/>
            <a:ext cx="246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plotcp(cpus.t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763640" y="620640"/>
            <a:ext cx="5989680" cy="5989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3870A-249F-4FF0-AFF7-246E68E06057}" type="slidenum">
              <a:t>1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684360" y="62028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 Unicode MS"/>
              </a:rPr>
              <a:t>Rather than 8 nodes this suggests that about 6 nodes are warranted.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cpus.t2 &lt;- prune(cpus.t1, cp=0.019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testPred(cpus.t2)  ## slightly worse!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99"/>
                </a:solidFill>
                <a:latin typeface="Courier New"/>
              </a:rPr>
              <a:t>[1] 0.6086504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py.tree &lt;- predict(cpus.t1, cpusTest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py.tree2 &lt;- predict(cpus.t2, cpusTest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cor(cbind(log(cpusTest$perf), py.tree, py.tree2)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                     </a:t>
            </a:r>
            <a:r>
              <a:rPr b="1" lang="en-AU" sz="2000" spc="-1" strike="noStrike">
                <a:solidFill>
                  <a:srgbClr val="000099"/>
                </a:solidFill>
                <a:latin typeface="Courier New"/>
              </a:rPr>
              <a:t> </a:t>
            </a:r>
            <a:r>
              <a:rPr b="1" lang="en-AU" sz="2000" spc="-1" strike="noStrike">
                <a:solidFill>
                  <a:srgbClr val="000099"/>
                </a:solidFill>
                <a:latin typeface="Courier New"/>
              </a:rPr>
              <a:t>py.tree  py.tree2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99"/>
                </a:solidFill>
                <a:latin typeface="Courier New"/>
              </a:rPr>
              <a:t>         </a:t>
            </a:r>
            <a:r>
              <a:rPr b="1" lang="en-AU" sz="2000" spc="-1" strike="noStrike">
                <a:solidFill>
                  <a:srgbClr val="000099"/>
                </a:solidFill>
                <a:latin typeface="Courier New"/>
              </a:rPr>
              <a:t>1.0000000 0.8454302 0.8247576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99"/>
                </a:solidFill>
                <a:latin typeface="Courier New"/>
              </a:rPr>
              <a:t>py.tree  0.8454302 1.0000000 0.9854434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99"/>
                </a:solidFill>
                <a:latin typeface="Courier New"/>
              </a:rPr>
              <a:t>py.tree2 0.8247576 0.9854434 1.0000000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 Unicode MS"/>
              </a:rPr>
              <a:t>Pruning seems not to have paid off!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762BC-48D7-4F71-A50F-65EF42A55C62}" type="slidenum">
              <a:t>1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447840" y="495360"/>
            <a:ext cx="2165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plot(cpus.t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text(cpus.t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rcRect l="0" t="9118" r="0" b="12748"/>
          <a:stretch/>
        </p:blipFill>
        <p:spPr>
          <a:xfrm>
            <a:off x="1979640" y="1197000"/>
            <a:ext cx="6624720" cy="5176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C95BA-DA17-4326-8ADC-E315F3857B54}" type="slidenum">
              <a:t>17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519120" y="136440"/>
            <a:ext cx="64292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par(mfrow = c(1,2), pty = "s"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plot(log(cpusTest$perf), py.tree, asp = 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abline(0, 1, col = "red"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plot(log(cpusTest$perf), py.tree2, asp = 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abline(0, 1, col = "red"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539640" y="1700280"/>
            <a:ext cx="8209080" cy="4187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CE174-BBFB-4C45-8B91-4B02E6DC3044}" type="slidenum">
              <a:t>18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Bootstrap Aggregation (or ‘Bagging’)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Technique for considering how different the result might have been if the algorithm were a little less greedy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-3394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Bootstrap training samples of the data are used to construct a ‘forest’ of trees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-3394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Predictions from each tree are averaged (regression trees) or ‘majority vote’ (for classification trees)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-3394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How many trees in the forest is still a matter of some debate, but ‘lots’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-3394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‘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Random Forests’ develops this idea much further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D167C-6174-4BEC-AE46-5AEBEFEBEA2A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Two libraries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The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tree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  library is like the S-PLUS native library and implements the traditional S-PLUS tree technology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32640" indent="-33264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The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rpart 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library is due to Beth Atkinson and Terry Therneau of the Mayo Clinic, Rochester, NY.  It implements a technology much closer to the traditional CART version of trees due to Friedman, Breiman, Olshen and Stone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32640" indent="-33264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Both have their advantages and disadvantages.  We mostly favour the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rpart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 version here, but most examples can be done on the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tree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 library as well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BD9D0-B741-4D34-AD50-D14DB6178256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Some bagging functions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4360" y="1557000"/>
            <a:ext cx="7772400" cy="447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bsample &lt;- function(dataFrame) </a:t>
            </a:r>
            <a:r>
              <a:rPr b="1" lang="en-AU" sz="1800" spc="-1" strike="noStrike">
                <a:solidFill>
                  <a:srgbClr val="ff0000"/>
                </a:solidFill>
                <a:latin typeface="Courier New"/>
              </a:rPr>
              <a:t># bootstrap sampling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dataFrame[sample(nrow(dataFrame), rep = T),  ]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simpleBagging &lt;- function(object, 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data = eval(object$call$data), nBags = 200, ...) {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bagsFull &lt;- list(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for(j in 1:nBags) 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bagsFull[[j]] &lt;- update(object, data = bsample(data)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oldClass(bagsFull) &lt;- "bagRpart"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bagsFull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predict.bagRpart &lt;- function(object, newdata, ...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rowMeans(sapply(object, predict, newdata = newdata)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7AD78-9B36-41D9-8421-671D17B10020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Execute and compare results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cpus.bag &lt;- simpleBagging(cpus.t1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testPred(cpus.bag)  # bit better!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99"/>
                </a:solidFill>
                <a:latin typeface="Courier New"/>
              </a:rPr>
              <a:t>[1] 0.4678958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py.bag &lt;- predict(cpus.bag, cpusTest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cor(cbind(log(cpusTest$perf), py.bag, py.tree, py.tree2)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             </a:t>
            </a:r>
            <a:r>
              <a:rPr b="1" lang="en-GB" sz="2400" spc="-1" strike="noStrike">
                <a:solidFill>
                  <a:srgbClr val="000099"/>
                </a:solidFill>
                <a:latin typeface="Arial Unicode MS"/>
              </a:rPr>
              <a:t> </a:t>
            </a: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 </a:t>
            </a: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py.bag   py.tree  py.tree2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         </a:t>
            </a: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1.0000000 </a:t>
            </a:r>
            <a:r>
              <a:rPr b="1" i="1" lang="en-GB" sz="1800" spc="-1" strike="noStrike">
                <a:solidFill>
                  <a:srgbClr val="ff0000"/>
                </a:solidFill>
                <a:latin typeface="Courier New"/>
              </a:rPr>
              <a:t>0.9093912</a:t>
            </a: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 0.8454302 0.8247576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py.bag   </a:t>
            </a:r>
            <a:r>
              <a:rPr b="1" i="1" lang="en-GB" sz="1800" spc="-1" strike="noStrike">
                <a:solidFill>
                  <a:srgbClr val="ff0000"/>
                </a:solidFill>
                <a:latin typeface="Courier New"/>
              </a:rPr>
              <a:t>0.9093912</a:t>
            </a: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 1.0000000 0.9609053 0.9402384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py.tree  0.8454302 0.9609053 1.0000000 0.9854434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py.tree2 0.8247576 0.9402384 0.9854434 1.0000000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E4BDA-1C2C-452F-BDA5-24D50D8689E2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50920" y="404640"/>
            <a:ext cx="482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2050920" y="7920"/>
            <a:ext cx="6840720" cy="68407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259200" y="353880"/>
            <a:ext cx="54234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par(mfrow = c(2,2), pty = "s"); frame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plot(log(cpusTest$perf), py.bag, asp = 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abline(0, 1, col = "red"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plot(log(cpusTest$perf), py.tree, asp = 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abline(0, 1, col = "red"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plot(log(cpusTest$perf), py.tree2, asp = 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abline(0, 1, col = "red"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2A2EE-48C2-4689-9771-B8E398C45F9C}" type="slidenum">
              <a:t>2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Arial Unicode MS"/>
              </a:rPr>
              <a:t>The big guns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99"/>
                </a:solidFill>
                <a:latin typeface="Arial Unicode MS"/>
              </a:rPr>
              <a:t>The Random Forest technique, due to Leo Breiman and his colleagues, is a further development of bagging.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99"/>
                </a:solidFill>
                <a:latin typeface="Arial Unicode MS"/>
              </a:rPr>
              <a:t>It includes subsampling of the possible predictors at every possible split.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99"/>
                </a:solidFill>
                <a:latin typeface="Arial Unicode MS"/>
              </a:rPr>
              <a:t>Generally accepted as one of the best of the simple methods for improving the stability of trees.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99"/>
                </a:solidFill>
                <a:latin typeface="Arial Unicode MS"/>
              </a:rPr>
              <a:t>Available as the </a:t>
            </a: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randomForest</a:t>
            </a:r>
            <a:r>
              <a:rPr b="0" lang="en-AU" sz="2000" spc="-1" strike="noStrike">
                <a:solidFill>
                  <a:srgbClr val="000099"/>
                </a:solidFill>
                <a:latin typeface="Arial Unicode MS"/>
              </a:rPr>
              <a:t> package for </a:t>
            </a:r>
            <a:r>
              <a:rPr b="0" i="1" lang="en-AU" sz="2000" spc="-1" strike="noStrike">
                <a:solidFill>
                  <a:srgbClr val="000099"/>
                </a:solidFill>
                <a:latin typeface="Courier New"/>
              </a:rPr>
              <a:t>R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require(randomForest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cpus.rf &lt;- randomForest(log(perf) ~ ., cpusTrain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testPred(cpus.rf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[1] 0.4104117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ABEB9-583A-4415-9344-563BD9CD5136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Arial Unicode MS"/>
              </a:rPr>
              <a:t>Putting it all together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py.rf &lt;- predict(cpus.rf, cpusTest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round(cor(cbind(log(cpusTest$perf), 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py.tree, py.tree2, py.bag, py.rf)),4) 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AU" sz="2000" spc="-1" strike="noStrike">
                <a:solidFill>
                  <a:srgbClr val="3333cc"/>
                </a:solidFill>
                <a:latin typeface="Courier New"/>
              </a:rPr>
              <a:t>py.tree py.tree2 py.bag  py.rf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3333cc"/>
                </a:solidFill>
                <a:latin typeface="Courier New"/>
              </a:rPr>
              <a:t>         </a:t>
            </a:r>
            <a:r>
              <a:rPr b="1" lang="en-AU" sz="2000" spc="-1" strike="noStrike">
                <a:solidFill>
                  <a:srgbClr val="3333cc"/>
                </a:solidFill>
                <a:latin typeface="Courier New"/>
              </a:rPr>
              <a:t>1.0000  0.8454   0.8248 0.9094 0.9305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3333cc"/>
                </a:solidFill>
                <a:latin typeface="Courier New"/>
              </a:rPr>
              <a:t>py.tree  0.8454  1.0000   0.9854 0.9609 0.9429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3333cc"/>
                </a:solidFill>
                <a:latin typeface="Courier New"/>
              </a:rPr>
              <a:t>py.tree2 0.8248  0.9854   1.0000 0.9402 0.9250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3333cc"/>
                </a:solidFill>
                <a:latin typeface="Courier New"/>
              </a:rPr>
              <a:t>py.bag   0.9094  0.9609   0.9402 1.0000 0.9905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3333cc"/>
                </a:solidFill>
                <a:latin typeface="Courier New"/>
              </a:rPr>
              <a:t>py.rf    0.9305  0.9429   0.9250 0.9905 1.0000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62763-FB4E-4D8A-96C3-0A6FD4A617FE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Arial Unicode MS"/>
              </a:rPr>
              <a:t>Values against predictions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par(mfrow = c(2,2), pty = "s"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with(cpusTest, {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plot(log(perf), py.rf, asp = 1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abline(0, 1, col = "red"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plot(log(perf), py.bag, asp = 1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abline(0, 1, col = "red"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plot(log(perf), py.tree, asp = 1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abline(0, 1, col = "red"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plot(log(perf), py.tree2, asp = 1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abline(0, 1, col = "red"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}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31537-976E-4B84-9C29-2E46C8439570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224000" y="162000"/>
            <a:ext cx="6696000" cy="6696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FA353-105B-4C6F-B50F-BB8F51092D0B}" type="slidenum">
              <a:t>26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Synoptic forecasts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The default prediction method for classification trees is to give a matrix of probabilities of class memberships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This allows the membership situation to be more clearly appreciated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The “class” rule simply chooses the class with maximum posterior probability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99"/>
                </a:solidFill>
                <a:latin typeface="Arial Unicode MS"/>
              </a:rPr>
              <a:t>Bagging in classification trees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: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The usual recommendation is to use a ‘majority vote’ rule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CA9A3-72E5-4B74-B7AF-5837AF6AD0D1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Epilogue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 Unicode MS"/>
              </a:rPr>
              <a:t>Tree models have brought statistical modellers and the machine learning fraternity closer together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 Unicode MS"/>
              </a:rPr>
              <a:t>As predictors they offer some useful features, but suffer from instability.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 Unicode MS"/>
              </a:rPr>
              <a:t>Bagging is an attempt to overcome this instability, but has only limited success.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 Unicode MS"/>
              </a:rPr>
              <a:t>Breiman &amp; Cutler’s ‘Random Forests’ offers a refinement of bagging that looks very promising.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 Unicode MS"/>
              </a:rPr>
              <a:t>‘</a:t>
            </a:r>
            <a:r>
              <a:rPr b="0" lang="en-GB" sz="2000" spc="-1" strike="noStrike">
                <a:solidFill>
                  <a:srgbClr val="000099"/>
                </a:solidFill>
                <a:latin typeface="Arial Unicode MS"/>
              </a:rPr>
              <a:t>Boosting’ is an alternative to bagging, but much more difficult to implement.  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 Unicode MS"/>
              </a:rPr>
              <a:t>Trees in data analysis: often revealing, but there is often a danger to read too much into the split variables.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A2093-7FD0-4962-9EA9-A3C128B41025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Overview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4360" y="1557000"/>
            <a:ext cx="7772400" cy="447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Goal is to construct a predictor, perhaps at the cost of a safe interpretation of how it works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Trees are easy to interpret, but relying on that interpretation can be hazardous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Recursive partitioning: Note that this is a greedy algorithm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Two kinds of tree: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Unicode MS"/>
              </a:rPr>
              <a:t>Regression trees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: continuous response with deviance measured as least squares – exactly the same as for regression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Unicode MS"/>
              </a:rPr>
              <a:t>Classification trees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: factor response with deviance measured by entropy (or Shannon-Wiener Information)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49825-B26F-4B8F-AD38-E25451C5F6FB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Recursive partitioning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We assume a homogeneity measure – least squares or entropy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For a given variable, find the point at which the responses are divided into the two most homogeneous groups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Choose the variable which does this best and divide the sample into two groups at the best point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Apply the same procedure recursively to each side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Stop when either the node is completely homogeneous or contains too few observations to continue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4C7F2-88F6-4587-BF39-D4F1D2F3F212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284720" y="476280"/>
            <a:ext cx="0" cy="1152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843280" y="1628640"/>
            <a:ext cx="4033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843280" y="1628640"/>
            <a:ext cx="0" cy="1513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77080" y="1628640"/>
            <a:ext cx="0" cy="1513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5579640" y="3141720"/>
            <a:ext cx="2592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580000" y="314172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172360" y="314172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00720" y="4437000"/>
            <a:ext cx="1944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00720" y="4437000"/>
            <a:ext cx="0" cy="72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443640" y="4437000"/>
            <a:ext cx="0" cy="72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9640" y="1125360"/>
            <a:ext cx="84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a &lt;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940360" y="2637000"/>
            <a:ext cx="99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b &lt; -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16360" y="3933720"/>
            <a:ext cx="99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a &lt; 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662560" y="3213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319640" y="53229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27640" y="5300640"/>
            <a:ext cx="39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8029800" y="4724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47320" y="404640"/>
            <a:ext cx="388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A decision tree with four terminal no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72A58-9DA4-4863-86C4-D65C0B5D964B}" type="slidenum">
              <a:t>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An Example: the CPUs data again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33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Classical example from the prediction literature – a set of CPUs whose log-performance is to be predicted using some qualitative measurements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names(cpus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[1] "name"    "syct"    "mmin"    "mmax"    "cach"    "chmin" 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[7] "chmax"   "perf"    "estperf"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dim(cpus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[1] 209   9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We begin using a pruned tree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We compare the results using a bagging approach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27979-0113-4A44-ACF3-058CC974DD6B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Arial Unicode MS"/>
              </a:rPr>
              <a:t>Transformed response scale?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A 'log' transform seems natura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One way of showing that it is acceptable: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CPUs &lt;- cpus[, 2:8]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for(j in 1:6) 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CPUs[[j]] &lt;- cut(rank(CPUs[[j]],ties = "r"), 5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fm &lt;- lm(perf ~ ., CPUs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boxcox(fm, lambda = seq(-0.15, 0.15, len = 10)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A4F90-401B-4DD1-88CA-E981265CD5A9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476360" y="0"/>
            <a:ext cx="6624720" cy="6624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C7AF6-A4B9-4B55-BB64-723496401E5E}" type="slidenum">
              <a:t>8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684360" y="62028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99"/>
                </a:solidFill>
                <a:latin typeface="Arial Unicode MS"/>
              </a:rPr>
              <a:t>First split the data into training and test sets and set up a test function: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set.seed(38267251) # My phone number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cpus.samp &lt;- sample(nrow(cpus), 100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cpusTrain &lt;- cpus[cpus.samp, 2:8] # omit name and manufactuer's estimate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cpusTest &lt;- cpus[-cpus.samp, 2:8]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testPred &lt;- function(fit, data = cpusTest) {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# mean squared error for the performance of a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# predictor on the test data.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testVals &lt;- log(data[, "perf"]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predVals &lt;- predict(fit, data[, ]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sqrt(sum((testVals - predVals)^2)/nrow(data)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library(rpart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cpus.t1 &lt;- rpart(log(perf) ~ syct + mmin + mmax + cach + chmin + chmax, cpusTrain, minsplit = 3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C3096-49D7-4AD7-AC31-D880194E275F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24T03:19:39Z</dcterms:created>
  <dc:creator>Venables</dc:creator>
  <dc:description/>
  <dc:language>en-US</dc:language>
  <cp:lastModifiedBy>Venables, Bill (CMIS, Cleveland)</cp:lastModifiedBy>
  <dcterms:modified xsi:type="dcterms:W3CDTF">2007-09-06T14:11:43Z</dcterms:modified>
  <cp:revision>20</cp:revision>
  <dc:subject/>
  <dc:title>S-PLUS, An Introduction to the System</dc:title>
</cp:coreProperties>
</file>