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C421-F76E-49B6-9497-DD9EC4409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40D7-EFF5-4699-A5F8-0567A8643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F0CA-F612-48BA-B2D4-152178507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06EA-F253-4B27-95B6-97F8DBDEC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B365-9CC4-4813-9A2D-0F542FD4A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E1EC-BD2C-4DB2-9D58-5ECFECBD7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AE3A-BA7F-48F9-BFD3-DC4B46867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DD93-C2B5-4BFA-B013-9B124625D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1F52-F394-4916-A5A4-62CD908C8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E67E-A324-4146-90FE-6BF279F3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2933-3A60-48C4-AEA9-2CE7CFD6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0CA8-E6B1-42AD-8884-5E52C389F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AU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000" spc="-1" strike="noStrike">
                <a:solidFill>
                  <a:srgbClr val="006600"/>
                </a:solidFill>
                <a:latin typeface="Book Antiqu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6600"/>
                </a:solidFill>
                <a:latin typeface="Book Antiqu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01964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1" lang="en-GB" sz="14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8AE2366-4CD5-4C21-9D5F-090C9936D5CC}" type="slidenum">
              <a:rPr b="1" lang="en-GB" sz="1400" spc="-1" strike="noStrike">
                <a:solidFill>
                  <a:srgbClr val="0066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Click to edit the title text forma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458200" y="0"/>
            <a:ext cx="68580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ession 06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Generalized Linear Models 1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Fitting an initial model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772400" cy="425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udworm.lg &lt;- glm(SF ~ sex/ldose, family = binomial, data = Budworms, trace = T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GLM    linear loop 1: deviance = 5.0137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GLM    linear loop 2: deviance = 4.9937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GLM    linear loop 3: deviance = 4.9937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GLM    linear loop 4: deviance = 4.9937</a:t>
            </a:r>
            <a:r>
              <a:rPr b="0" lang="en-GB" sz="1600" spc="-1" strike="noStrike">
                <a:solidFill>
                  <a:srgbClr val="000099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ummary(budworm.lg, cor = F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Coefficients: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         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Value Std. Error    t value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(Intercept) -2.9935418  0.5526997 -5.4162174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sex  0.1749868  0.7783100  0.2248292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sexFldose  0.9060364  0.1671016  5.4220677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sexMldose  1.2589494  0.2120655  5.9366067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(Dispersion Parameter for Binomial family taken to be 1 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8F69-4A23-46CC-8D02-6EED6196754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Displaying the fi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40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attach(Budworms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lot(c(1,32), c(0,1), type = "n", xlab = "dose",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g = "x", axes = F,ylab = "Pr(Death)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axis(1, at = 2^(0:5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axis(2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oints(2^ldose[1:6], numdead[1:6]/20, pch = 4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oints(2^ldose[7:12], numdead[7:12]/20, pch = 1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d &lt;- seq(0, 5, length = 100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ines(2^ld, predict(budworm.lg, data.frame(ldose = ld,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x = factor(rep("M", length(ld)), levels = levels(sex))),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type = "response"), col = 3, lwd = 2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ines(2^ld, predict(budworm.lg, data.frame(ldose = ld,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x = factor(rep("F", length(ld)), levels = levels(sex))),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type = "response"), lty = 2, col = 2, lwd = 2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detach(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11AC-8CD8-4424-8FC3-457F00AAA4EF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611280" y="0"/>
          <a:ext cx="7380360" cy="682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0"/>
                    <a:ext cx="7380360" cy="682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96FF-A6E7-4584-B8A4-02EDDB50B1A8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Is sex significant?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40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 Unicode MS"/>
              </a:rPr>
              <a:t>This is a marginal term and so its meaning has to be interpreted carefully.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 Unicode MS"/>
              </a:rPr>
              <a:t>Watch what happens if ldose is re-centred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udworm.lgA &lt;- update(budworm.lg, . ~ sex/I(ldose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- 3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GLM    linear loop 1: deviance = 5.0137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GLM    linear loop 2: deviance = 4.9937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GLM    linear loop 3: deviance = 4.9937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GLM    linear loop 4: deviance = 4.9937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ummary(budworm.lgA, cor = F)$coefficients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Courier New"/>
              </a:rPr>
              <a:t>                  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Value Std. Error   t value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(Intercept) -0.2754324  0.2305173 -1.194845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        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sex  1.2337258  0.3769761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3.272689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sexFI(ldose - 3)  0.9060364  0.1671016  5.422068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sexMI(ldose - 3)  1.2589494  0.2120655  5.936607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B9FC-411C-42A5-AE27-258FBEC9B28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Checking for curvature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4360" y="1268280"/>
            <a:ext cx="7772400" cy="476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anova(update(budworm.lgA, . ~ . + sex/I((ldose - 3)^2)), test = "Chisq"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GLM    linear loop 1: deviance = 3.1802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GLM    linear loop 2: deviance = 3.1716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GLM    linear loop 3: deviance = 3.1716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GLM    linear loop 4: deviance = 3.1716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GLM    linear loop 1: deviance = 5.0137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GLM    linear loop 2: deviance = 4.9937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GLM    linear loop 3: deviance = 4.9937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GLM    linear loop 4: deviance = 4.9937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GLM    linear loop 1: deviance = 121.8135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GLM    linear loop 2: deviance = 118.7995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GLM    linear loop 3: deviance = 118.7986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GLM    linear loop 4: deviance = 118.7986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Analysis of Deviance Table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Terms added sequentially (first to last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                  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Df Deviance Resid. Df Resid. Dev   Pr(Chi)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             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NULL                    11   124.8756         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              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sex  1   6.0770        10   118.7986 0.0136955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I(ldose - 3) %in% sex  2 113.8049         8     4.9937 0.000000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I((ldose - 3)^2) %in% sex  2   1.8221         6     3.1716 0.4021031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0770-02D8-4411-BD9A-0BB6E38BE4B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 final model: parallelism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40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udworm.lg0 &lt;- glm(SF ~ sex + ldose - 1, family = binomial, Budworms, trace = T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GLM    linear loop 1: deviance = 6.8074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GLM    linear loop 2: deviance = 6.7571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GLM    linear loop 3: deviance = 6.7571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GLM    linear loop 4: deviance = 6.7571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nova(budworm.lg0, budworm.lgA, test = "Chisq"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Analysis of Deviance Table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                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Terms Resid. Df Resid. Dev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1             sex + ldose - 1         9   6.757064                             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2 sex + I(ldose - 3) %in% sex         8   4.993727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Test Df Deviance   Pr(Chi)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1 vs. 2  1 1.763337 0.1842088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189F-FF83-4BC2-926E-3F9783760C6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Effective dosages (V&amp;R p193)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341000"/>
            <a:ext cx="7772400" cy="46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&gt; dose.p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function(obj, cf = 1:2, p = 0.5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eta &lt;- family(obj)$link(p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b &lt;- coef(obj)[cf]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x.p &lt;- (eta - b[1])/b[2]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names(x.p) &lt;- paste("p = ", format(p), ":", sep = ""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pd &lt;-  - cbind(1, x.p)/b[2]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E &lt;- sqrt(((pd %*% vcov(obj)[cf, cf]) * pd) %*% c(1, 1)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res &lt;- structure(x.p, SE = SE, p = p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oldClass(res) &lt;- "glm.dose"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res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&gt; print.glm.dose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function(x, ...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M &lt;- cbind(x, attr(x, "SE")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dimnames(M) &lt;- list(names(x), c("Dose", "SE")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x &lt;- M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NextMethod("print"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036B-0630-4191-A52B-89188682793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Example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&gt;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ose.p(budworm.lg0, cf = c(1, 3), p = 1:3/4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GB" sz="2400" spc="-1" strike="noStrike">
                <a:solidFill>
                  <a:srgbClr val="3333cc"/>
                </a:solidFill>
                <a:latin typeface="Courier New"/>
              </a:rPr>
              <a:t>Dose        SE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Courier New"/>
              </a:rPr>
              <a:t>p = 0.25: 2.231265 0.2499089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Courier New"/>
              </a:rPr>
              <a:t>p = 0.50: 3.263587 0.2297539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Courier New"/>
              </a:rPr>
              <a:t>p = 0.75: 4.295910 0.2746874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2C60-ADAE-4029-8DBD-4C9A5BA583B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 second example: low birth weigh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75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options(contrasts = c("contr.treatment", "contr.poly"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attach(birthwt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ace &lt;- factor(race, labels = c("white", "black", "other"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table(ptl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0  1 2 3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159 24 5 1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td &lt;- factor(ptl &gt; 0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table(ftv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0  1  2 3 4 6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100 47 30 7 4 1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tv &lt;- factor(ftv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evels(ftv)[ - (1:2)] &lt;- "2+"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table(ftv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0  1 2+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100 47 42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wt &lt;- data.frame(low = factor(low), age, lwt, race, smoke = (smoke &gt; 0), ptd, ht = (ht &gt; 0), ui = (ui &gt; 0), ftv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detach(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m(race, ptd, ftv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2380-D8C6-4E3E-B5B4-A11B98C8CFF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618840"/>
            <a:ext cx="7772400" cy="63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Initial Model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772400" cy="454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irthwt.glm &lt;- glm(low ~ ., family = binomial, data = bwt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dropterm(birthwt.glm, test = "Chisq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Single term deletions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Model: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low ~ age + lwt + race + smoke + ptd + ht + ui + ftv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Df Deviance      AIC      LRT   Pr(Chi)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&lt;none&gt;    195.4755 217.4755          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age  1 196.4174 216.4174 0.941876 0.3317959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lwt  1 200.9495 220.9495 5.473941 0.0193020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race  2 201.2268 219.2268 5.751273 0.0563802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smoke  1 198.6738 218.6738 3.198241 0.0737175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ptd  1 203.5841 223.5841 8.108539 0.0044057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ht  1 202.9339 222.9339 7.458402 0.0063141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ui  1 197.5855 217.5855 2.109974 0.1463418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ftv  2 196.8337 214.8337 1.358185 0.5070769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4697-9A05-421E-906B-5753772BD85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Nature of the generalization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ingle response variable, 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ome candidate predictor variables </a:t>
            </a:r>
            <a:r>
              <a:rPr b="0" i="1" lang="en-GB" sz="24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0" i="1" lang="en-GB" sz="24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r>
              <a:rPr b="0" i="1" lang="en-GB" sz="2400" spc="-1" strike="noStrike">
                <a:solidFill>
                  <a:srgbClr val="000099"/>
                </a:solidFill>
                <a:latin typeface="Times New Roman"/>
              </a:rPr>
              <a:t>, x</a:t>
            </a:r>
            <a:r>
              <a:rPr b="0" i="1" lang="en-GB" sz="24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0" i="1" lang="en-GB" sz="2400" spc="-1" strike="noStrike">
                <a:solidFill>
                  <a:srgbClr val="000099"/>
                </a:solidFill>
                <a:latin typeface="Times New Roman"/>
              </a:rPr>
              <a:t>, …, x</a:t>
            </a:r>
            <a:r>
              <a:rPr b="0" i="1" lang="en-GB" sz="2400" spc="-1" strike="noStrike" baseline="-25000">
                <a:solidFill>
                  <a:srgbClr val="000099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distribution of 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y 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can only depend on the predictors through a single linear function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distribution belongs to the GLM family of distribution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re may (or may not) be an unknown scale parameter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619280" y="3357720"/>
          <a:ext cx="4824360" cy="60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3357720"/>
                    <a:ext cx="4824360" cy="60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8DA4-2059-429D-B9C0-E881EA8F36A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Interactions?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previous model output suggests removing fitv and age.  This is confirmed by successive deletion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What happens, though, when we check for interactions between factors and curvatures in the numeric predictors?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8288-C838-42C2-AF49-2A551B79057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84360" y="549000"/>
            <a:ext cx="7772400" cy="548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irthwt.step2 &lt;- stepAIC(birthwt.glm,  ~ .^2 + I(scale(age)^2) + I(scale(lwt)^2), trace = F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irthwt.step2$anova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Stepwise Model Path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Analysis of Deviance Table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Initial Model: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low ~ age + lwt + race + smoke + ptd + ht + ui + ftv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Final Model: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low ~ age + lwt + smoke + ptd + ht + ui + ftv + age:ftv + smoke:ui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Step Df Deviance Resid. Df Resid. Dev      AIC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1                              178   195.4755 217.4755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2  + age:ftv  2 12.47490       176   183.0006 209.0006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3 + smoke:ui  1  3.05681       175   179.9438 207.9438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4     - race  2  3.12959       177   183.0734 207.0734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0F60-0261-43BC-A1DC-AD4CF9AE9757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Final model: two important interaction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ropterm(birthwt.step2, test = "Chisq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Single term deletions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Model: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low ~ age + lwt + smoke + ptd + ht + ui + ftv + age:ftv + smoke:ui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        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Df Deviance      AIC      LRT    Pr(Chi)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&lt;none&gt;    183.0734 207.0734                   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lwt  1 191.5590 213.5590  8.48561 0.00357967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ptd  1 193.5880 215.5880 10.51462 0.00118434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ht  1 191.2108 213.2108  8.13743 0.00433607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age:ftv  2 199.0029 219.0029 15.92950 0.00034750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smoke:ui  1 186.9861 208.9861  3.91270 0.04792245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166A-AA99-4579-AAB2-919920DA5F4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Checking for linearity on </a:t>
            </a:r>
            <a:r>
              <a:rPr b="1" lang="en-GB" sz="3200" spc="-1" strike="noStrike">
                <a:solidFill>
                  <a:srgbClr val="000000"/>
                </a:solidFill>
                <a:latin typeface="Arial Unicode MS"/>
              </a:rPr>
              <a:t>age</a:t>
            </a: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 within </a:t>
            </a:r>
            <a:r>
              <a:rPr b="1" lang="en-GB" sz="3200" spc="-1" strike="noStrike">
                <a:solidFill>
                  <a:srgbClr val="000000"/>
                </a:solidFill>
                <a:latin typeface="Arial Unicode MS"/>
              </a:rPr>
              <a:t>ftv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n alternative to the method given in MAS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idea is to fit separate spline terms within the levels of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tv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, but keeping all other important terms (including interactions)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t is important that spline terms be chosen with enough knots to allow non-linear behaviour to become apparent, but not so much that the fit becomes nearly indeterminate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1693-51AC-447A-823E-0CA4256AACE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4360" y="692280"/>
            <a:ext cx="7772400" cy="53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attach(bwt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BWT &lt;- expand.grid(age=14:45, lwt = mean(lwt),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race = factor("white", levels = levels(race)),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smoke = c(T,F),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ptd = c(T,F),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ht = c(T,F),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ui = c(T,F),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ftv = levels(ftv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detach(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sAge &lt;- function(x)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s(x, knots = quantile(bwt$age, 1:2/3),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oundary.knots = range(bwt$age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irthwt.glm2 &lt;- glm(low ~ lwt + ptd + ht + smoke * ui + ftv/nsAge(age), binomial, bwt, trace = F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rob &lt;- predict(birthwt.glm2, BWT, type = "resp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xyplot(prob ~ age | ftv, BWT, type = "l",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ubset = smoke == F &amp; ptd == F &amp; ht == F &amp; ui == F, as.table = T, ylim = c(0, 1), ylab = "Pr(Low bwt)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5E29-0007-4AC8-947A-5C4993A91C64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395280" y="404640"/>
          <a:ext cx="7921800" cy="612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404640"/>
                    <a:ext cx="7921800" cy="612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6CEE-2B14-424A-A475-F2CEE5FD5B2C}" type="slidenum">
              <a:t>2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Distributions in the GLM family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ormal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-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Ordinary linear models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Binomial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-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Logistic regression, probit analysi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Poisson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-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Log-linear model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Gamma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-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lternative to lognormal model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egative Binomial, &amp;c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E433-8146-4197-941A-C99AB96853E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Link function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t is assumed that the linear predictor determines the mean of the respons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linear predictor is unbounded, but the mean of some of these distributions (e.g. binomial) is restricted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mean is assumed to be a (monotone) function of the linear predictor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inverse of this function is called the link funct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Choosing a link is often the first problem in constructing a GLM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E035-28BB-4C0D-AE50-A69AFD04169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Exampl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ormal – Identity link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Binomial – Logistic or Probit link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Poisson – Log or Square-root link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Gamma – log or inverse link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For the binomial distribution the response is taken as the proportion of cases responding.  Thus the mean lies between 0 and 1.  The logistic link use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2268360" y="5084640"/>
          <a:ext cx="4824720" cy="100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5084640"/>
                    <a:ext cx="4824720" cy="10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A5A2-2999-4E3A-BC12-8B801F97356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Why is the link function defined ‘backwards’?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Historical reasons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GLM theory was developed as a replacement for an older approximate theory that used transformations of the data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link function is defined in the same sense, but the data are never transformed.  The connection is assumed between parameters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newer theory produces exact MLEs, but apart from the normal/identity case, inference procedures are still somewhat approximate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178E-B326-4D31-837B-4B8E8C3CB25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Practice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Constructing GLMs in S-PLUS is almost entirely analogous to constructing LM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Estimation is by iteratively weighted least squares, so some care has to be taken that the iterative scheme has converged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ome tools exist for manual and automated variable select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re are differences.  e.g. the residuals function distinguishes four types of residual which all coincide in the case of linear models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412C-1F1C-432A-89F0-1A7DF54AB8B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 Unicode MS"/>
              </a:rPr>
              <a:t>The budworm data – a toxicological experiment</a:t>
            </a:r>
            <a:endParaRPr b="0" lang="en-US" sz="2800" spc="-1" strike="noStrike">
              <a:solidFill>
                <a:srgbClr val="990033"/>
              </a:solidFill>
              <a:latin typeface="Arial Unicode MS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4360" y="1341360"/>
          <a:ext cx="7770600" cy="474660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4120"/>
                <a:gridCol w="1554120"/>
                <a:gridCol w="15541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3300"/>
                          </a:solidFill>
                          <a:latin typeface="Courier New"/>
                          <a:ea typeface="Arial"/>
                        </a:rPr>
                        <a:t>D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3300"/>
                          </a:solidFill>
                          <a:latin typeface="Courier New"/>
                          <a:ea typeface="Arial"/>
                        </a:rPr>
                        <a:t>S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3300"/>
                          </a:solidFill>
                          <a:latin typeface="Courier New"/>
                          <a:ea typeface="Arial"/>
                        </a:rPr>
                        <a:t>D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3300"/>
                          </a:solidFill>
                          <a:latin typeface="Courier New"/>
                          <a:ea typeface="Arial"/>
                        </a:rPr>
                        <a:t>Al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3300"/>
                          </a:solidFill>
                          <a:latin typeface="Courier New"/>
                          <a:ea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87C0-2EAD-4F10-BF34-ED343418C2CC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n initial example: Budworm data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Preparing the data: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options(contrasts = c("contr.treatment", "contr.poly"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ldose &lt;- rep(0:5, 2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numdead &lt;- c(1, 4, 9, 13, 18, 20,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0, 2, 6, 10, 12, 16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sex &lt;- factor(rep(c("M", "F"), each = 6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SF &lt;- cbind(numdead, numalive = 20 - numdead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Budworms &lt;- data.frame(ldose, sex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Budworms$SF &lt;- SF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rm(sex, ldose, SF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0C18-0BBB-4655-938E-9823F57AE84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4T03:19:39Z</dcterms:created>
  <dc:creator>Venables</dc:creator>
  <dc:description/>
  <dc:language>en-US</dc:language>
  <cp:lastModifiedBy>Venables, Bill (CMIS, Cleveland)</cp:lastModifiedBy>
  <dcterms:modified xsi:type="dcterms:W3CDTF">2007-08-14T02:14:34Z</dcterms:modified>
  <cp:revision>15</cp:revision>
  <dc:subject/>
  <dc:title>S-PLUS, An Introduction to the System</dc:title>
</cp:coreProperties>
</file>