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90C-1B44-4B47-80F2-9EE58E92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6FE-F385-43E6-A8E3-D665E062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22A-E566-4A95-A9F9-8933A6A2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C01-FC43-417A-A325-2842A2E4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B28-0550-4949-83F8-678F8D30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B72-3558-4842-AD3C-3749EEE3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8288-58BA-4C7C-A470-56E4E7BD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C3D-E13C-4C3C-853F-A177D3DE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281-4741-400B-87F2-D29410C9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9F6-4E8E-4D54-8941-CD131DC7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FA1-2C87-41E4-91D6-FBA0B721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77E-1BF6-4C1C-9DF7-9560EB6A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9A40BF-3FF4-405B-AE83-CCB6281F42BE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3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 models, continu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confusion matrix is not very confuse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red &lt;- predict(cars93.t3, Cars93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ars93, table(pred, Type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yp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red      Compact Large Midsize Small Sporty Va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ompact      15     0       0     1      2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Large         0     9       1     0      0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Midsize       0     2      19     0      0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Small         0     0       0    20      4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Sporty        1     0       2     0      8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Van           0     0       0     0      0   9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al test comes from a train/test sample: exercise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858-9B21-4589-A7A2-398FC9ECEC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omparison with multinomia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brary(nnet) </a:t>
            </a:r>
            <a:r>
              <a:rPr b="1" lang="en-AU" sz="1800" spc="-1" strike="noStrike">
                <a:solidFill>
                  <a:srgbClr val="cc3300"/>
                </a:solidFill>
                <a:latin typeface="Courier New"/>
              </a:rPr>
              <a:t># multinomial is a neural network mode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 &lt;- multinom(Type ~ Width + EngineSize +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ssengers + Origin, cars93, maxit = 10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fm &lt;- predict(m, type = "clas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cars93, table(Type, pfm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fm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Type      Compact Large Midsize Small Sporty Va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Compact      13     0       1     1      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arge         0    11       0     0      0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Midsize       0     1      21     0      0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mall         1     0       0    19      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porty        1     0       0     2     1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Van           0     0       0     0      0   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D3F-FA41-47FC-A733-114B04E9B7F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pecial case of one or two predicto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hoose two likely useful predictor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.2t &lt;- tree(Type ~ Width + EngineSize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.2t); text(cars.2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.2t, FUN=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.2t1 &lt;- prune.misclass(cars.2t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.2t1); text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tition.tree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605-40F9-41A2-8C55-88D5297ACA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6392" r="0" b="11091"/>
          <a:stretch/>
        </p:blipFill>
        <p:spPr>
          <a:xfrm>
            <a:off x="287280" y="981000"/>
            <a:ext cx="8569440" cy="53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E52-70E5-4747-B942-E497B64FC588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921440" cy="598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815-3A27-4E90-8115-D3C9E3B56791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6590" r="0" b="9125"/>
          <a:stretch/>
        </p:blipFill>
        <p:spPr>
          <a:xfrm>
            <a:off x="468360" y="816120"/>
            <a:ext cx="8207280" cy="522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5AE-A2C3-44AF-8E9A-DDB4886524A0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An alternative displa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Arial Unicode MS"/>
              </a:rPr>
              <a:t>If there are only two variables, the tree may be given as a two-dimensional diagra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tition.tree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ars93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oints(Width, EngineSize, pch=8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l = as.numeric(Type), cex = 0.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egend("topleft", levels(Type), pch = 8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l = 1:length(levels(Type)), bty = "n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10D-CBA7-46D9-8D3C-736FFEF5B16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7854" r="0" b="0"/>
          <a:stretch/>
        </p:blipFill>
        <p:spPr>
          <a:xfrm>
            <a:off x="431640" y="836640"/>
            <a:ext cx="828072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7C5-8FE5-4216-A6C7-23BF4B63DCC6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89600" y="260280"/>
            <a:ext cx="690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janka.t1 &lt;- tree(Hardness ~ Density, jan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tition.tree(janka.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janka, points(Density, Hardness, col="red"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10421" r="0" b="0"/>
          <a:stretch/>
        </p:blipFill>
        <p:spPr>
          <a:xfrm>
            <a:off x="838080" y="1341360"/>
            <a:ext cx="7467840" cy="505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23B-855A-45F3-A91F-67AD7329F3C7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Binary data examp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e credit card data provides a more realistic examp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 previous exercise used this data with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nsider now using the tree package instea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set.seed(32867700) </a:t>
            </a:r>
            <a:r>
              <a:rPr b="1" lang="en-AU" sz="2400" spc="-1" strike="noStrike">
                <a:solidFill>
                  <a:srgbClr val="008080"/>
                </a:solidFill>
                <a:latin typeface="Courier New"/>
              </a:rPr>
              <a:t># my home phone numb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ind &lt;- sample(nrow(CC), 810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CTrain &lt;- CC[ind, 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CTest &lt;- CC[-ind, 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Store(CCTrain, CCTes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F91-6369-4FB5-A550-242729BA7FD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lassification: more on ca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 &lt;- subset(Cars93, select = -c(Manufacturer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odel, Rear.seat.room, Luggage.room, Make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int(names(cars93), quote = FALS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] Type               Min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3] Price              Max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5] MPG.city           MPG.highway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7] AirBags            DriveTrain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9] Cylinders          EngineSize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1] Horsepower         RPM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3] Rev.per.mile       Man.trans.avail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5] Fuel.tank.capacity Passengers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7] Length             Wheelbas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9] Width              Turn.circle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21] Weight             Origin</a:t>
            </a: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5BD-BBAC-406F-8AD8-D47BC89BCA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50840" y="476280"/>
            <a:ext cx="704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C.t1 &lt;- tree(credit.card.owner ~ ., CCTr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v.tree(CC.t1, FUN = prune.misclas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v.tree(CC.t1, FUN = prune.tre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5678640" cy="428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D0D-2229-4033-B99A-2AA2A4B62A76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est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C.t2 &lt;- prune.misclass(CC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 &lt;- function(fit, data = CCTest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red &lt;- predict(fit, data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Y &lt;- formula(fit)[[2]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matrix &lt;- with(data, table(eval(Y), pred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ot &lt;- sum(Cmatrix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err &lt;- tot - sum(diag(Cmatrix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100*err/to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t1)  #  [1] 18.3950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t2)  #  [1] 18.2716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42D-2707-41C9-B5BA-75D33C1AA4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imple bagg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### simple bagging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gedTree &lt;- local(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sample &lt;- function(dat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data[sample(nrow(data), rep = TRUE), 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function (object, data = eval(object$call$dat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nBags = 200, ...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 &lt;- list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for (j in 1:nBag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[[j]] &lt;- update(object, data = bsample(dat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ttr(bagsFull, "formula") &lt;- formula(objec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class(bagsFull) &lt;- "bagTree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}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AF1-2490-436D-B7A7-AE202329949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Methods and te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mula.bagTree &lt;- function(x, ...) attr(x, "formula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edict.bagTree &lt;- function(object, newdata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ls &lt;- sapply(object, predict, newdata, type = "clas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vals &lt;- sort(unique(vals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Vote &lt;- apply(vals, 1, function(x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hich.max(table(factor(x, levels = svals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vals[mVote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C.bag &lt;- baggedTree(CC.t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stPred2(CC.bag) </a:t>
            </a:r>
            <a:r>
              <a:rPr b="1" lang="en-AU" sz="1800" spc="-1" strike="noStrike">
                <a:solidFill>
                  <a:srgbClr val="008080"/>
                </a:solidFill>
                <a:latin typeface="Courier New"/>
              </a:rPr>
              <a:t># [1] 13.7037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158-34F7-4F0D-BB69-88E0C74CD01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andom Fore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library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C.rf &lt;- randomForest(credit.card.owner ~ ., CC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estPred2(CC.rf)  </a:t>
            </a: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# [1] 13.2098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Random forests wins, but by a very slight marg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Bagged methods are (in this case) far superior to trees, pruned or otherwi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Also better (again, in this case) than the parametric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B7A-1E7E-4AC7-8C61-47706ED643F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ojec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want to build a tree classifier for the Type of car from the other variables (no good reason!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omit variables that have missing values and factors with large numbers of lev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use the R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package for illustrative purpos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ull cycle is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uild an initial tre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eck size by cross-valid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une to something sensi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C4E-98DD-44B1-88D0-7BBB0DE1F2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nstruction and cross-valid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tre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1 &lt;- tree(Type ~ ., cars93, minsize =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11(width = 8, heigh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1); text(cars93.t1, cex = 0.7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=prune.tree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# an alternative criter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=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4C5-58A0-4CD4-A0AB-21C7A7DFA4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7854" r="0" b="11685"/>
          <a:stretch/>
        </p:blipFill>
        <p:spPr>
          <a:xfrm>
            <a:off x="0" y="836640"/>
            <a:ext cx="9144000" cy="55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DFA-2837-47AC-A831-7319A6C3E411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5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E01-D699-4A9B-97CC-FC4CCDDEF3F1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89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 = prune.misclas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836640"/>
            <a:ext cx="7694640" cy="581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142-4522-407F-A788-49E60AF70DDF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un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an us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nip.tre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to prune manuall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une.tre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enacts optimal deviance pruning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une.misclass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enacts optimal misclassification rate pruning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2 &lt;- prune.misclass(cars93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2, type = "u"); text(cars93.t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3 &lt;- prune.tree(cars93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3, type = "u"); text(cars93.t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oth methods lead to the same tree, here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94D-4528-435F-9B6C-062517D1EF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7854" r="0" b="11685"/>
          <a:stretch/>
        </p:blipFill>
        <p:spPr>
          <a:xfrm>
            <a:off x="324000" y="692280"/>
            <a:ext cx="8496000" cy="51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D2A-4CF1-4881-A522-9E7425D595CA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2:11Z</dcterms:modified>
  <cp:revision>15</cp:revision>
  <dc:subject/>
  <dc:title>S-PLUS, An Introduction to the System</dc:title>
</cp:coreProperties>
</file>