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3E2-670A-42F8-A277-BB68DDA6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DFF6-A030-4513-90F3-51CF66AF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913-C084-4EF7-ABD1-BA2D0C62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654-A95A-4C0A-9EF8-7BE55C4A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36EA-7191-47E5-9539-D92373E3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A8E9-2E63-4B1B-9582-AE43F0DB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F5F-205A-41A3-B5AA-21E00B23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EF2-F2C6-4309-9B3C-8488E338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3F8D-C435-411E-B348-D1BE0D80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FC7-A22A-45A8-AB2D-70FDC819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F0F-B08F-45B2-A44E-2E6B1349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9F9-605C-40BE-8CE5-A2296905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F9963C5-7498-4C54-9925-4CA24DD9350F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4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odel sele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79280" y="2852640"/>
          <a:ext cx="8748720" cy="310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852640"/>
                    <a:ext cx="8748720" cy="31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4360" y="836640"/>
            <a:ext cx="77724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2,2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fitted(Cars93.step), 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bline(h = 0, lty = 4, col =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norm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qline(resid(Cars93.step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AC2-ACD0-4239-93F5-39C8E7349983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What happens if we use AIC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AIC &lt;- stepAIC(Cars93.lm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cope = list(lower = ~ Weight, upper = ~ Type + Min.Price +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rice + Max.Price + AirBags + DriveTrain + Cylinders + EngineSize + Horsepower + RPM + Rev.per.mile +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Fuel.tank.capacity + Passengers + Length + Wheelbase + Width + Turn.circle + Weight + Origin), k = 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3BBD-096B-48EF-97A8-C43A48A3878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00./MPG.city ~ Weight + Cylinders + Fuel.tank.capacity + Length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+ Min.Price + Horsepower + Wheelbas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none&gt;               938.132 240.9501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heelbase  1   24.2090  962.341 241.3195  2.06444 0.154669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Horsepower  1   45.2546  983.387 243.3315  3.85913 0.052948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ength  1   64.4150 1002.547 245.1260  5.49305 0.021574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ylinders  5  157.5719 1095.704 245.3894  2.68742 0.026898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Min.Price  1   82.2667 1020.399 246.7675  7.01536 0.0097334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rigin  1  105.3495 1043.481 248.8478  8.98377 0.003627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uel.tank.capacity  1  156.0240 1094.156 253.2579 13.30508 0.000469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eight  1  239.4604 1177.592 260.0924 20.42019 0.000021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Much less stringent choice of variables.  Perhaps we should remove some starting with the least significant.  The ‘backwards elimination’ sequence is as follow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2DE0-D0CE-4E76-9B9E-CE769FAACED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772400" cy="555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Wheelba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Horsepower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Cars93.AIC &lt;- update(Cars93.AIC, .~.-Cylinder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Cars93.AIC, test = "F"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1000./MPG.city ~ Weight + Fuel.tank.capacity + Length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Df Sum of Sq      RSS      AIC F Value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&lt;none&gt;              1126.909 244.0010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Length  1  122.4164 1249.326 251.5917  9.4508 0.002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Min.Price  1  153.1380 1280.047 253.8509 11.8226 0.000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Origin  1  188.6606 1315.570 256.3966 14.5650 0.000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Fuel.tank.capacity  1  223.0965 1350.006 258.7996 17.2236 0.0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GB" sz="1400" spc="-1" strike="noStrike">
                <a:solidFill>
                  <a:srgbClr val="3333cc"/>
                </a:solidFill>
                <a:latin typeface="Courier New"/>
              </a:rPr>
              <a:t>Weight  1  362.0418 1488.951 267.9102 27.9505 0.00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846-550A-4E8B-90AD-E98D636420F9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l interaction terms have been remov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 the BIC mode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not present, but 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rigi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in.pric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” is presumably a surrogate variable for engineering refinemen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IC model is very different, but has a slightly lower multiple R</a:t>
            </a:r>
            <a:r>
              <a:rPr b="0" lang="en-GB" sz="2400" spc="-1" strike="noStrike" baseline="30000">
                <a:solidFill>
                  <a:srgbClr val="000099"/>
                </a:solidFill>
                <a:latin typeface="Arial Unicode MS"/>
              </a:rPr>
              <a:t>2.  (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ably a very biased equ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sider the standard diagnostic plots for the BIC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iduals vs fitted value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rmal scores plot of the residua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8D3D-DF3B-4969-A973-DB6A5C8BB7D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ree modelling strateg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c3300"/>
                </a:solidFill>
                <a:latin typeface="Courier New"/>
              </a:rPr>
              <a:t>#### now for something completely differe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par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ars93.tm &lt;- rpart(I(1000/MPG.city)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cp(Cars93.tm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Cars93.tm); text(Cars93.tm, col = "green4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lot(predict(Cars93.tm), predict(Cars93.AIC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bline(0, 1, lty = "solid", col = "red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570-C16A-42B0-AC31-AC56DC3A95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AE89-1D72-48FC-93B8-7ECFAAA681B0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8299" r="0" b="10498"/>
          <a:stretch/>
        </p:blipFill>
        <p:spPr>
          <a:xfrm>
            <a:off x="826920" y="0"/>
            <a:ext cx="7417080" cy="602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F3E-0C57-4573-9B00-BE693E13779B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7207" r="0" b="0"/>
          <a:stretch/>
        </p:blipFill>
        <p:spPr>
          <a:xfrm>
            <a:off x="900000" y="0"/>
            <a:ext cx="7272360" cy="674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1DC-2ABC-4D65-B439-15C498A52086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andom forests of tre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require(randomFores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Cars93.rf &lt;- randomForest(1000/MPG.city ~ Type + Min.Price + Price + Max.Price + AirBags + DriveTrain + Cylinders + EngineSize + Horsepower + RPM + Rev.per.mile + Fuel.tank.capacity + Passengers + Length + Wheelbase + Width + Turn.circle + Weight + Origin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plot(predict(Cars93.rf), predict(Cars93.AIC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99"/>
                </a:solidFill>
                <a:latin typeface="Courier New"/>
              </a:rPr>
              <a:t>abline(0, 1, lty = "solid", col = 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DCD-BDDC-4CB4-9DD3-051A0816A4E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Cars 93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Details (~data) from 93 makes of car released in the USA in 1993.  Variable names largely self-explanatory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Problem: build a prediction equation for the fuel economy from the other variables available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int(names(Cars93), quote = 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] Manufacturer       Type               Min.Price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4] Price              Max.Price          MPG.city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7] MPG.highway        AirBags            DriveTrain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0] Cylinders          EngineSize         Horsepower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3] RPM                Rev.per.mile       Man.trans.avail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6] Fuel.tank.capacity Passengers         Length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19] Wheelbase          Width              Turn.circle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2] Rear.seat.room     Luggage.room       Weight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Courier New"/>
              </a:rPr>
              <a:t>[25] Origin             Mak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CC5-77D7-4414-A664-0A4D6DA4D6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C0C-535E-41E3-A516-A0442266A5B6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Not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ree models can be unstable, but the tree structure is often enlightening and predictions from them can be fairly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andom forests can substantially improve the predictive capacity of tree models, but at the expense of interpretability: a 'black box' predi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Really tools from machine learning and data mining, but useful in conjunction with classical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later in the course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E92-08E7-4046-A1CF-E691E37B06B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cale of the respon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s the response we choose 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dominant predictor will (presumably) be the weight of the vehicl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Consider some exploratory plots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1000/MPG.city</a:t>
            </a:r>
            <a:r>
              <a:rPr b="1" lang="en-GB" sz="20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eight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lattic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1 &lt;- xyplot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2 &lt;- xyplot(1000/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1, c(0, 0.5, 0.5, 1), more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int(p2, c(0.5, 0.5, 1, 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7313-67DC-41A0-8386-3C59D36763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3860640"/>
            <a:ext cx="7772400" cy="21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first scale asymptotes to zero and the variance contracts for large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econd scale is open-ended for large vehicles and shows much more variance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ither scale is a convenient one for fue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50005"/>
          <a:stretch/>
        </p:blipFill>
        <p:spPr>
          <a:xfrm>
            <a:off x="790560" y="0"/>
            <a:ext cx="7561440" cy="37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569-5775-412F-814D-A50556D96F0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Device for choosing a scale which is a power transform of the original.  (See introductory session.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 &lt;- lm(MPG.city ~ Weight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oxcox(Cars93.lm, lambda = seq(-2, -0.5, len=15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nce </a:t>
            </a:r>
            <a:r>
              <a:rPr b="0" lang="el-GR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λ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 = -1 is well within the acceptable range (next slide), this is the scale we confirm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  <a:ea typeface="Arial Unicode MS"/>
              </a:rPr>
              <a:t>Now look for other variables that might improve the predi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Cars93.lm &lt;- update(Cars93.lm, 1000/MPG.city ~ 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621-B0A9-42E8-8323-A43AFB1AE8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0" t="8299" r="0" b="0"/>
          <a:stretch/>
        </p:blipFill>
        <p:spPr>
          <a:xfrm>
            <a:off x="934920" y="0"/>
            <a:ext cx="7272360" cy="666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F31B-011B-4A44-BE57-59556A24A21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 of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 never a good idea to entrust the selection of variables in a regression entirely to some automated procedu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t is, nevertheless, often quite a good idea to take into account which variables such procedures suggest as important, along with other thing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e fit an intermediate regression and consider an automated procedure that steps “up and down”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ather than minimize AIC, we choose BIC, which penalizes redundant variables much harder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31D-9213-4332-91EA-EB16DCCE4CC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33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rs93.lm1 &lt;- lm(1000/MPG.city ~ Type * (Weight + Horsepower + Length), Cars9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ropterm(Cars93.lm1, test = "F", k = log(9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Type * (Weight + Horsepower + Length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 RSS      AIC  F Value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1059.993 335.0903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Weight  5  163.6090 1223.602 325.7762 2.130018 0.072042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Horsepower  5   92.1563 1152.150 320.1804 1.199779 0.3185266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Type:Length  5  149.1609 1209.154 324.6715 1.941918 0.0984718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Notice that only the marginal terms are dropped and none are significant.</a:t>
            </a:r>
            <a:r>
              <a:rPr b="1" lang="en-GB" sz="18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6164-0830-4857-964A-5F1D0AF38F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epwise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ars93.step &lt;- stepAIC(Cars93.lm1, scope = list(lower = ~ Weight, upper = ~ Type*(Min.Price + Price + Max.Price + AirBags + DriveTrain + Cylinders + EngineSize + Horsepower + RPM + Rev.per.mile + Fuel.tank.capacity + Passengers + Length + Wheelbase + Width + Turn.circle + Weight + Origin)), k = log(9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Cars93.step, test = "F", k = log(93), sorted = T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1000/MPG.city ~ Weight + Length + Fuel.tank.capacity + Origin +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                   </a:t>
            </a: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&lt;none&gt;                          1126.91  259.20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Weight              1    362.04 1488.95  280.57   27.95 9.137e-07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Length              1    122.42 1249.33  264.25    9.45 0.0028192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Fuel.tank.capacity  1    223.10 1350.01  271.46   17.22 7.718e-05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Origin              1    188.66 1315.57  269.06   14.57 0.0002529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Min.Price           1    153.14 1280.05  266.51   11.82 0.000900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30C-419B-46EE-B33D-19D8B301B14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2:58:25Z</dcterms:modified>
  <cp:revision>12</cp:revision>
  <dc:subject/>
  <dc:title>S-PLUS, An Introduction to the System</dc:title>
</cp:coreProperties>
</file>