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30B-F820-4A2E-B54E-A8E64152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6A0-CC83-4CEA-9B79-551810F8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A789-608D-4D6A-B001-752117327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D82F-2196-41D2-9E1A-48AE8D73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B438-D695-4934-AE19-39D52080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A9B-444E-4AB6-9781-CFC18ADA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127-01FC-43F0-B73B-B1B5ED6D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85F-3AA1-43C6-91BA-A595C27E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B34B-D8BD-4C62-80DE-9243EAC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136-596C-4C4A-B4E6-CDAD93BD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A175-0D03-4720-8218-938D648D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89C-21E7-43EA-9E68-D55C56FA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2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6668F0B-523F-46C8-B40D-D53D593D2A82}" type="slidenum">
              <a:rPr b="1" lang="en-GB" sz="12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2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Graphics: A closer loo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Changing Lattice parameters and adding key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When a Lattice device is opened, it has various colours, line-types, plotting symbols, &amp;c associated with it that any printing of Lattice objects will u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can change these choices – but it gets messy!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You need to know how to access this scheme if you want to set a key saying what’s wha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est to keep an example on hand that works and re-read the help information with this example in mi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00C-578A-4010-9529-1E867B5ED9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Getting and setting Lattice par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device(x1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 &lt;- trellis.par.get("superpose.symbol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cex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0.8 0.8 0.8 0.8 0.8 0.8 0.8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$pch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[1] 1 1 1 1 1 1 1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_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ps$pch &lt;- 1:7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ellis.par.set("superpose.symbol", sp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BC2-E262-4813-AE0A-599413F94F0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ample: The Stormer viscometer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327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Dependent variable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Independent variables: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, Weigh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Theoretical model: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Plotting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Time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vs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Viscosity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 should give straight lines with slope depending on </a:t>
            </a:r>
            <a:r>
              <a:rPr b="0" lang="en-GB" sz="1800" spc="-1" strike="noStrike">
                <a:solidFill>
                  <a:srgbClr val="008000"/>
                </a:solidFill>
                <a:latin typeface="Arial Unicode MS"/>
              </a:rPr>
              <a:t>Weight</a:t>
            </a:r>
            <a:r>
              <a:rPr b="0" lang="en-GB" sz="1800" spc="-1" strike="noStrike">
                <a:solidFill>
                  <a:srgbClr val="000099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Time ~ Viscosity, stormer, groups = Wt, type = "b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Stormer viscometer calibration data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ev.off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97080" y="2604960"/>
          <a:ext cx="237636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2604960"/>
                    <a:ext cx="237636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2BB-25EC-4ACD-B682-CC6C6EF88CC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756-71FB-4057-B8A0-6FB837A55D00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dding the ke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xyplot(Time ~ Viscosity, stormer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groups = W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type = "b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AU" sz="3200" spc="-1" strike="noStrike">
                <a:solidFill>
                  <a:srgbClr val="000000"/>
                </a:solidFill>
                <a:latin typeface="Courier New"/>
              </a:rPr>
              <a:t>auto.key = TRUE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"Stormer viscometer calibration data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BC3-CF12-440B-BD6F-DFB05CC058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5113-71C3-4398-B0CF-78DA05D542D2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rtificial example: adding fitted valu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 &lt;- data.frame(x = rep(1:20, 10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 = factor(rep(LETTERS[1:10], each = 20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y &lt;- (dummy$x - 10.5)^2 + rnorm(100, sd = 5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fm &lt;- lm(y ~ f + poly(x, 2), dummy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ummy$fitted &lt;- fitted(fm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yplot(y ~ x | f, dummy, as.table = T, subscripts = T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re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st(xlim = range(x)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ylim = range(y, dummy$fitted[subscripts]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x = diff(range(x)), dy = diff(range(y)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 = function(x, y, subscripts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spline(x, dummy$fitted[subscripts]), col = 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, aspect = "xy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CA9-E83A-4287-8CF2-96840EEED0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4932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932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419640" y="2252520"/>
          <a:ext cx="515304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19640" y="2252520"/>
                    <a:ext cx="515304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F8E-44F7-492E-90B4-D67B9EE463C2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three-dimensional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ind("volcano.S")  </a:t>
            </a:r>
            <a:r>
              <a:rPr b="0" lang="en-GB" sz="1400" spc="-1" strike="noStrike">
                <a:solidFill>
                  <a:srgbClr val="ff0000"/>
                </a:solidFill>
                <a:latin typeface="Courier New"/>
              </a:rPr>
              <a:t># courtesy Ross Ihaka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package:datasets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lass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"matrix"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&gt; dim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[1] 87 61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Courier New"/>
              </a:rPr>
              <a:t># volcano &lt;- as.matrix(volcano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x &lt;- 10*(1:nrow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y &lt;- 10*(1:ncol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dat &lt;- transform(expand.grid(x = x, y = y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v = as.vector(volcano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heat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levelplot(v ~ x*y, vda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age.palette(topo.colors(256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wireframe(v ~ x*y, vdat, drape = T, main = "Maunga Whau Volcano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C25-D1DE-496D-96D7-00A2DAE9FAB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heat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levelplot(v ~ x*y, vdat, contour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pretty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opo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wireframe(v ~ x*y, vdat, drape = TRU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col.regions = terrain.colors(256)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2400" spc="-1" strike="noStrike">
                <a:solidFill>
                  <a:srgbClr val="000000"/>
                </a:solidFill>
                <a:latin typeface="Courier New"/>
              </a:rPr>
              <a:t>main = "Maunga Whau Volcano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892-F066-4159-9566-FA9ECB9E4EA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lternative to traditional graphics, but based on it and roughly parallel to i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mplementing the ideas of Bill Cleveland, and simplest to use when defaults are appropria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cremental construction is not feasible: the entire object must be constructed in a seamless opera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unctions generate Lattice objects; it is the printing of these objects that produces graphical output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attice objects may be updated, but this is not often necess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st of functions – page 91 of 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CAF-C16F-4880-9DC3-1047677A02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634-E973-4BB3-954F-4525DA71E21A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ACA9-6C03-402A-A790-3D6E54D789D4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F1E-1BD5-46D1-838B-322D49F7CEA2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ynamic ver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require(rgl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 &lt;- 2 * volcano     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Exaggerate the relief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x &lt;- 10 * (1:nrow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S to N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y &lt;- 10 * (1:ncol(z))  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10 meter spacing (E to W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im &lt;- range(z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zlen &lt;- zlim[2] - zlim[1] + 1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orlut &lt;- topo.colors(zlen) </a:t>
            </a: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color lookup table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col &lt;- colorlut[ z-zlim[1]+1 ]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# assign colors to heights for each point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open3d(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urface3d(x, y, z, color=col, back="lines"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5A0-D094-41AB-90B2-FF513A6A69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6341-DFBB-4F0E-BE41-F600F2A75271}" type="slidenum">
              <a:t>2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9C2-E4F5-464D-B465-EE8C84559DCA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7080" y="0"/>
            <a:ext cx="7629840" cy="612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3D8-A4D3-418E-AA8B-2D2906893985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simple example: the Whiteside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quire(MASS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ames(whiteside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[1] "Insul" "Temp"  "Gas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, aspect = 0.61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Readily apparent that insulation reduces the need for heating gas, but the slope is less negative with increasing temperature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3B4-B217-4CC0-B104-E475286337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3AC0-857A-4974-A3EE-8C76E80F6A1F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ll in one cal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as.table = TRUE, aspect = 0.61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im = c(0, max(whiteside$Gas)+0.5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ayout = c(2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E79-DDE0-4D0C-96AA-965F100562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tra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Make sure the y-axis has a zero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im = c(0, max(whiteside$Gas)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ive proper labels to the x- and y-axes and add a main label at the top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xlab = "Temperature"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main =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"Whiteside data on domestic gas consumption"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ide-by-side layout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ayout = c(2,1),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44B9-2697-4415-8769-A88A7FB81B9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19279" r="0" b="22570"/>
          <a:stretch/>
        </p:blipFill>
        <p:spPr>
          <a:xfrm>
            <a:off x="611280" y="620640"/>
            <a:ext cx="8064360" cy="4689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8508-4B02-4902-AFF8-5E98D22AD893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e-linking the sca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yplot(Gas ~ Temp | Insul, whiteside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lab = "External temperature"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ylab = "Gas consumption"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ain = "Whiteside heating data", aspect = 0.6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xyplot(x, y, ...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nel.lmline(x, y, ..., col =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, scales = list(relation = "free"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e plot is now almost misleading!  Where possible make full use of linked scales in the panels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CE26-5BC1-411D-9912-0BE42ED3FAF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EDA-AE1F-4F75-8B91-28B59A021C20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7T00:36:20Z</dcterms:modified>
  <cp:revision>18</cp:revision>
  <dc:subject/>
  <dc:title>S-PLUS, An Introduction to the System</dc:title>
</cp:coreProperties>
</file>