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B2DD-1D70-4CDE-8CA2-8AAE5F87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D54-AE53-4FB8-AF21-DC370D0B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895-6525-40A6-92F5-1CB88EAB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1E8-DB5E-4402-9D53-FDF1B35B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D99A-2E78-4F33-8CCE-927D6639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462-BC01-4E5C-B478-C2F77BB8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337-DB2E-4AE7-9CC3-1E9219D5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F83-4EC7-452B-8769-7BAD608B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01E-D43E-4B16-9303-4006320B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D62-9425-422A-824D-7F8B483F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A1EF-2D2C-4B73-9141-94D97223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5B1-5FC2-48F3-B981-F27BDFEB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753D0D-D346-4BC9-A3F0-7715A185AD50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3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ee models, continu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confusion matrix is not very confused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red &lt;- predict(cars93.t3, Cars93, type = "clas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with(cars93, table(pred, Type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Typ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red      Compact Large Midsize Small Sporty Va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Compact      15     0       0     1      2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Large         0     9       1     0      0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Midsize       0     2      19     0      0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Small         0     0       0    20      4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Sporty        1     0       2     0      8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Van           0     0       0     0      0   9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eal test comes from a train/test sample: exercise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B29-62AB-41FA-A911-6F41AB37696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omparison with multinomia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ibrary(nnet) </a:t>
            </a:r>
            <a:r>
              <a:rPr b="1" lang="en-AU" sz="1800" spc="-1" strike="noStrike">
                <a:solidFill>
                  <a:srgbClr val="cc3300"/>
                </a:solidFill>
                <a:latin typeface="Courier New"/>
              </a:rPr>
              <a:t># multinomial is a neural network mode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 &lt;- multinom(Type ~ Width + EngineSize +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ssengers + Origin, cars93, maxit = 100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fm &lt;- predict(m, type = "class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ith(cars93, table(Type, pfm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fm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Type      Compact Large Midsize Small Sporty Van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Compact      13     0       1     1      1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arge         0    11       0     0      0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Midsize       0     1      21     0      0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mall         1     0       0    19      1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porty        1     0       0     2     11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Van           0     0       0     0      0   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AAC-E08D-4649-BB2E-A6CDDEF3930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special case of one or two predicto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hoose two likely useful predictor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.2t &lt;- tree(Type ~ Width + EngineSize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.2t); text(cars.2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.2t, FUN=prune.miscla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.2t1 &lt;- prune.misclass(cars.2t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.2t1); text(cars.2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tition.tree(cars.2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A2A-0C2D-44C9-BBE7-085700B8861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6392" r="0" b="11091"/>
          <a:stretch/>
        </p:blipFill>
        <p:spPr>
          <a:xfrm>
            <a:off x="287280" y="981000"/>
            <a:ext cx="8569440" cy="533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062-B32F-4F2E-935C-B73900606E5C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921440" cy="598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87D-C910-4286-A905-8F90E388F6E1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6590" r="0" b="9125"/>
          <a:stretch/>
        </p:blipFill>
        <p:spPr>
          <a:xfrm>
            <a:off x="468360" y="816120"/>
            <a:ext cx="8207280" cy="522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0E2-84ED-44D3-A088-A720A055CB69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An alternative displa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Arial Unicode MS"/>
              </a:rPr>
              <a:t>If there are only two variables, the tree may be given as a two-dimensional diagra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tition.tree(cars.2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with(cars93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oints(Width, EngineSize, pch=8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ol = as.numeric(Type), cex = 0.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egend("topleft", levels(Type), pch = 8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ol = 1:length(levels(Type)), bty = "n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88D-1305-4B9B-BF92-9A90AE179B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7854" r="0" b="0"/>
          <a:stretch/>
        </p:blipFill>
        <p:spPr>
          <a:xfrm>
            <a:off x="431640" y="836640"/>
            <a:ext cx="828072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F63-5593-4776-8FFA-CEEC0D50C719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89600" y="260280"/>
            <a:ext cx="690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janka.t1 &lt;- tree(Hardness ~ Density, jan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tition.tree(janka.t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ith(janka, points(Density, Hardness, col="red"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10421" r="0" b="0"/>
          <a:stretch/>
        </p:blipFill>
        <p:spPr>
          <a:xfrm>
            <a:off x="838080" y="1341360"/>
            <a:ext cx="7467840" cy="505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15D-17C3-4444-8B36-C1BB3B89AD83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Binary data examp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he credit card data provides a more realistic examp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 previous exercise used this data with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rpar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nsider now using the tree package instea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set.seed(32867700) </a:t>
            </a:r>
            <a:r>
              <a:rPr b="1" lang="en-AU" sz="2400" spc="-1" strike="noStrike">
                <a:solidFill>
                  <a:srgbClr val="008080"/>
                </a:solidFill>
                <a:latin typeface="Courier New"/>
              </a:rPr>
              <a:t># my home phone numbe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ind &lt;- sample(nrow(CC), 810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CTrain &lt;- CC[ind, ]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CTest &lt;- CC[-ind, ]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Store(CCTrain, CCTest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A7D-9C13-4BF0-A50C-1EB1DF79332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lassification: more on ca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ars93 &lt;- subset(Cars93, select = -c(Manufacturer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odel, Rear.seat.room, Luggage.room, Make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int(names(cars93), quote = FALS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] Type               Min.Pric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3] Price              Max.Pric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5] MPG.city           MPG.highway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7] AirBags            DriveTrain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9] Cylinders          EngineSize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1] Horsepower         RPM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3] Rev.per.mile       Man.trans.avail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5] Fuel.tank.capacity Passengers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7] Length             Wheelbas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9] Width              Turn.circle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21] Weight             Origin</a:t>
            </a: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201-7EA4-490C-BF30-2FDA0C333A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50840" y="476280"/>
            <a:ext cx="704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C.t1 &lt;- tree(credit.card.owner ~ ., CCTra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(j in 1: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cv.tree(CC.t1, FUN = prune.misclas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(j in 1: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cv.tree(CC.t1, FUN = prune.tre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5678640" cy="428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CB7F-7DAC-4222-949C-B31B14689A95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est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C.t2 &lt;- prune.misclass(CC.t1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 &lt;- function(fit, data = CCTest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red &lt;- predict(fit, data, type = "clas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Y &lt;- formula(fit)[[2]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matrix &lt;- with(data, table(eval(Y), pred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ot &lt;- sum(Cmatrix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err &lt;- tot - sum(diag(Cmatrix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100*err/to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(CC.t1)  #  [1] 18.3950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(CC.t2)  #  [1] 18.2716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37D-2C4A-42ED-A3AC-41AF2FDE214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Simple bagg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### simple bagging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gedTree &lt;- local(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sample &lt;- function(dat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data[sample(nrow(data), rep = TRUE), 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function (object, data = eval(object$call$data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nBags = 200, ...) 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sFull &lt;- list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for (j in 1:nBag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sFull[[j]] &lt;- update(object, data = bsample(dat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ttr(bagsFull, "formula") &lt;- formula(objec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class(bagsFull) &lt;- "bagTree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sFull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}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059-C0C8-450F-BA36-2204F079DA9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Methods and tes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mula.bagTree &lt;- function(x, ...) attr(x, "formula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edict.bagTree &lt;- function(object, newdata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vals &lt;- sapply(object, predict, newdata, type = "class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vals &lt;- sort(unique(vals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Vote &lt;- apply(vals, 1, function(x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hich.max(table(factor(x, levels = svals)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vals[mVote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C.bag &lt;- baggedTree(CC.t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estPred2(CC.bag) </a:t>
            </a:r>
            <a:r>
              <a:rPr b="1" lang="en-AU" sz="1800" spc="-1" strike="noStrike">
                <a:solidFill>
                  <a:srgbClr val="008080"/>
                </a:solidFill>
                <a:latin typeface="Courier New"/>
              </a:rPr>
              <a:t># [1] 13.7037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0B4-5974-4DB2-9331-CDA02DB4733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andom Fores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library(randomFor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CC.rf &lt;- randomForest(credit.card.owner ~ ., CC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testPred2(CC.rf)  </a:t>
            </a:r>
            <a:r>
              <a:rPr b="1" lang="en-AU" sz="2000" spc="-1" strike="noStrike">
                <a:solidFill>
                  <a:srgbClr val="008080"/>
                </a:solidFill>
                <a:latin typeface="Courier New"/>
              </a:rPr>
              <a:t># [1] 13.20988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80"/>
                </a:solidFill>
                <a:latin typeface="Arial Unicode MS"/>
              </a:rPr>
              <a:t>Random forests wins, but by a very slight margi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80"/>
                </a:solidFill>
                <a:latin typeface="Arial Unicode MS"/>
              </a:rPr>
              <a:t>Bagged methods are (in this case) far superior to trees, pruned or otherwi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80"/>
                </a:solidFill>
                <a:latin typeface="Arial Unicode MS"/>
              </a:rPr>
              <a:t>Also better (again, in this case) than the parametric model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E79-E0DE-4E8E-9A37-DCF0C58BBAC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ojec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want to build a tree classifier for the Type of car from the other variables (no good reason!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omit variables that have missing values and factors with large numbers of lev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use the R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 package for illustrative purpos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full cycle is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uild an initial tre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heck size by cross-valid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une to something sensi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9A7-1EC0-4246-A123-F5F0E38860F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nstruction and cross-valid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ibrary(tre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93.t1 &lt;- tree(Type ~ ., cars93, minsize = 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x11(width = 8, heigh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93.t1); text(cars93.t1, cex = 0.7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93.t1, FUN=prune.tree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8080"/>
                </a:solidFill>
                <a:latin typeface="Courier New"/>
              </a:rPr>
              <a:t># an alternative criter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93.t1, FUN=prune.miscla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C36D-3047-48A0-A717-344C8517B24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7854" r="0" b="11685"/>
          <a:stretch/>
        </p:blipFill>
        <p:spPr>
          <a:xfrm>
            <a:off x="0" y="836640"/>
            <a:ext cx="9144000" cy="55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7A0-6B62-4D63-9557-B6046D6725CF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5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A93-C163-417D-B2CF-94AE62E181E0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89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93.t1, FUN = prune.misclas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836640"/>
            <a:ext cx="7694640" cy="581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A85-E678-4CF3-B50E-9E3C7A99F44F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un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an us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nip.tre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to prune manuall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functio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une.tre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enacts optimal deviance pruning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functio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une.misclass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enacts optimal misclassification rate pruning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93.t2 &lt;- prune.misclass(cars93.t1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93.t2, type = "u"); text(cars93.t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93.t3 &lt;- prune.tree(cars93.t1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93.t3, type = "u"); text(cars93.t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oth methods lead to the same tree, here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FDB-14F5-411C-B9CA-751D80596C2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7854" r="0" b="11685"/>
          <a:stretch/>
        </p:blipFill>
        <p:spPr>
          <a:xfrm>
            <a:off x="324000" y="692280"/>
            <a:ext cx="8496000" cy="516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FFC-D63B-4873-9DDF-2F50269FB887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2:11Z</dcterms:modified>
  <cp:revision>15</cp:revision>
  <dc:subject/>
  <dc:title>S-PLUS, An Introduction to the System</dc:title>
</cp:coreProperties>
</file>