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986-F43C-43A7-871A-534EDCA4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19D8-D45E-4991-A8B1-1C5066C7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26FA-C374-4609-AA2A-97D3AC42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FB15-708B-4995-888E-18E1E9D8D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164-0B7A-470C-A847-5F3FB01B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535-3D42-47A7-92F2-F59A25E4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ACA-04A6-46D0-A82D-4CBEC171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965-E732-490B-B338-BE55340A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319-299C-4C9E-81B5-B3C75F91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B5E4-022A-48A5-90B9-32603552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68E7-3625-4A25-9127-CF5CFFE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16F-69E3-411E-8EDE-A4C313A4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543CC5-AB62-4E81-96A7-0E736507405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7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exten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468360" y="2752560"/>
          <a:ext cx="8280360" cy="35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52560"/>
                    <a:ext cx="8280360" cy="35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938160" y="372960"/>
            <a:ext cx="6490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v &lt;- fitted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s &lt;- resid(quine.nb7, type = "devia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v &lt;- predict(quine.nb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v, rs, xlab = "fitted values"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ylab = "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h = 0, lty = 4, lwd = 2, col =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norm(rs, ylab = "sorted deviance residual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qline(rs, col = 3, lwd = 2, lty =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62600" y="192240"/>
            <a:ext cx="2738160" cy="459720"/>
          </a:xfrm>
          <a:prstGeom prst="rect">
            <a:avLst/>
          </a:prstGeom>
          <a:noFill/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Diagnostic ch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9FE-1D97-4CCA-B5EC-B1C71409ED94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are led to the same model as with the transform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big advantage we have with this analysis is that it is on the original scale, so predictions would be direc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iagnostic analyses are still useful here, though they are less so with small count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ften the value for theta is not critical.  One alternative to this is to fit the models with a fixed value for theta as ordinary glm’s.  See nex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ED0-06E3-4AEB-BBC8-B85735CD99A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xing theta at a constant valu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glm1 &lt;- glm(Days ~ Eth * Sex * Lrn * Age, negative.binomial(theta = t0), data = quine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ep &lt;- stepAIC(quine.glm1, k = log(nrow(quine)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step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ays ~ Eth + Sex + Lrn + Age + Eth:Sex + Eth:Lrn + Sex:Lrn + Sex:Age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scaled dev.  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9901 201.5854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Age  3 219.6959 216.5812    20.99584 0.00010548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Sex:Lrn  1 211.5179 213.3381    13.75267 0.000208524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e are led to the same model.  This is a common occurrence if theta is a reasonable value to us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FEF-2F48-41D7-A567-86E91DD825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ultinomial models (V&amp;R, p. 199 ff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urrogate Poisson models offer a powerful way of analysing frequency data, even if the distribution is not Poisson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is possible because the multinomial distribution can be viewed as a conditional distribution of independent Poisson variables, given their su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multiply classified frequency data, it is important to separate “response” and “stimulus” classifications (which may change according to viewpoint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only one “response” classification, multinomial models may be fitted directly us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AC9-7964-4409-9158-523FBB7EF9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Copenhagen housing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ree ‘stimulus’ classifications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Contac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ne ‘response’ classificaltion: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ul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equal probabilities of 1/3 for each satisfaction clas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mplest real model is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Influence*Type*Contact+Satisfacti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which corresponds to a homogeneity mod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re complex models are tested by their interactions with </a:t>
            </a:r>
            <a:r>
              <a:rPr b="1" lang="en-GB" sz="2400" spc="-1" strike="noStrike">
                <a:solidFill>
                  <a:srgbClr val="000099"/>
                </a:solidFill>
                <a:latin typeface="Courier New"/>
              </a:rPr>
              <a:t>Satisfa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6C8-58E2-46BA-863B-49858C5EADD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mogeneity is not adequat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0 &lt;- glm(Freq ~ Infl*Type*Cont, poisson, housing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1 &lt;- update(hous.glm0, .~.+Sa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va(hous.glm0, hous.glm1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(Difference in deviance is 44.65689 on 2 d.f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ddterm(hous.glm1, . ~ . + Sat * (Infl + Type + Cont)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addi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Freq ~ Infl + Type + Cont + Sat + Infl:Type + Infl:Cont + Type:Cont + Infl:Type:Cont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Df Deviance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&lt;none&gt;    217.4560 269.4560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Infl  4 111.0846 171.0846 106.3714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Type  6 156.7872 220.7872  60.6687 0.000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at:Cont  2 212.3301 268.3301   5.1258 0.077080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12D-0CC5-4B28-8EF7-30D8240D023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Housing data, cont’d.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three terms are necessary, but no mo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ous.glm2 &lt;- update(hous.glm1, .~.+Sat*(Infl+Type+Cont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o find a table of estimated probabilities we need to arrange the fitted values in a table (matrix) and normalize to have row sums un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ow do we do thi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497-1AEF-44A5-9140-51E1E3BDD5C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4360" y="1052280"/>
            <a:ext cx="777240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vs &lt;- lapply(housing[, -5], level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lev &lt;- sapply(levs, length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d &lt;- do.call("cbind", lapply(housing[, -5], function(x) match(x, levels(x)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Pr &lt;- array(0, dim = dlev, dimnames = lev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[ind] &lt;- housing$Freq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ots &lt;- rep(apply(RF, 2:4, sum), each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 &lt;- RF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[ind] &lt;- fitted(hous.glm2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 &lt;- Pr/as.vector(tot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7A1D-006F-4399-A073-74BFF061A81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447840"/>
            <a:ext cx="7705800" cy="58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ED45-52E9-4462-BB1B-14A8E07F004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s a multinom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ultino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is set up to take either a factor or a matrix with k columns as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 our case we have frequencies already supplied.  These act as case weigh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ted values” from a multinomial fit are the matrix of probability estimates, with the columns corresponding to the response classes.  Hence in our case they will occur three times ov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t a multinomial model and check that the fitted values agree with our surrogate Poisson estimat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9CFB-DD96-4C37-AF2B-35D5F5A4E70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Negative Binomial distribu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ility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ean-variance relationshi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ftware: MASS library 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lm.nb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(can also be fitted by optimisation functions, e.g.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826920" y="2276640"/>
          <a:ext cx="7488360" cy="107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4883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547640" y="4005360"/>
          <a:ext cx="367200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005360"/>
                    <a:ext cx="367200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F597-73D1-44D3-AF8D-929B12DCE1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mult &lt;- multinom(Sat ~ Infl + Type + Cont, data = housing, weights = Freq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weights:  24 (14 variabl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 value 1846.76725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ter  10 value 1747.47761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 value 1735.04193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converg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ound(fitted(hous.mult)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Medium Hig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0.40   0.26 0.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0.26   0.27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1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72 0.27   0.26 0.4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1 &lt;- t(fitted(hous.mult)[seq(3, 72, 3),  ]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h1 - as.vector(Pr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3.763807e-006  3.948444e-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98C8-9AE3-4738-ADAC-F63B637D4E82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oportional odds models (V&amp;R p. 204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parametrically economic version of the multinomi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response classification is assumed </a:t>
            </a:r>
            <a:r>
              <a:rPr b="0" i="1" lang="en-GB" sz="2400" spc="-1" strike="noStrike">
                <a:solidFill>
                  <a:srgbClr val="000099"/>
                </a:solidFill>
                <a:latin typeface="Arial Unicode MS"/>
              </a:rPr>
              <a:t>ordered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odel may be specified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nce the cumulative probabilities conform to a logistic model, with parallelism in the logistic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SS library contains a function polr to fit such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16000" y="3068640"/>
          <a:ext cx="7128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68640"/>
                    <a:ext cx="7128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F69-5B10-4568-833F-48EB8322C67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 Prop. Odds model and check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 &lt;- polr(Sat ~ Infl+Type+Cont, data = housing, weights = Freq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lot(fitted(hous.polr), fitted(hous.mul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bline(0, 1, col=3, lty=4, lwd=1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 &lt;- stepAIC(hous.polr, ~.^2, k = log(24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us.polr2$call$formul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olr(formula = Sat ~ Infl + Type + Cont + </a:t>
            </a: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Infl:Type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data = housing, weights = Freq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With a more parsimonious model the automatic selection procedure uncovers a possible extra term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BE49-E131-4CB1-9910-557AE90DB8C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55640" y="476280"/>
          <a:ext cx="741672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4167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F3E-E4D5-4CB2-91CD-5577D7462534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nesi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mixture of Poissons (GLMM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pound Poiss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Quine data example: both geneses have some credibilit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55640" y="2349360"/>
          <a:ext cx="76327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349360"/>
                    <a:ext cx="7632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3789360"/>
          <a:ext cx="7632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789360"/>
                    <a:ext cx="7632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54D3-F0F8-43BD-9B36-FC17C6918F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Quine data again: an initial Poisson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po1 &lt;- glm(Days ~ .^4, poisson,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1373.24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1178.451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1173.905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1173.899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5: deviance = 1173.899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quine.po1, cor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all: glm(formula = Days ~ (Eth + Sex + Age + Lrn)^4, family = poisson, data = quine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Poisson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Null Deviance: 2073.533 on 145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esidual Deviance: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1173.899 on 118 degrees of freedom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9F9-944A-42CB-8F05-46EB3585E6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value for the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euristic: G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Y/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Use the fitted value from the Poisson fit as an estimate of µ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Var[G] = 1/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⇒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θ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≈ 1/Var[G]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Well, it’s worth a tr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 &lt;- 1/var(quine$Days/fitted(quine.po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Courier New"/>
              </a:rPr>
              <a:t>t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Courier New"/>
              </a:rPr>
              <a:t>[1] 1.966012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20A-190C-46B5-9F3D-369B629839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NB fit and tes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 &lt;- glm.nb(Days ~ Eth * Lrn * Age * Sex, data = quine, init.theta = t0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76.105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69.9369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5: deviance = 169.8431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67.45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heta( 1 ) = 1.92836 , 2(Ls - Lm) = 167.453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1$call$trace &lt;- F 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turn off tracing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1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ays ~ Eth * Lrn * Age * Sex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095.324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:Sex  2 1092.728 1.403843 0.495631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FDC-36D2-4514-AFF7-B70E338EB38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33"/>
                </a:solidFill>
                <a:latin typeface="Arial Unicode MS"/>
              </a:rPr>
              <a:t>Backwards elmination to a final model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2 &lt;- update(quine.nb1, . ~ . - Eth:Lrn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2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70.302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66.308 5.973579 0.05044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67.914 2.595925 0.107138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Age:Sex  3 1158.032 2.680925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44347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66.614 6.279241 0.04329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b3 &lt;- update(quine.nb2, . ~ . - Eth:Age:Se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b3, test = "Chisq", k = log(nrow(quine)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     AIC      LRT 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158.032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Age  2 1153.833 5.768399 0.0558995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Eth:Lrn:Sex  1 1158.087 5.038374 0.02479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rn:Age:Sex  2 1153.766 5.701942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0.0577881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F6F3-C14B-4453-8A46-EF6332FDAC4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404640"/>
            <a:ext cx="7772400" cy="583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4 &lt;- update(quine.nb3, . ~ . - Lrn:Age:Sex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4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53.766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8.505 19.68971 0.000196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Age  2 1148.119  4.32009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15320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4.271  5.48811 0.019146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5 &lt;- update(quine.nb4, . ~ . - Lrn:Age:E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5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8.119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8.559  5.39070 0.145324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rn:Age  2 1141.940  3.78782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504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54.312 21.14342 0.000098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52.251  9.11539 0.002534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ne.nb6 &lt;- update(quine.nb5, . ~ . - Lrn:Age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ropterm(quine.nb6, test = "Chisq", k = log(nrow(quine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     AIC      LRT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1141.940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Age  3 1132.796  5.80638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0.12141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ge:Sex  3 1145.429 18.43993 0.000356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Eth:Lrn:Sex  1 1145.395  8.43894 0.003672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781-5CEA-4F12-8BCF-D75F954BE052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nb7 &lt;- update(quine.nb6, . ~ . - Eth:Ag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dropterm(quine.nb7, test = "Chisq", k = log(nrow(quine)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ays ~ Eth + Lrn + Age + Sex + Eth:Lrn + Eth:Sex + Lrn:Sex + Age:Sex + Eth:Lrn:Sex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Df      AIC      LRT   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&lt;none&gt;    1132.796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ge:Sex  3 1136.464 18.61934 0.000327693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Eth:Lrn:Sex  1 1140.234 12.42160 0.000424396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check &lt;- glm.nb(Days ~ Sex/(Age + Eth * Lrn), quine); deviance(quine.nb7); deviance(quine.check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167.555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quine.nb7) - fitted(quine.check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0.00006764941  0.0000203768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919-1C77-47ED-95CD-090A0EE9079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21T03:27:35Z</dcterms:modified>
  <cp:revision>11</cp:revision>
  <dc:subject/>
  <dc:title>S-PLUS, An Introduction to the System</dc:title>
</cp:coreProperties>
</file>