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522C-733D-4E4C-8349-0A9554A4E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60F-A50B-4965-A198-C6F36F41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179F-0938-4354-A1CD-0DD6F714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DAC2-9652-4F88-A16B-710857AF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73F2-23B2-4A9F-AEB6-D269BDED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07FA-548E-4AE7-BCB1-4C5CCA9F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0168-CB21-4589-9A54-AE4F8FDC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8085-FFF0-432B-9F7B-D257E34F4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CAD-8E9A-4159-A1A9-05CD8CD4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9E84-0520-4864-8DE0-4311A5BD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3942-6763-49EE-9BB3-369278ED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6476-A165-4FEF-9E83-2657E4EC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6600"/>
                </a:solidFill>
                <a:latin typeface="Book Antiqu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4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B897A2-5491-45B5-9B27-BC330C6CAE01}" type="slidenum">
              <a:rPr b="1" lang="en-GB" sz="1400" spc="-1" strike="noStrike">
                <a:solidFill>
                  <a:srgbClr val="0066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aditional and Modern Approaches to Modelling with R: An Advanced Cour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6400800" cy="14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Bill Venables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SIRO, Cleveland, Australia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2007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lotting the resul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ith(Janka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g &lt;- range(Hardness, p1, p2, p3, na.rm = 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Density, Hardness, ylim = rg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p1, col="red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p2, col="blue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p3, col="green4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egend(0, 3000, paste("p", 1:3, sep="")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ty = 1, col = c("red", "blue", "green4"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ty = "n"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)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FA6F-E63C-43D5-A054-2FD51444E0E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7C5-523F-41F2-BBD9-2A5CD3DD0727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stability of coefficien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x &lt;- c(mean(janka$Hard), coef(jank.1)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ef(jank.2), coef(jank.3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 &lt;- matrix(0, 4, 4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[!lower.tri(w)] &lt;- x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imnames(w) &lt;- list(paste("Degree", 0:3),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ste("Model", 0:3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ound(t(w), 5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                      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Degree 0 Degree 1 Degree 2 Degree 3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0  1469.4722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1 -1160.4997 57.50667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2  -118.0074  9.43402  0.50908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urier New"/>
              </a:rPr>
              <a:t>Model 3  -641.4379 46.86373 -0.33117  0.00596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CF5-C689-49F2-A4FB-24107EE17F9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he effect of center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a$d &lt;- scale(janka$Density, scale=F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.1a &lt;- lm(Hardness ~ d, janka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.2a &lt;- update(jank.1a, .~.+I(d^2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jank.3a &lt;- update(jank.2a, .~.+I(d^3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ange(fitted(jank.3a) - fitted(jank.3)) 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# check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Courier New"/>
              </a:rPr>
              <a:t>[1] -4.547474e-13  4.547474e-13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x &lt;- c(mean(janka$Hard), coef(jank.1a), coef(jank.2a),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oef(jank.3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[!lower.tri(w)] &lt;- x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ound(t(w), 5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 Unicode MS"/>
              </a:rPr>
              <a:t>                 </a:t>
            </a: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Degree 0 Degree 1 Degree 2 Degree 3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0 1469.472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0.00000  0.00000  0.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1 1469.472 57.50667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0.00000  0.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2 1378.197 55.99764  0.50908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0.00000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Courier New"/>
              </a:rPr>
              <a:t>Model 3 1379.103 53.96095  0.48636  0.00596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6B5-F090-46EA-9283-597DBD0C41C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Diagnostic plot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janka &lt;- transform(janka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FittedValue = fitted(jank.2)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Residual = resid(jank.2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g1 &lt;- xyplot(Residual ~ FittedValue, janka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xyplot(x, y, col = "blue"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abline(h = 0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lty = "dashed", col = "red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, las = 0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g2 &lt;- qqmath(~Residual, janka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 = function(x, y, ...)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qqmath(x, ...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anel.qqmathline(x, x, distribution = qnorm,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col = "red", lty = "solid"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}, las = 0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rint(g1, position = c(0, 0.45, 0.55, 1), more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print(g2, position = c(0.45, 0, 1, 0.55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E154-46BE-4CD7-ACB9-34D95D5114E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62B0-DA11-4C56-86CC-F1C33A1D920A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Transform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A transformation may be needed to stabilize the variance.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This will also have an effect on the mean and may tend to linearise it as well.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ibrary(MASS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r(mfrow = c(2,2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xcox(jank.1, lambda = seq(0, 0.75, len=10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itle(main = "Linear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1t &lt;- update(jank.1, sqrt(.) ~ .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lot(fitted(jank.1t), resid(jank.1t), main = "Linear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line(h = 0, lty="dashed", col="blue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xcox(jank.2, lambda = seq(-0.25, 0.6, len=10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itle(main = "Quadratic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2t &lt;- update(jank.2, log(.) ~ .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lot(fitted(jank.2t), resid(jank.2t), main = "Quadratic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line(h = 0, lty="dashed", col="blue"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CE46-F1F1-4AC1-A194-605930F1C2F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B30E-D2B1-49E7-B6D0-182DD3DC26B8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Messages so far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square-root transformation provides a straight-line relationship, but does not quite make the variance stab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~log transformation stabilizes the variance, but still requires a quadratic model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stable variance is much more important than a straight-line relationship, but can we have both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natural model to consider is a generalized linear model with constant coefficient of variation and square-root link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se suggest a gamma model.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1838-BF9A-44F4-966A-C8758A67CE5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s from the transformed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anka2 &lt;- with(janka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.frame(Density =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q(min(Density), max(Density), len=200)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jank.2t &lt;- predict(jank.2t, new = janka2, se=T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au &lt;- qt(0.975, 36 - 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anka2 &lt;- with(pjank.2t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ansform(janka2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an = fit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 = fit - tau*se.fit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p = fit + tau*se.fit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bias.corr &lt;- 0.5*sum(resid(jank.2t)^2)/pjank.2t$df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79DF-5A51-47C2-8533-B96BF5D2EEF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ession 01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 and Modelling overview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s, cont’d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janka2 &lt;- transform(janka2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Hardness = exp(mean + bias.corr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pper = exp(up + bias.corr),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wer = exp(lo + bias.corr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g &lt;- with(janka2,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ange(Hardness, lower, upper, janka$Hardne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ith(janka2, {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ar(mfrow=c(1,1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lot(Density, Hardness, type = "l", ylim = rg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upper, lty=4, col=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ines(Density, lower, lty=4, col=3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ith(janka, points(Density, Hardness)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A739-84E6-4FCE-AD0D-99E82C00A4C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3ECA-146C-43CE-966C-623BA90085CB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 quasi-likelihood GL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83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jank.glm &lt;- glm(Hardness ~ Density, family =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asi(link = sqrt, variance = "mu^2"), janka, trace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335429 Iterations - 1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287643 Iterations - 2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287642 Iterations - 3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ourier New"/>
              </a:rPr>
              <a:t>Deviance = 0.3287642 Iterations - 4</a:t>
            </a:r>
            <a:r>
              <a:rPr b="1" lang="fr-FR" sz="12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jank.glm &lt;- predict(jank.glm, newdata = janka2, se.fit = T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janka3 &lt;- with(pjank.glm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transform(janka2, Hardness = fit^2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lower = (fit - 2*se.fit)^2,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AU" sz="1400" spc="-1" strike="noStrike">
                <a:solidFill>
                  <a:srgbClr val="000000"/>
                </a:solidFill>
                <a:latin typeface="Courier New"/>
              </a:rPr>
              <a:t>upper = (fit+2*se.fit)^2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rg &lt;- with(janka3, range(lower, upper, janka$Hardness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ar(mfrow=c(1,1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ith(janka3, {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lot(Density, Hardness, type = "l", ylim = rg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nes(Density, upper, lty=4, col=3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lines(Density, lower, lty=4, col=3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with(janka, points(Density, Hardness))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3722-7A39-4F11-81B0-69053667CDE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5950-8545-456E-96FD-9A144D607213}" type="slidenum">
              <a:t>2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Predictions from the untransformed model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jank.2 &lt;- predict(jank.2, new = janka2, se=T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au &lt;- qt(0.975, 36 - 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janka2 &lt;- with(pjank.2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ransform(janka2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ardness = fit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pper = fit + tau*se.fit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wer = fit-tau*se.fit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rg &lt;- with(janka2, range(lower, upper, janka$Hard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ith(janka2, {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ar(mfrow=c(1,1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lot(Density, Hardness, type = "l", ylim = rg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nes(Density, upper, lty=4, col=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ines(Density, lower, lty=4, col=3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ith(janka, points(Density, Hardness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E93D-1528-4F4E-A8B2-0D57C93BBA7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90600" y="14760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FD4F-A2FA-4D3D-99F9-E41DADB2F553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284720" y="450864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27280" y="306864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84720" y="306864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34136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92720" y="4005000"/>
            <a:ext cx="79200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3564000" y="3933360"/>
            <a:ext cx="72072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59280" y="2276640"/>
            <a:ext cx="0" cy="72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1835280" y="2276280"/>
            <a:ext cx="792000" cy="86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716360" y="3429000"/>
            <a:ext cx="0" cy="100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516720" y="2349360"/>
            <a:ext cx="0" cy="64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1197000"/>
            <a:ext cx="91440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1125360"/>
            <a:ext cx="91440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1640" y="2349360"/>
            <a:ext cx="914400" cy="914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04160" y="4781520"/>
            <a:ext cx="26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Linear models (L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3284640"/>
            <a:ext cx="88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1200" y="158112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26120" y="148428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L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0040" y="26226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L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0840" y="328464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N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00400" y="1401840"/>
            <a:ext cx="112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NLM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/>
          <p:nvPr/>
        </p:nvCxnSpPr>
        <p:spPr>
          <a:xfrm flipV="1">
            <a:off x="1908000" y="1699920"/>
            <a:ext cx="648360" cy="46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sm" type="triangle" w="sm"/>
            <a:tailEnd len="sm" type="triangle" w="sm"/>
          </a:ln>
        </p:spPr>
      </p:cxnSp>
      <p:sp>
        <p:nvSpPr>
          <p:cNvPr id="112" name=""/>
          <p:cNvSpPr/>
          <p:nvPr/>
        </p:nvSpPr>
        <p:spPr>
          <a:xfrm>
            <a:off x="452160" y="409680"/>
            <a:ext cx="71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Generalizations of Traditional Linear Models: a Road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4581360"/>
            <a:ext cx="914400" cy="91440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Palatino Linotype"/>
              </a:rPr>
              <a:t>ML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987640" y="501336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718-D367-43EB-BC17-77A2063DCB36}" type="slidenum">
              <a:t>2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Explanation of acronym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Acronym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S funct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Linear Model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L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lm, aov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Multivariate LMs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MLM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66ffff"/>
                </a:solidFill>
                <a:latin typeface="Arial Unicode MS"/>
              </a:rPr>
              <a:t>manov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eneralized LM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L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lm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inear Mixed Model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M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me, lmer, aov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Non-linear Model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NL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nl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linear Mixed Model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LM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lm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eneralized LMMs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GLMM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glmmPQL, lmer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eneralized Additive Ms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AM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cc99"/>
                </a:solidFill>
                <a:latin typeface="Arial Unicode MS"/>
              </a:rPr>
              <a:t>gam (mgcv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4974-FC53-40ED-A683-4EB8F6DF29A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tatistical modelling: a standpoint and overview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ypical modelling situat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sponse variable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Predictor variables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3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, …, x</a:t>
            </a:r>
            <a:r>
              <a:rPr b="0" i="1" lang="en-GB" sz="2400" spc="-1" strike="noStrike" baseline="-25000">
                <a:solidFill>
                  <a:srgbClr val="00009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Unavoidable random variation: </a:t>
            </a:r>
            <a:r>
              <a:rPr b="0" i="1" lang="en-GB" sz="2400" spc="-1" strike="noStrike">
                <a:solidFill>
                  <a:srgbClr val="000099"/>
                </a:solidFill>
                <a:latin typeface="Times New Roman"/>
              </a:rPr>
              <a:t>Z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~ N(0,1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conceptual model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Let </a:t>
            </a:r>
            <a:r>
              <a:rPr b="1" lang="en-GB" sz="2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GB" sz="2800" spc="-1" strike="noStrike" baseline="-25000">
                <a:solidFill>
                  <a:srgbClr val="000099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 be some point in the range of the data near which we would like to approximate the function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ssuming smoothness, we may do so by the first few terms in a power series expan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124000" y="3933720"/>
          <a:ext cx="5184720" cy="49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3933720"/>
                    <a:ext cx="5184720" cy="4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2384-3A11-4E3C-A8E8-1BA1CFD7939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Local approxim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First order approximation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cond order approximation</a:t>
            </a:r>
            <a:r>
              <a:rPr b="0" lang="en-GB" sz="2000" spc="-1" strike="noStrike">
                <a:solidFill>
                  <a:srgbClr val="000099"/>
                </a:solidFill>
                <a:latin typeface="Arial Unicode MS"/>
              </a:rPr>
              <a:t>: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03280" y="2349360"/>
          <a:ext cx="5616720" cy="10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349360"/>
                    <a:ext cx="561672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971640" y="4076640"/>
          <a:ext cx="7559640" cy="17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4076640"/>
                    <a:ext cx="755964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98D2-776F-4AD5-B377-691BEC992D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peculative conclus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Regression models usually have an empirical justification as a local approximation to the response curve or surfac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8520" indent="-30852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They may only be useful in a close range about the observed data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8520" indent="-30852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Extending the range of usefulness for the approximation may require some allowance f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Second (or higher) degree curvature term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Interactions between variab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Non-normality of the error structure (skewness/kurtosi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68520" indent="-2570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 Unicode MS"/>
              </a:rPr>
              <a:t>A great deal more data than is available!?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1C13-E3A6-41BC-AE89-38B65B351F0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An Example: Janka hardness data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99"/>
                </a:solidFill>
                <a:latin typeface="Arial Unicode MS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Density Hardness          Density Hardness 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    24.7      484       19    42.9     127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2    24.8      427       20    45.8     11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3    27.3      413       21    46.9     14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4    28.4      517       22    48.2     176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5    28.4      549       23    51.5     171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6    29.0      648       24    51.5     201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7    30.3      587       25    53.4     18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8    32.7      704       26    56.0     19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9    35.6      979       27    56.5     182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0    38.5      914       28    57.3     202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1    38.8     1070       29    57.6     198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2    39.3     1020       30    59.2     231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3    39.4     1210       31    59.8     194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4    39.9      989       32    66.0     326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5    40.3     1160       33    67.4     270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6    40.6     1010       34    68.8     289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7    40.7     1100       35    69.1     2740</a:t>
            </a:r>
            <a:endParaRPr b="0" lang="en-US" sz="1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18    40.7     1130       36    69.1     3140</a:t>
            </a:r>
            <a:r>
              <a:rPr b="0" lang="en-GB" sz="1200" spc="-1" strike="noStrike">
                <a:solidFill>
                  <a:srgbClr val="000099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with(janka, plot(Density, Hardness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xlim = range(0, Density), ylim = range(0, Hardness),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las=0))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4BA2-A221-4CD1-B776-674556A4D94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0600" y="0"/>
            <a:ext cx="6562800" cy="6562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5218-78CF-4BB8-ABA3-2F7A5C2A4B2B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33"/>
                </a:solidFill>
                <a:latin typeface="Arial Unicode MS"/>
              </a:rPr>
              <a:t>Some initial exploration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1 &lt;- lm(Hardness ~ Density, janka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2 &lt;- update(jank.1, .~.+I(Density^2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.3 &lt;- update(jank.2, .~.+I(Density^3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a &lt;- rbind(janka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ata.frame(Density = seq(0, 70, length=200),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Hardness = N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a &lt;- Janka[order(Janka$Density), ]  </a:t>
            </a:r>
            <a:r>
              <a:rPr b="1" lang="en-GB" sz="1600" spc="-1" strike="noStrike">
                <a:solidFill>
                  <a:srgbClr val="ff0000"/>
                </a:solidFill>
                <a:latin typeface="Courier New"/>
              </a:rPr>
              <a:t># ordered densities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nka &lt;- transform(Janka,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1 = predict(jank.1, Janka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2 = predict(jank.2, Janka),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3 = predict(jank.3, Janka))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2A1-53C4-4236-9F09-0ABDE855E3D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0"/>
          <a:ext cx="7956720" cy="614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95672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5E72-63DB-4F3A-BDA0-19E456D5DB1A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,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3:19:39Z</dcterms:created>
  <dc:creator>Venables</dc:creator>
  <dc:description/>
  <dc:language>en-US</dc:language>
  <cp:lastModifiedBy>Venables, Bill (CMIS, Cleveland)</cp:lastModifiedBy>
  <dcterms:modified xsi:type="dcterms:W3CDTF">2007-08-06T23:50:50Z</dcterms:modified>
  <cp:revision>28</cp:revision>
  <dc:subject/>
  <dc:title>S-PLUS, An Introduction to the System</dc:title>
</cp:coreProperties>
</file>